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6A4-EADA-4A32-B355-6C719102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EC0-BEE4-4822-8882-6B573D3D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AC5-9FE5-4F70-AEE4-ACEABE7A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A8D-E3F1-431B-BB5A-1DFBB254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800-3ECC-456B-AB98-C626DC18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4DE-1F15-4E7B-946B-5430500B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DCD-5C10-4458-86B2-4B567644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1F6-A988-4C5E-8E20-815F7537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FFF-F270-492C-B088-D919E5E2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206-068B-4C21-9918-17962F03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9C5-928C-4385-BE5E-4245C014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D56-36A4-4423-84A7-FBE0FBC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5386-E34B-4F4F-BB19-D1648ACCE8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dnesday,  November 4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olve a right triangl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(C is the right angle)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 = 21 and c = 31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g 361 #1-7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750960" y="1152360"/>
            <a:ext cx="1044360" cy="722520"/>
          </a:xfrm>
          <a:custGeom>
            <a:avLst/>
            <a:gdLst/>
            <a:ahLst/>
            <a:rect l="l" t="t" r="r" b="b"/>
            <a:pathLst>
              <a:path w="2903" h="2010">
                <a:moveTo>
                  <a:pt x="2084" y="5110"/>
                </a:moveTo>
                <a:cubicBezTo>
                  <a:pt x="2141" y="5081"/>
                  <a:pt x="2208" y="5051"/>
                  <a:pt x="2257" y="5011"/>
                </a:cubicBezTo>
                <a:cubicBezTo>
                  <a:pt x="2353" y="4932"/>
                  <a:pt x="2459" y="4865"/>
                  <a:pt x="2555" y="4787"/>
                </a:cubicBezTo>
                <a:cubicBezTo>
                  <a:pt x="2643" y="4715"/>
                  <a:pt x="2753" y="4681"/>
                  <a:pt x="2853" y="4614"/>
                </a:cubicBezTo>
                <a:cubicBezTo>
                  <a:pt x="2932" y="4561"/>
                  <a:pt x="2991" y="4508"/>
                  <a:pt x="3076" y="4465"/>
                </a:cubicBezTo>
                <a:cubicBezTo>
                  <a:pt x="3140" y="4433"/>
                  <a:pt x="3123" y="4419"/>
                  <a:pt x="3150" y="4366"/>
                </a:cubicBezTo>
              </a:path>
              <a:path w="2903" h="2010">
                <a:moveTo>
                  <a:pt x="2208" y="4911"/>
                </a:moveTo>
                <a:cubicBezTo>
                  <a:pt x="2185" y="4996"/>
                  <a:pt x="2155" y="5073"/>
                  <a:pt x="2133" y="5159"/>
                </a:cubicBezTo>
                <a:cubicBezTo>
                  <a:pt x="2133" y="5187"/>
                  <a:pt x="2131" y="5198"/>
                  <a:pt x="2108" y="5209"/>
                </a:cubicBezTo>
                <a:cubicBezTo>
                  <a:pt x="2199" y="5209"/>
                  <a:pt x="2307" y="5229"/>
                  <a:pt x="2381" y="5184"/>
                </a:cubicBezTo>
              </a:path>
              <a:path w="2903" h="2010">
                <a:moveTo>
                  <a:pt x="3200" y="3994"/>
                </a:moveTo>
                <a:cubicBezTo>
                  <a:pt x="3200" y="4076"/>
                  <a:pt x="3179" y="4136"/>
                  <a:pt x="3175" y="4217"/>
                </a:cubicBezTo>
                <a:cubicBezTo>
                  <a:pt x="3171" y="4292"/>
                  <a:pt x="3174" y="4315"/>
                  <a:pt x="3225" y="4366"/>
                </a:cubicBezTo>
                <a:cubicBezTo>
                  <a:pt x="3271" y="4412"/>
                  <a:pt x="3292" y="4436"/>
                  <a:pt x="3349" y="4390"/>
                </a:cubicBezTo>
                <a:cubicBezTo>
                  <a:pt x="3379" y="4366"/>
                  <a:pt x="3461" y="4333"/>
                  <a:pt x="3473" y="4291"/>
                </a:cubicBezTo>
                <a:cubicBezTo>
                  <a:pt x="3489" y="4234"/>
                  <a:pt x="3481" y="4121"/>
                  <a:pt x="3398" y="4142"/>
                </a:cubicBezTo>
                <a:cubicBezTo>
                  <a:pt x="3327" y="4160"/>
                  <a:pt x="3352" y="4255"/>
                  <a:pt x="3373" y="4291"/>
                </a:cubicBezTo>
              </a:path>
              <a:path w="2903" h="2010">
                <a:moveTo>
                  <a:pt x="3820" y="3820"/>
                </a:moveTo>
                <a:cubicBezTo>
                  <a:pt x="3820" y="3803"/>
                  <a:pt x="3820" y="3787"/>
                  <a:pt x="3820" y="3770"/>
                </a:cubicBezTo>
                <a:cubicBezTo>
                  <a:pt x="3787" y="3803"/>
                  <a:pt x="3754" y="3837"/>
                  <a:pt x="3721" y="3870"/>
                </a:cubicBezTo>
                <a:cubicBezTo>
                  <a:pt x="3676" y="3915"/>
                  <a:pt x="3678" y="3960"/>
                  <a:pt x="3671" y="4018"/>
                </a:cubicBezTo>
                <a:cubicBezTo>
                  <a:pt x="3741" y="4038"/>
                  <a:pt x="3759" y="4024"/>
                  <a:pt x="3820" y="3969"/>
                </a:cubicBezTo>
                <a:cubicBezTo>
                  <a:pt x="3867" y="3927"/>
                  <a:pt x="3870" y="3732"/>
                  <a:pt x="3870" y="3795"/>
                </a:cubicBezTo>
                <a:cubicBezTo>
                  <a:pt x="3870" y="3907"/>
                  <a:pt x="3876" y="4020"/>
                  <a:pt x="3894" y="4118"/>
                </a:cubicBezTo>
                <a:cubicBezTo>
                  <a:pt x="3894" y="4159"/>
                  <a:pt x="3894" y="4167"/>
                  <a:pt x="3894" y="4192"/>
                </a:cubicBezTo>
              </a:path>
              <a:path w="2903" h="2010">
                <a:moveTo>
                  <a:pt x="4068" y="4118"/>
                </a:moveTo>
                <a:cubicBezTo>
                  <a:pt x="4076" y="4110"/>
                  <a:pt x="4085" y="4101"/>
                  <a:pt x="4093" y="4093"/>
                </a:cubicBezTo>
              </a:path>
              <a:path w="2903" h="2010">
                <a:moveTo>
                  <a:pt x="4118" y="3696"/>
                </a:moveTo>
                <a:cubicBezTo>
                  <a:pt x="4118" y="3746"/>
                  <a:pt x="4118" y="3762"/>
                  <a:pt x="4118" y="3795"/>
                </a:cubicBezTo>
                <a:cubicBezTo>
                  <a:pt x="4194" y="3795"/>
                  <a:pt x="4246" y="3796"/>
                  <a:pt x="4316" y="3770"/>
                </a:cubicBezTo>
              </a:path>
              <a:path w="2903" h="2010">
                <a:moveTo>
                  <a:pt x="4390" y="3497"/>
                </a:moveTo>
                <a:cubicBezTo>
                  <a:pt x="4380" y="3579"/>
                  <a:pt x="4345" y="3636"/>
                  <a:pt x="4341" y="3721"/>
                </a:cubicBezTo>
                <a:cubicBezTo>
                  <a:pt x="4337" y="3797"/>
                  <a:pt x="4327" y="3884"/>
                  <a:pt x="4366" y="3944"/>
                </a:cubicBezTo>
                <a:cubicBezTo>
                  <a:pt x="4412" y="4015"/>
                  <a:pt x="4386" y="4022"/>
                  <a:pt x="4440" y="3969"/>
                </a:cubicBezTo>
              </a:path>
              <a:path w="2903" h="2010">
                <a:moveTo>
                  <a:pt x="4490" y="3497"/>
                </a:moveTo>
                <a:cubicBezTo>
                  <a:pt x="4490" y="3555"/>
                  <a:pt x="4493" y="3576"/>
                  <a:pt x="4465" y="3621"/>
                </a:cubicBezTo>
                <a:cubicBezTo>
                  <a:pt x="4520" y="3677"/>
                  <a:pt x="4536" y="3702"/>
                  <a:pt x="4614" y="3671"/>
                </a:cubicBezTo>
                <a:cubicBezTo>
                  <a:pt x="4654" y="3651"/>
                  <a:pt x="4660" y="3642"/>
                  <a:pt x="4688" y="3646"/>
                </a:cubicBezTo>
              </a:path>
              <a:path w="2903" h="2010">
                <a:moveTo>
                  <a:pt x="4713" y="3349"/>
                </a:moveTo>
                <a:cubicBezTo>
                  <a:pt x="4713" y="3478"/>
                  <a:pt x="4682" y="3662"/>
                  <a:pt x="4738" y="3770"/>
                </a:cubicBezTo>
                <a:cubicBezTo>
                  <a:pt x="4760" y="3812"/>
                  <a:pt x="4766" y="3861"/>
                  <a:pt x="4787" y="3820"/>
                </a:cubicBezTo>
              </a:path>
              <a:path w="2903" h="2010">
                <a:moveTo>
                  <a:pt x="4837" y="3274"/>
                </a:moveTo>
                <a:cubicBezTo>
                  <a:pt x="4859" y="3328"/>
                  <a:pt x="4898" y="3325"/>
                  <a:pt x="4961" y="3274"/>
                </a:cubicBezTo>
                <a:cubicBezTo>
                  <a:pt x="5040" y="3210"/>
                  <a:pt x="4850" y="3203"/>
                  <a:pt x="4837" y="32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1098720" y="2313000"/>
            <a:ext cx="366480" cy="179280"/>
          </a:xfrm>
          <a:custGeom>
            <a:avLst/>
            <a:gdLst/>
            <a:ahLst/>
            <a:rect l="l" t="t" r="r" b="b"/>
            <a:pathLst>
              <a:path w="1018" h="498">
                <a:moveTo>
                  <a:pt x="3051" y="6623"/>
                </a:moveTo>
                <a:cubicBezTo>
                  <a:pt x="3085" y="6564"/>
                  <a:pt x="3120" y="6517"/>
                  <a:pt x="3200" y="6548"/>
                </a:cubicBezTo>
                <a:cubicBezTo>
                  <a:pt x="3249" y="6567"/>
                  <a:pt x="3214" y="6669"/>
                  <a:pt x="3200" y="6697"/>
                </a:cubicBezTo>
                <a:cubicBezTo>
                  <a:pt x="3179" y="6738"/>
                  <a:pt x="3151" y="6788"/>
                  <a:pt x="3125" y="6821"/>
                </a:cubicBezTo>
                <a:cubicBezTo>
                  <a:pt x="3097" y="6857"/>
                  <a:pt x="3050" y="6926"/>
                  <a:pt x="3101" y="6896"/>
                </a:cubicBezTo>
                <a:cubicBezTo>
                  <a:pt x="3162" y="6860"/>
                  <a:pt x="3249" y="6902"/>
                  <a:pt x="3299" y="6871"/>
                </a:cubicBezTo>
                <a:cubicBezTo>
                  <a:pt x="3299" y="6863"/>
                  <a:pt x="3299" y="6854"/>
                  <a:pt x="3299" y="6846"/>
                </a:cubicBezTo>
              </a:path>
              <a:path w="1018" h="498">
                <a:moveTo>
                  <a:pt x="3349" y="6524"/>
                </a:moveTo>
                <a:cubicBezTo>
                  <a:pt x="3312" y="6569"/>
                  <a:pt x="3268" y="6661"/>
                  <a:pt x="3274" y="6722"/>
                </a:cubicBezTo>
                <a:cubicBezTo>
                  <a:pt x="3278" y="6763"/>
                  <a:pt x="3344" y="6876"/>
                  <a:pt x="3398" y="6871"/>
                </a:cubicBezTo>
                <a:cubicBezTo>
                  <a:pt x="3447" y="6867"/>
                  <a:pt x="3490" y="6784"/>
                  <a:pt x="3497" y="6747"/>
                </a:cubicBezTo>
                <a:cubicBezTo>
                  <a:pt x="3507" y="6696"/>
                  <a:pt x="3469" y="6638"/>
                  <a:pt x="3448" y="6598"/>
                </a:cubicBezTo>
                <a:cubicBezTo>
                  <a:pt x="3423" y="6548"/>
                  <a:pt x="3415" y="6532"/>
                  <a:pt x="3373" y="6524"/>
                </a:cubicBezTo>
              </a:path>
              <a:path w="1018" h="498">
                <a:moveTo>
                  <a:pt x="3597" y="6796"/>
                </a:moveTo>
                <a:cubicBezTo>
                  <a:pt x="3621" y="6821"/>
                  <a:pt x="3629" y="6829"/>
                  <a:pt x="3597" y="6796"/>
                </a:cubicBezTo>
              </a:path>
              <a:path w="1018" h="498">
                <a:moveTo>
                  <a:pt x="3597" y="6524"/>
                </a:moveTo>
                <a:cubicBezTo>
                  <a:pt x="3655" y="6476"/>
                  <a:pt x="3711" y="6477"/>
                  <a:pt x="3770" y="6449"/>
                </a:cubicBezTo>
                <a:cubicBezTo>
                  <a:pt x="3793" y="6426"/>
                  <a:pt x="3797" y="6418"/>
                  <a:pt x="3820" y="6424"/>
                </a:cubicBezTo>
              </a:path>
              <a:path w="1018" h="498">
                <a:moveTo>
                  <a:pt x="3696" y="6474"/>
                </a:moveTo>
                <a:cubicBezTo>
                  <a:pt x="3675" y="6556"/>
                  <a:pt x="3667" y="6572"/>
                  <a:pt x="3671" y="6623"/>
                </a:cubicBezTo>
                <a:cubicBezTo>
                  <a:pt x="3722" y="6623"/>
                  <a:pt x="3825" y="6602"/>
                  <a:pt x="3845" y="6672"/>
                </a:cubicBezTo>
                <a:cubicBezTo>
                  <a:pt x="3862" y="6730"/>
                  <a:pt x="3845" y="6788"/>
                  <a:pt x="3795" y="6821"/>
                </a:cubicBezTo>
                <a:cubicBezTo>
                  <a:pt x="3732" y="6862"/>
                  <a:pt x="3676" y="6856"/>
                  <a:pt x="3646" y="6796"/>
                </a:cubicBezTo>
              </a:path>
              <a:path w="1018" h="498">
                <a:moveTo>
                  <a:pt x="3894" y="6474"/>
                </a:moveTo>
                <a:cubicBezTo>
                  <a:pt x="3884" y="6546"/>
                  <a:pt x="3870" y="6590"/>
                  <a:pt x="3870" y="6672"/>
                </a:cubicBezTo>
                <a:cubicBezTo>
                  <a:pt x="3870" y="6733"/>
                  <a:pt x="3943" y="6804"/>
                  <a:pt x="3994" y="6722"/>
                </a:cubicBezTo>
                <a:cubicBezTo>
                  <a:pt x="4048" y="6635"/>
                  <a:pt x="3949" y="6667"/>
                  <a:pt x="3919" y="6697"/>
                </a:cubicBezTo>
              </a:path>
              <a:path w="1018" h="498">
                <a:moveTo>
                  <a:pt x="4018" y="6449"/>
                </a:moveTo>
                <a:cubicBezTo>
                  <a:pt x="4032" y="6491"/>
                  <a:pt x="4065" y="6541"/>
                  <a:pt x="4043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561960" y="3081240"/>
            <a:ext cx="1287360" cy="436680"/>
          </a:xfrm>
          <a:custGeom>
            <a:avLst/>
            <a:gdLst/>
            <a:ahLst/>
            <a:rect l="l" t="t" r="r" b="b"/>
            <a:pathLst>
              <a:path w="3573" h="1216">
                <a:moveTo>
                  <a:pt x="2059" y="8756"/>
                </a:moveTo>
                <a:cubicBezTo>
                  <a:pt x="2095" y="8816"/>
                  <a:pt x="2084" y="8879"/>
                  <a:pt x="2084" y="8954"/>
                </a:cubicBezTo>
                <a:cubicBezTo>
                  <a:pt x="2084" y="9049"/>
                  <a:pt x="2059" y="9131"/>
                  <a:pt x="2059" y="9227"/>
                </a:cubicBezTo>
                <a:cubicBezTo>
                  <a:pt x="2059" y="9308"/>
                  <a:pt x="2034" y="9369"/>
                  <a:pt x="2034" y="9451"/>
                </a:cubicBezTo>
                <a:cubicBezTo>
                  <a:pt x="2034" y="9512"/>
                  <a:pt x="2062" y="9593"/>
                  <a:pt x="2009" y="9624"/>
                </a:cubicBezTo>
                <a:cubicBezTo>
                  <a:pt x="2001" y="9616"/>
                  <a:pt x="1992" y="9607"/>
                  <a:pt x="1984" y="9599"/>
                </a:cubicBezTo>
              </a:path>
              <a:path w="3573" h="1216">
                <a:moveTo>
                  <a:pt x="1563" y="8607"/>
                </a:moveTo>
                <a:cubicBezTo>
                  <a:pt x="1709" y="8575"/>
                  <a:pt x="1757" y="8573"/>
                  <a:pt x="1910" y="8582"/>
                </a:cubicBezTo>
                <a:cubicBezTo>
                  <a:pt x="2109" y="8593"/>
                  <a:pt x="2321" y="8570"/>
                  <a:pt x="2505" y="8607"/>
                </a:cubicBezTo>
                <a:cubicBezTo>
                  <a:pt x="2522" y="8607"/>
                  <a:pt x="2538" y="8607"/>
                  <a:pt x="2555" y="8607"/>
                </a:cubicBezTo>
              </a:path>
              <a:path w="3573" h="1216">
                <a:moveTo>
                  <a:pt x="2778" y="9475"/>
                </a:moveTo>
                <a:cubicBezTo>
                  <a:pt x="2758" y="9415"/>
                  <a:pt x="2719" y="9354"/>
                  <a:pt x="2704" y="9302"/>
                </a:cubicBezTo>
                <a:cubicBezTo>
                  <a:pt x="2693" y="9264"/>
                  <a:pt x="2685" y="9194"/>
                  <a:pt x="2629" y="9178"/>
                </a:cubicBezTo>
                <a:cubicBezTo>
                  <a:pt x="2548" y="9155"/>
                  <a:pt x="2494" y="9188"/>
                  <a:pt x="2456" y="9252"/>
                </a:cubicBezTo>
                <a:cubicBezTo>
                  <a:pt x="2416" y="9321"/>
                  <a:pt x="2385" y="9368"/>
                  <a:pt x="2381" y="9451"/>
                </a:cubicBezTo>
                <a:cubicBezTo>
                  <a:pt x="2378" y="9515"/>
                  <a:pt x="2414" y="9533"/>
                  <a:pt x="2456" y="9575"/>
                </a:cubicBezTo>
                <a:cubicBezTo>
                  <a:pt x="2496" y="9615"/>
                  <a:pt x="2541" y="9648"/>
                  <a:pt x="2604" y="9624"/>
                </a:cubicBezTo>
                <a:cubicBezTo>
                  <a:pt x="2643" y="9609"/>
                  <a:pt x="2690" y="9535"/>
                  <a:pt x="2704" y="9500"/>
                </a:cubicBezTo>
                <a:cubicBezTo>
                  <a:pt x="2729" y="9440"/>
                  <a:pt x="2725" y="9400"/>
                  <a:pt x="2753" y="9351"/>
                </a:cubicBezTo>
                <a:cubicBezTo>
                  <a:pt x="2753" y="9437"/>
                  <a:pt x="2757" y="9500"/>
                  <a:pt x="2803" y="9575"/>
                </a:cubicBezTo>
                <a:cubicBezTo>
                  <a:pt x="2830" y="9619"/>
                  <a:pt x="2854" y="9662"/>
                  <a:pt x="2902" y="9674"/>
                </a:cubicBezTo>
              </a:path>
              <a:path w="3573" h="1216">
                <a:moveTo>
                  <a:pt x="3076" y="9401"/>
                </a:moveTo>
                <a:cubicBezTo>
                  <a:pt x="3076" y="9487"/>
                  <a:pt x="3087" y="9577"/>
                  <a:pt x="3051" y="9649"/>
                </a:cubicBezTo>
                <a:cubicBezTo>
                  <a:pt x="3051" y="9582"/>
                  <a:pt x="3065" y="9529"/>
                  <a:pt x="3076" y="9475"/>
                </a:cubicBezTo>
                <a:cubicBezTo>
                  <a:pt x="3088" y="9417"/>
                  <a:pt x="3098" y="9383"/>
                  <a:pt x="3125" y="9327"/>
                </a:cubicBezTo>
                <a:cubicBezTo>
                  <a:pt x="3175" y="9334"/>
                  <a:pt x="3242" y="9350"/>
                  <a:pt x="3274" y="9401"/>
                </a:cubicBezTo>
                <a:cubicBezTo>
                  <a:pt x="3319" y="9472"/>
                  <a:pt x="3360" y="9568"/>
                  <a:pt x="3373" y="9649"/>
                </a:cubicBezTo>
                <a:cubicBezTo>
                  <a:pt x="3373" y="9690"/>
                  <a:pt x="3373" y="9698"/>
                  <a:pt x="3373" y="9723"/>
                </a:cubicBezTo>
              </a:path>
              <a:path w="3573" h="1216">
                <a:moveTo>
                  <a:pt x="3671" y="9376"/>
                </a:moveTo>
                <a:cubicBezTo>
                  <a:pt x="3654" y="9474"/>
                  <a:pt x="3626" y="9576"/>
                  <a:pt x="3621" y="9674"/>
                </a:cubicBezTo>
                <a:cubicBezTo>
                  <a:pt x="3621" y="9723"/>
                  <a:pt x="3621" y="9740"/>
                  <a:pt x="3621" y="9773"/>
                </a:cubicBezTo>
                <a:cubicBezTo>
                  <a:pt x="3631" y="9704"/>
                  <a:pt x="3652" y="9620"/>
                  <a:pt x="3671" y="9550"/>
                </a:cubicBezTo>
                <a:cubicBezTo>
                  <a:pt x="3694" y="9467"/>
                  <a:pt x="3751" y="9388"/>
                  <a:pt x="3770" y="9302"/>
                </a:cubicBezTo>
                <a:cubicBezTo>
                  <a:pt x="3795" y="9189"/>
                  <a:pt x="3827" y="9064"/>
                  <a:pt x="3845" y="8954"/>
                </a:cubicBezTo>
                <a:cubicBezTo>
                  <a:pt x="3856" y="8884"/>
                  <a:pt x="3870" y="8823"/>
                  <a:pt x="3894" y="8756"/>
                </a:cubicBezTo>
                <a:cubicBezTo>
                  <a:pt x="3985" y="8779"/>
                  <a:pt x="3995" y="8797"/>
                  <a:pt x="4018" y="8880"/>
                </a:cubicBezTo>
                <a:cubicBezTo>
                  <a:pt x="4042" y="8966"/>
                  <a:pt x="4087" y="9045"/>
                  <a:pt x="4118" y="9128"/>
                </a:cubicBezTo>
                <a:cubicBezTo>
                  <a:pt x="4152" y="9219"/>
                  <a:pt x="4179" y="9312"/>
                  <a:pt x="4217" y="9401"/>
                </a:cubicBezTo>
                <a:cubicBezTo>
                  <a:pt x="4255" y="9490"/>
                  <a:pt x="4323" y="9561"/>
                  <a:pt x="4366" y="9649"/>
                </a:cubicBezTo>
                <a:cubicBezTo>
                  <a:pt x="4389" y="9695"/>
                  <a:pt x="4405" y="9713"/>
                  <a:pt x="4440" y="9748"/>
                </a:cubicBezTo>
              </a:path>
              <a:path w="3573" h="1216">
                <a:moveTo>
                  <a:pt x="3845" y="9376"/>
                </a:moveTo>
                <a:cubicBezTo>
                  <a:pt x="3928" y="9361"/>
                  <a:pt x="4054" y="9330"/>
                  <a:pt x="4142" y="9351"/>
                </a:cubicBezTo>
                <a:cubicBezTo>
                  <a:pt x="4240" y="9374"/>
                  <a:pt x="4337" y="9376"/>
                  <a:pt x="4440" y="9376"/>
                </a:cubicBezTo>
              </a:path>
              <a:path w="3573" h="1216">
                <a:moveTo>
                  <a:pt x="4638" y="9376"/>
                </a:moveTo>
                <a:cubicBezTo>
                  <a:pt x="4698" y="9340"/>
                  <a:pt x="4762" y="9351"/>
                  <a:pt x="4837" y="9351"/>
                </a:cubicBezTo>
                <a:cubicBezTo>
                  <a:pt x="4887" y="9351"/>
                  <a:pt x="4903" y="9351"/>
                  <a:pt x="4936" y="9351"/>
                </a:cubicBezTo>
              </a:path>
              <a:path w="3573" h="1216">
                <a:moveTo>
                  <a:pt x="4787" y="9550"/>
                </a:moveTo>
                <a:cubicBezTo>
                  <a:pt x="4892" y="9550"/>
                  <a:pt x="4964" y="9570"/>
                  <a:pt x="5060" y="9575"/>
                </a:cubicBezTo>
                <a:cubicBezTo>
                  <a:pt x="5105" y="9575"/>
                  <a:pt x="5118" y="9578"/>
                  <a:pt x="5135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2062080" y="3160800"/>
            <a:ext cx="519120" cy="411120"/>
          </a:xfrm>
          <a:custGeom>
            <a:avLst/>
            <a:gdLst/>
            <a:ahLst/>
            <a:rect l="l" t="t" r="r" b="b"/>
            <a:pathLst>
              <a:path w="1440" h="1142">
                <a:moveTo>
                  <a:pt x="5730" y="8806"/>
                </a:moveTo>
                <a:cubicBezTo>
                  <a:pt x="5730" y="8905"/>
                  <a:pt x="5700" y="9129"/>
                  <a:pt x="5755" y="9227"/>
                </a:cubicBezTo>
                <a:cubicBezTo>
                  <a:pt x="5783" y="9277"/>
                  <a:pt x="5827" y="9300"/>
                  <a:pt x="5879" y="9302"/>
                </a:cubicBezTo>
                <a:cubicBezTo>
                  <a:pt x="5991" y="9306"/>
                  <a:pt x="5985" y="9294"/>
                  <a:pt x="6052" y="9227"/>
                </a:cubicBezTo>
                <a:cubicBezTo>
                  <a:pt x="6081" y="9199"/>
                  <a:pt x="6089" y="9186"/>
                  <a:pt x="6077" y="9153"/>
                </a:cubicBezTo>
                <a:cubicBezTo>
                  <a:pt x="6032" y="9140"/>
                  <a:pt x="5967" y="9127"/>
                  <a:pt x="5928" y="9178"/>
                </a:cubicBezTo>
                <a:cubicBezTo>
                  <a:pt x="5886" y="9233"/>
                  <a:pt x="5899" y="9301"/>
                  <a:pt x="5928" y="9351"/>
                </a:cubicBezTo>
              </a:path>
              <a:path w="1440" h="1142">
                <a:moveTo>
                  <a:pt x="6449" y="8781"/>
                </a:moveTo>
                <a:cubicBezTo>
                  <a:pt x="6440" y="8856"/>
                  <a:pt x="6413" y="8891"/>
                  <a:pt x="6375" y="8954"/>
                </a:cubicBezTo>
                <a:cubicBezTo>
                  <a:pt x="6322" y="9043"/>
                  <a:pt x="6286" y="9155"/>
                  <a:pt x="6251" y="9252"/>
                </a:cubicBezTo>
                <a:cubicBezTo>
                  <a:pt x="6219" y="9341"/>
                  <a:pt x="6166" y="9410"/>
                  <a:pt x="6127" y="9500"/>
                </a:cubicBezTo>
                <a:cubicBezTo>
                  <a:pt x="6096" y="9571"/>
                  <a:pt x="6021" y="9654"/>
                  <a:pt x="6003" y="9723"/>
                </a:cubicBezTo>
                <a:cubicBezTo>
                  <a:pt x="5991" y="9768"/>
                  <a:pt x="5959" y="9846"/>
                  <a:pt x="5978" y="9897"/>
                </a:cubicBezTo>
                <a:cubicBezTo>
                  <a:pt x="6000" y="9953"/>
                  <a:pt x="6013" y="9895"/>
                  <a:pt x="5978" y="9872"/>
                </a:cubicBezTo>
              </a:path>
              <a:path w="1440" h="1142">
                <a:moveTo>
                  <a:pt x="6524" y="9401"/>
                </a:moveTo>
                <a:cubicBezTo>
                  <a:pt x="6500" y="9489"/>
                  <a:pt x="6499" y="9557"/>
                  <a:pt x="6499" y="9649"/>
                </a:cubicBezTo>
                <a:cubicBezTo>
                  <a:pt x="6499" y="9704"/>
                  <a:pt x="6505" y="9820"/>
                  <a:pt x="6524" y="9872"/>
                </a:cubicBezTo>
                <a:cubicBezTo>
                  <a:pt x="6552" y="9901"/>
                  <a:pt x="6560" y="9904"/>
                  <a:pt x="6548" y="9847"/>
                </a:cubicBezTo>
              </a:path>
              <a:path w="1440" h="1142">
                <a:moveTo>
                  <a:pt x="6697" y="9327"/>
                </a:moveTo>
                <a:cubicBezTo>
                  <a:pt x="6697" y="9439"/>
                  <a:pt x="6676" y="9571"/>
                  <a:pt x="6722" y="9674"/>
                </a:cubicBezTo>
                <a:cubicBezTo>
                  <a:pt x="6747" y="9729"/>
                  <a:pt x="6790" y="9772"/>
                  <a:pt x="6821" y="9823"/>
                </a:cubicBezTo>
                <a:cubicBezTo>
                  <a:pt x="6869" y="9902"/>
                  <a:pt x="6898" y="9917"/>
                  <a:pt x="6995" y="9922"/>
                </a:cubicBezTo>
                <a:cubicBezTo>
                  <a:pt x="7105" y="9928"/>
                  <a:pt x="7147" y="9873"/>
                  <a:pt x="7169" y="9773"/>
                </a:cubicBezTo>
                <a:cubicBezTo>
                  <a:pt x="7177" y="9734"/>
                  <a:pt x="7137" y="9661"/>
                  <a:pt x="7094" y="9649"/>
                </a:cubicBezTo>
                <a:cubicBezTo>
                  <a:pt x="7057" y="9638"/>
                  <a:pt x="6981" y="9683"/>
                  <a:pt x="6970" y="9723"/>
                </a:cubicBezTo>
                <a:cubicBezTo>
                  <a:pt x="6953" y="9781"/>
                  <a:pt x="6945" y="9831"/>
                  <a:pt x="6945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1204920" y="3697200"/>
            <a:ext cx="2009880" cy="652680"/>
          </a:xfrm>
          <a:custGeom>
            <a:avLst/>
            <a:gdLst/>
            <a:ahLst/>
            <a:rect l="l" t="t" r="r" b="b"/>
            <a:pathLst>
              <a:path w="5582" h="1812">
                <a:moveTo>
                  <a:pt x="3398" y="10964"/>
                </a:moveTo>
                <a:cubicBezTo>
                  <a:pt x="3375" y="11053"/>
                  <a:pt x="3353" y="11145"/>
                  <a:pt x="3349" y="11237"/>
                </a:cubicBezTo>
                <a:cubicBezTo>
                  <a:pt x="3349" y="11303"/>
                  <a:pt x="3349" y="11320"/>
                  <a:pt x="3349" y="11361"/>
                </a:cubicBezTo>
                <a:cubicBezTo>
                  <a:pt x="3372" y="11275"/>
                  <a:pt x="3395" y="11200"/>
                  <a:pt x="3398" y="11112"/>
                </a:cubicBezTo>
                <a:cubicBezTo>
                  <a:pt x="3402" y="11009"/>
                  <a:pt x="3407" y="10893"/>
                  <a:pt x="3423" y="10790"/>
                </a:cubicBezTo>
                <a:cubicBezTo>
                  <a:pt x="3438" y="10694"/>
                  <a:pt x="3442" y="10557"/>
                  <a:pt x="3473" y="10468"/>
                </a:cubicBezTo>
                <a:cubicBezTo>
                  <a:pt x="3489" y="10421"/>
                  <a:pt x="3501" y="10340"/>
                  <a:pt x="3522" y="10294"/>
                </a:cubicBezTo>
                <a:cubicBezTo>
                  <a:pt x="3530" y="10286"/>
                  <a:pt x="3539" y="10277"/>
                  <a:pt x="3547" y="10269"/>
                </a:cubicBezTo>
                <a:cubicBezTo>
                  <a:pt x="3587" y="10328"/>
                  <a:pt x="3607" y="10406"/>
                  <a:pt x="3621" y="10468"/>
                </a:cubicBezTo>
                <a:cubicBezTo>
                  <a:pt x="3652" y="10608"/>
                  <a:pt x="3678" y="10736"/>
                  <a:pt x="3746" y="10864"/>
                </a:cubicBezTo>
                <a:cubicBezTo>
                  <a:pt x="3794" y="10955"/>
                  <a:pt x="3816" y="11077"/>
                  <a:pt x="3870" y="11162"/>
                </a:cubicBezTo>
                <a:cubicBezTo>
                  <a:pt x="3922" y="11244"/>
                  <a:pt x="3956" y="11298"/>
                  <a:pt x="3994" y="11385"/>
                </a:cubicBezTo>
                <a:cubicBezTo>
                  <a:pt x="4015" y="11429"/>
                  <a:pt x="4028" y="11450"/>
                  <a:pt x="3994" y="11410"/>
                </a:cubicBezTo>
              </a:path>
              <a:path w="5582" h="1812">
                <a:moveTo>
                  <a:pt x="3448" y="10864"/>
                </a:moveTo>
                <a:cubicBezTo>
                  <a:pt x="3524" y="10845"/>
                  <a:pt x="3615" y="10823"/>
                  <a:pt x="3696" y="10840"/>
                </a:cubicBezTo>
                <a:cubicBezTo>
                  <a:pt x="3774" y="10857"/>
                  <a:pt x="3813" y="10864"/>
                  <a:pt x="3894" y="10864"/>
                </a:cubicBezTo>
              </a:path>
              <a:path w="5582" h="1812">
                <a:moveTo>
                  <a:pt x="4043" y="10840"/>
                </a:moveTo>
                <a:cubicBezTo>
                  <a:pt x="4148" y="10855"/>
                  <a:pt x="4215" y="10864"/>
                  <a:pt x="4316" y="10864"/>
                </a:cubicBezTo>
              </a:path>
              <a:path w="5582" h="1812">
                <a:moveTo>
                  <a:pt x="4118" y="10988"/>
                </a:moveTo>
                <a:cubicBezTo>
                  <a:pt x="4230" y="11001"/>
                  <a:pt x="4310" y="11013"/>
                  <a:pt x="4415" y="11013"/>
                </a:cubicBezTo>
              </a:path>
              <a:path w="5582" h="1812">
                <a:moveTo>
                  <a:pt x="4961" y="10542"/>
                </a:moveTo>
                <a:cubicBezTo>
                  <a:pt x="4954" y="10660"/>
                  <a:pt x="4957" y="10751"/>
                  <a:pt x="4961" y="10864"/>
                </a:cubicBezTo>
                <a:cubicBezTo>
                  <a:pt x="4965" y="10994"/>
                  <a:pt x="4969" y="11112"/>
                  <a:pt x="4986" y="11237"/>
                </a:cubicBezTo>
                <a:cubicBezTo>
                  <a:pt x="4997" y="11315"/>
                  <a:pt x="5026" y="11383"/>
                  <a:pt x="5035" y="11460"/>
                </a:cubicBezTo>
              </a:path>
              <a:path w="5582" h="1812">
                <a:moveTo>
                  <a:pt x="4738" y="10889"/>
                </a:moveTo>
                <a:cubicBezTo>
                  <a:pt x="4829" y="10832"/>
                  <a:pt x="4878" y="10877"/>
                  <a:pt x="4986" y="10889"/>
                </a:cubicBezTo>
                <a:cubicBezTo>
                  <a:pt x="5019" y="10889"/>
                  <a:pt x="5052" y="10889"/>
                  <a:pt x="5085" y="10889"/>
                </a:cubicBezTo>
              </a:path>
              <a:path w="5582" h="1812">
                <a:moveTo>
                  <a:pt x="5457" y="10939"/>
                </a:moveTo>
                <a:cubicBezTo>
                  <a:pt x="5472" y="10997"/>
                  <a:pt x="5417" y="10993"/>
                  <a:pt x="5358" y="11038"/>
                </a:cubicBezTo>
                <a:cubicBezTo>
                  <a:pt x="5297" y="11084"/>
                  <a:pt x="5309" y="11129"/>
                  <a:pt x="5283" y="11187"/>
                </a:cubicBezTo>
                <a:cubicBezTo>
                  <a:pt x="5266" y="11225"/>
                  <a:pt x="5270" y="11268"/>
                  <a:pt x="5308" y="11311"/>
                </a:cubicBezTo>
                <a:cubicBezTo>
                  <a:pt x="5353" y="11363"/>
                  <a:pt x="5439" y="11426"/>
                  <a:pt x="5482" y="11336"/>
                </a:cubicBezTo>
                <a:cubicBezTo>
                  <a:pt x="5515" y="11267"/>
                  <a:pt x="5527" y="11163"/>
                  <a:pt x="5531" y="11088"/>
                </a:cubicBezTo>
                <a:cubicBezTo>
                  <a:pt x="5531" y="11038"/>
                  <a:pt x="5531" y="11021"/>
                  <a:pt x="5531" y="10988"/>
                </a:cubicBezTo>
                <a:cubicBezTo>
                  <a:pt x="5504" y="11044"/>
                  <a:pt x="5503" y="11125"/>
                  <a:pt x="5531" y="11187"/>
                </a:cubicBezTo>
                <a:cubicBezTo>
                  <a:pt x="5557" y="11244"/>
                  <a:pt x="5617" y="11311"/>
                  <a:pt x="5655" y="11361"/>
                </a:cubicBezTo>
                <a:cubicBezTo>
                  <a:pt x="5679" y="11392"/>
                  <a:pt x="5697" y="11402"/>
                  <a:pt x="5730" y="11410"/>
                </a:cubicBezTo>
              </a:path>
              <a:path w="5582" h="1812">
                <a:moveTo>
                  <a:pt x="5779" y="11063"/>
                </a:moveTo>
                <a:cubicBezTo>
                  <a:pt x="5753" y="11107"/>
                  <a:pt x="5740" y="11180"/>
                  <a:pt x="5755" y="11237"/>
                </a:cubicBezTo>
                <a:cubicBezTo>
                  <a:pt x="5773" y="11305"/>
                  <a:pt x="5793" y="11348"/>
                  <a:pt x="5829" y="11410"/>
                </a:cubicBezTo>
                <a:cubicBezTo>
                  <a:pt x="5862" y="11355"/>
                  <a:pt x="5854" y="11305"/>
                  <a:pt x="5854" y="11237"/>
                </a:cubicBezTo>
                <a:cubicBezTo>
                  <a:pt x="5854" y="11168"/>
                  <a:pt x="5851" y="11074"/>
                  <a:pt x="5879" y="11013"/>
                </a:cubicBezTo>
                <a:cubicBezTo>
                  <a:pt x="5887" y="11005"/>
                  <a:pt x="5896" y="10996"/>
                  <a:pt x="5904" y="10988"/>
                </a:cubicBezTo>
                <a:cubicBezTo>
                  <a:pt x="5975" y="11029"/>
                  <a:pt x="5991" y="11062"/>
                  <a:pt x="6028" y="11137"/>
                </a:cubicBezTo>
                <a:cubicBezTo>
                  <a:pt x="6059" y="11200"/>
                  <a:pt x="6091" y="11269"/>
                  <a:pt x="6102" y="11336"/>
                </a:cubicBezTo>
                <a:cubicBezTo>
                  <a:pt x="6112" y="11395"/>
                  <a:pt x="6114" y="11419"/>
                  <a:pt x="6176" y="11435"/>
                </a:cubicBezTo>
              </a:path>
              <a:path w="5582" h="1812">
                <a:moveTo>
                  <a:pt x="6176" y="10864"/>
                </a:moveTo>
                <a:cubicBezTo>
                  <a:pt x="6245" y="10839"/>
                  <a:pt x="6306" y="10841"/>
                  <a:pt x="6375" y="10815"/>
                </a:cubicBezTo>
              </a:path>
              <a:path w="5582" h="1812">
                <a:moveTo>
                  <a:pt x="6573" y="10492"/>
                </a:moveTo>
                <a:cubicBezTo>
                  <a:pt x="6573" y="10584"/>
                  <a:pt x="6581" y="10652"/>
                  <a:pt x="6598" y="10740"/>
                </a:cubicBezTo>
                <a:cubicBezTo>
                  <a:pt x="6598" y="10748"/>
                  <a:pt x="6598" y="10757"/>
                  <a:pt x="6598" y="10765"/>
                </a:cubicBezTo>
              </a:path>
              <a:path w="5582" h="1812">
                <a:moveTo>
                  <a:pt x="7020" y="10418"/>
                </a:moveTo>
                <a:cubicBezTo>
                  <a:pt x="6976" y="10519"/>
                  <a:pt x="6886" y="10627"/>
                  <a:pt x="6871" y="10740"/>
                </a:cubicBezTo>
                <a:cubicBezTo>
                  <a:pt x="6856" y="10856"/>
                  <a:pt x="6846" y="10969"/>
                  <a:pt x="6846" y="11088"/>
                </a:cubicBezTo>
                <a:cubicBezTo>
                  <a:pt x="6846" y="11222"/>
                  <a:pt x="6816" y="11387"/>
                  <a:pt x="6871" y="11509"/>
                </a:cubicBezTo>
                <a:cubicBezTo>
                  <a:pt x="6891" y="11550"/>
                  <a:pt x="6889" y="11566"/>
                  <a:pt x="6921" y="11559"/>
                </a:cubicBezTo>
              </a:path>
              <a:path w="5582" h="1812">
                <a:moveTo>
                  <a:pt x="7218" y="10691"/>
                </a:moveTo>
                <a:cubicBezTo>
                  <a:pt x="7218" y="10790"/>
                  <a:pt x="7182" y="10869"/>
                  <a:pt x="7169" y="10964"/>
                </a:cubicBezTo>
                <a:cubicBezTo>
                  <a:pt x="7156" y="11055"/>
                  <a:pt x="7157" y="11178"/>
                  <a:pt x="7193" y="11261"/>
                </a:cubicBezTo>
                <a:cubicBezTo>
                  <a:pt x="7229" y="11343"/>
                  <a:pt x="7263" y="11391"/>
                  <a:pt x="7342" y="11435"/>
                </a:cubicBezTo>
                <a:cubicBezTo>
                  <a:pt x="7396" y="11465"/>
                  <a:pt x="7522" y="11470"/>
                  <a:pt x="7565" y="11410"/>
                </a:cubicBezTo>
                <a:cubicBezTo>
                  <a:pt x="7595" y="11368"/>
                  <a:pt x="7556" y="11273"/>
                  <a:pt x="7541" y="11237"/>
                </a:cubicBezTo>
                <a:cubicBezTo>
                  <a:pt x="7469" y="11244"/>
                  <a:pt x="7413" y="11248"/>
                  <a:pt x="7392" y="11336"/>
                </a:cubicBezTo>
                <a:cubicBezTo>
                  <a:pt x="7378" y="11393"/>
                  <a:pt x="7389" y="11499"/>
                  <a:pt x="7441" y="11534"/>
                </a:cubicBezTo>
                <a:cubicBezTo>
                  <a:pt x="7449" y="11534"/>
                  <a:pt x="7458" y="11534"/>
                  <a:pt x="7466" y="11534"/>
                </a:cubicBezTo>
              </a:path>
              <a:path w="5582" h="1812">
                <a:moveTo>
                  <a:pt x="7938" y="10567"/>
                </a:moveTo>
                <a:cubicBezTo>
                  <a:pt x="7880" y="10639"/>
                  <a:pt x="7866" y="10701"/>
                  <a:pt x="7838" y="10790"/>
                </a:cubicBezTo>
                <a:cubicBezTo>
                  <a:pt x="7808" y="10885"/>
                  <a:pt x="7770" y="10990"/>
                  <a:pt x="7764" y="11088"/>
                </a:cubicBezTo>
                <a:cubicBezTo>
                  <a:pt x="7756" y="11207"/>
                  <a:pt x="7739" y="11318"/>
                  <a:pt x="7739" y="11435"/>
                </a:cubicBezTo>
                <a:cubicBezTo>
                  <a:pt x="7739" y="11456"/>
                  <a:pt x="7714" y="11644"/>
                  <a:pt x="7714" y="11584"/>
                </a:cubicBezTo>
              </a:path>
              <a:path w="5582" h="1812">
                <a:moveTo>
                  <a:pt x="8111" y="10641"/>
                </a:moveTo>
                <a:cubicBezTo>
                  <a:pt x="8111" y="10729"/>
                  <a:pt x="8095" y="10805"/>
                  <a:pt x="8086" y="10889"/>
                </a:cubicBezTo>
                <a:cubicBezTo>
                  <a:pt x="8067" y="11055"/>
                  <a:pt x="8097" y="11221"/>
                  <a:pt x="8111" y="11385"/>
                </a:cubicBezTo>
                <a:cubicBezTo>
                  <a:pt x="8111" y="11447"/>
                  <a:pt x="8102" y="11462"/>
                  <a:pt x="8136" y="11485"/>
                </a:cubicBezTo>
              </a:path>
              <a:path w="5582" h="1812">
                <a:moveTo>
                  <a:pt x="8359" y="10988"/>
                </a:moveTo>
                <a:cubicBezTo>
                  <a:pt x="8351" y="11046"/>
                  <a:pt x="8304" y="11125"/>
                  <a:pt x="8310" y="11187"/>
                </a:cubicBezTo>
                <a:cubicBezTo>
                  <a:pt x="8315" y="11240"/>
                  <a:pt x="8353" y="11367"/>
                  <a:pt x="8384" y="11410"/>
                </a:cubicBezTo>
                <a:cubicBezTo>
                  <a:pt x="8431" y="11475"/>
                  <a:pt x="8511" y="11550"/>
                  <a:pt x="8582" y="11509"/>
                </a:cubicBezTo>
                <a:cubicBezTo>
                  <a:pt x="8620" y="11487"/>
                  <a:pt x="8667" y="11404"/>
                  <a:pt x="8657" y="11361"/>
                </a:cubicBezTo>
                <a:cubicBezTo>
                  <a:pt x="8639" y="11287"/>
                  <a:pt x="8615" y="11278"/>
                  <a:pt x="8558" y="11261"/>
                </a:cubicBezTo>
                <a:cubicBezTo>
                  <a:pt x="8516" y="11314"/>
                  <a:pt x="8467" y="11386"/>
                  <a:pt x="8483" y="11460"/>
                </a:cubicBezTo>
                <a:cubicBezTo>
                  <a:pt x="8493" y="11505"/>
                  <a:pt x="8530" y="11550"/>
                  <a:pt x="8558" y="11584"/>
                </a:cubicBezTo>
              </a:path>
              <a:path w="5582" h="1812">
                <a:moveTo>
                  <a:pt x="8756" y="10641"/>
                </a:moveTo>
                <a:cubicBezTo>
                  <a:pt x="8828" y="10771"/>
                  <a:pt x="8851" y="10863"/>
                  <a:pt x="8880" y="11013"/>
                </a:cubicBezTo>
                <a:cubicBezTo>
                  <a:pt x="8924" y="11243"/>
                  <a:pt x="8955" y="11497"/>
                  <a:pt x="8930" y="11733"/>
                </a:cubicBezTo>
                <a:cubicBezTo>
                  <a:pt x="8915" y="11876"/>
                  <a:pt x="8918" y="12041"/>
                  <a:pt x="8756" y="12080"/>
                </a:cubicBezTo>
                <a:cubicBezTo>
                  <a:pt x="8663" y="12080"/>
                  <a:pt x="8604" y="12068"/>
                  <a:pt x="8533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1295280" y="4241880"/>
            <a:ext cx="1339920" cy="490320"/>
          </a:xfrm>
          <a:custGeom>
            <a:avLst/>
            <a:gdLst/>
            <a:ahLst/>
            <a:rect l="l" t="t" r="r" b="b"/>
            <a:pathLst>
              <a:path w="3721" h="1365">
                <a:moveTo>
                  <a:pt x="3795" y="12105"/>
                </a:moveTo>
                <a:cubicBezTo>
                  <a:pt x="3759" y="12163"/>
                  <a:pt x="3763" y="12234"/>
                  <a:pt x="3746" y="12303"/>
                </a:cubicBezTo>
                <a:cubicBezTo>
                  <a:pt x="3722" y="12397"/>
                  <a:pt x="3680" y="12486"/>
                  <a:pt x="3646" y="12576"/>
                </a:cubicBezTo>
                <a:cubicBezTo>
                  <a:pt x="3632" y="12612"/>
                  <a:pt x="3571" y="12752"/>
                  <a:pt x="3621" y="12700"/>
                </a:cubicBezTo>
                <a:cubicBezTo>
                  <a:pt x="3621" y="12606"/>
                  <a:pt x="3625" y="12516"/>
                  <a:pt x="3646" y="12427"/>
                </a:cubicBezTo>
                <a:cubicBezTo>
                  <a:pt x="3669" y="12330"/>
                  <a:pt x="3706" y="12227"/>
                  <a:pt x="3721" y="12129"/>
                </a:cubicBezTo>
                <a:cubicBezTo>
                  <a:pt x="3733" y="12045"/>
                  <a:pt x="3766" y="11964"/>
                  <a:pt x="3770" y="11881"/>
                </a:cubicBezTo>
                <a:cubicBezTo>
                  <a:pt x="3770" y="11830"/>
                  <a:pt x="3771" y="11811"/>
                  <a:pt x="3795" y="11782"/>
                </a:cubicBezTo>
                <a:cubicBezTo>
                  <a:pt x="3830" y="11851"/>
                  <a:pt x="3840" y="11913"/>
                  <a:pt x="3870" y="11981"/>
                </a:cubicBezTo>
                <a:cubicBezTo>
                  <a:pt x="3906" y="12064"/>
                  <a:pt x="3921" y="12142"/>
                  <a:pt x="3944" y="12229"/>
                </a:cubicBezTo>
                <a:cubicBezTo>
                  <a:pt x="3971" y="12334"/>
                  <a:pt x="3998" y="12451"/>
                  <a:pt x="4043" y="12551"/>
                </a:cubicBezTo>
                <a:cubicBezTo>
                  <a:pt x="4102" y="12680"/>
                  <a:pt x="4142" y="12739"/>
                  <a:pt x="4142" y="12874"/>
                </a:cubicBezTo>
              </a:path>
              <a:path w="3721" h="1365">
                <a:moveTo>
                  <a:pt x="3696" y="12402"/>
                </a:moveTo>
                <a:cubicBezTo>
                  <a:pt x="3821" y="12410"/>
                  <a:pt x="3943" y="12427"/>
                  <a:pt x="4068" y="12427"/>
                </a:cubicBezTo>
              </a:path>
              <a:path w="3721" h="1365">
                <a:moveTo>
                  <a:pt x="4341" y="12477"/>
                </a:moveTo>
                <a:cubicBezTo>
                  <a:pt x="4400" y="12484"/>
                  <a:pt x="4455" y="12495"/>
                  <a:pt x="4514" y="12502"/>
                </a:cubicBezTo>
              </a:path>
              <a:path w="3721" h="1365">
                <a:moveTo>
                  <a:pt x="4366" y="12675"/>
                </a:moveTo>
                <a:cubicBezTo>
                  <a:pt x="4465" y="12695"/>
                  <a:pt x="4480" y="12703"/>
                  <a:pt x="4539" y="12700"/>
                </a:cubicBezTo>
              </a:path>
              <a:path w="3721" h="1365">
                <a:moveTo>
                  <a:pt x="4911" y="12328"/>
                </a:moveTo>
                <a:cubicBezTo>
                  <a:pt x="4911" y="12373"/>
                  <a:pt x="4915" y="12393"/>
                  <a:pt x="4887" y="12353"/>
                </a:cubicBezTo>
                <a:cubicBezTo>
                  <a:pt x="4927" y="12302"/>
                  <a:pt x="4925" y="12249"/>
                  <a:pt x="4961" y="12204"/>
                </a:cubicBezTo>
                <a:cubicBezTo>
                  <a:pt x="4999" y="12157"/>
                  <a:pt x="5082" y="12176"/>
                  <a:pt x="5110" y="12229"/>
                </a:cubicBezTo>
                <a:cubicBezTo>
                  <a:pt x="5141" y="12287"/>
                  <a:pt x="5156" y="12388"/>
                  <a:pt x="5159" y="12452"/>
                </a:cubicBezTo>
                <a:cubicBezTo>
                  <a:pt x="5162" y="12512"/>
                  <a:pt x="5151" y="12615"/>
                  <a:pt x="5135" y="12675"/>
                </a:cubicBezTo>
                <a:cubicBezTo>
                  <a:pt x="5118" y="12740"/>
                  <a:pt x="5101" y="12816"/>
                  <a:pt x="5060" y="12874"/>
                </a:cubicBezTo>
                <a:cubicBezTo>
                  <a:pt x="5035" y="12898"/>
                  <a:pt x="5027" y="12906"/>
                  <a:pt x="5011" y="12923"/>
                </a:cubicBezTo>
                <a:cubicBezTo>
                  <a:pt x="4911" y="12899"/>
                  <a:pt x="4911" y="12881"/>
                  <a:pt x="4911" y="12774"/>
                </a:cubicBezTo>
                <a:cubicBezTo>
                  <a:pt x="4911" y="12697"/>
                  <a:pt x="4915" y="12682"/>
                  <a:pt x="4961" y="12626"/>
                </a:cubicBezTo>
                <a:cubicBezTo>
                  <a:pt x="4990" y="12683"/>
                  <a:pt x="5027" y="12723"/>
                  <a:pt x="5060" y="12774"/>
                </a:cubicBezTo>
                <a:cubicBezTo>
                  <a:pt x="5100" y="12837"/>
                  <a:pt x="5099" y="12855"/>
                  <a:pt x="5159" y="12898"/>
                </a:cubicBezTo>
              </a:path>
              <a:path w="3721" h="1365">
                <a:moveTo>
                  <a:pt x="5482" y="12278"/>
                </a:moveTo>
                <a:cubicBezTo>
                  <a:pt x="5457" y="12352"/>
                  <a:pt x="5456" y="12430"/>
                  <a:pt x="5432" y="12502"/>
                </a:cubicBezTo>
                <a:cubicBezTo>
                  <a:pt x="5398" y="12602"/>
                  <a:pt x="5389" y="12702"/>
                  <a:pt x="5432" y="12799"/>
                </a:cubicBezTo>
                <a:cubicBezTo>
                  <a:pt x="5458" y="12858"/>
                  <a:pt x="5493" y="12922"/>
                  <a:pt x="5531" y="12973"/>
                </a:cubicBezTo>
                <a:cubicBezTo>
                  <a:pt x="5577" y="13035"/>
                  <a:pt x="5618" y="12985"/>
                  <a:pt x="5655" y="12948"/>
                </a:cubicBezTo>
                <a:cubicBezTo>
                  <a:pt x="5695" y="12908"/>
                  <a:pt x="5697" y="12782"/>
                  <a:pt x="5705" y="12725"/>
                </a:cubicBezTo>
                <a:cubicBezTo>
                  <a:pt x="5718" y="12633"/>
                  <a:pt x="5716" y="12510"/>
                  <a:pt x="5680" y="12427"/>
                </a:cubicBezTo>
                <a:cubicBezTo>
                  <a:pt x="5660" y="12380"/>
                  <a:pt x="5602" y="12248"/>
                  <a:pt x="5531" y="12254"/>
                </a:cubicBezTo>
                <a:cubicBezTo>
                  <a:pt x="5507" y="12278"/>
                  <a:pt x="5498" y="12287"/>
                  <a:pt x="5482" y="12303"/>
                </a:cubicBezTo>
              </a:path>
              <a:path w="3721" h="1365">
                <a:moveTo>
                  <a:pt x="5904" y="13072"/>
                </a:moveTo>
                <a:cubicBezTo>
                  <a:pt x="5928" y="13097"/>
                  <a:pt x="5936" y="13105"/>
                  <a:pt x="5953" y="13072"/>
                </a:cubicBezTo>
              </a:path>
              <a:path w="3721" h="1365">
                <a:moveTo>
                  <a:pt x="6176" y="12278"/>
                </a:moveTo>
                <a:cubicBezTo>
                  <a:pt x="6259" y="12278"/>
                  <a:pt x="6341" y="12278"/>
                  <a:pt x="6424" y="12278"/>
                </a:cubicBezTo>
              </a:path>
              <a:path w="3721" h="1365">
                <a:moveTo>
                  <a:pt x="6226" y="12278"/>
                </a:moveTo>
                <a:cubicBezTo>
                  <a:pt x="6152" y="12318"/>
                  <a:pt x="6061" y="12345"/>
                  <a:pt x="6102" y="12452"/>
                </a:cubicBezTo>
                <a:cubicBezTo>
                  <a:pt x="6125" y="12513"/>
                  <a:pt x="6187" y="12506"/>
                  <a:pt x="6226" y="12526"/>
                </a:cubicBezTo>
                <a:cubicBezTo>
                  <a:pt x="6246" y="12536"/>
                  <a:pt x="6366" y="12565"/>
                  <a:pt x="6375" y="12576"/>
                </a:cubicBezTo>
                <a:cubicBezTo>
                  <a:pt x="6436" y="12652"/>
                  <a:pt x="6449" y="12710"/>
                  <a:pt x="6449" y="12799"/>
                </a:cubicBezTo>
                <a:cubicBezTo>
                  <a:pt x="6449" y="12885"/>
                  <a:pt x="6453" y="13049"/>
                  <a:pt x="6350" y="13097"/>
                </a:cubicBezTo>
                <a:cubicBezTo>
                  <a:pt x="6333" y="13097"/>
                  <a:pt x="6317" y="13097"/>
                  <a:pt x="6300" y="13097"/>
                </a:cubicBezTo>
                <a:cubicBezTo>
                  <a:pt x="6264" y="13051"/>
                  <a:pt x="6214" y="12982"/>
                  <a:pt x="6201" y="12923"/>
                </a:cubicBezTo>
                <a:cubicBezTo>
                  <a:pt x="6201" y="12874"/>
                  <a:pt x="6201" y="12857"/>
                  <a:pt x="6201" y="12824"/>
                </a:cubicBezTo>
              </a:path>
              <a:path w="3721" h="1365">
                <a:moveTo>
                  <a:pt x="6722" y="12303"/>
                </a:moveTo>
                <a:cubicBezTo>
                  <a:pt x="6712" y="12402"/>
                  <a:pt x="6667" y="12483"/>
                  <a:pt x="6648" y="12576"/>
                </a:cubicBezTo>
                <a:cubicBezTo>
                  <a:pt x="6630" y="12664"/>
                  <a:pt x="6642" y="12744"/>
                  <a:pt x="6648" y="12824"/>
                </a:cubicBezTo>
                <a:cubicBezTo>
                  <a:pt x="6654" y="12903"/>
                  <a:pt x="6670" y="12981"/>
                  <a:pt x="6722" y="13047"/>
                </a:cubicBezTo>
                <a:cubicBezTo>
                  <a:pt x="6766" y="13103"/>
                  <a:pt x="6818" y="13166"/>
                  <a:pt x="6896" y="13146"/>
                </a:cubicBezTo>
                <a:cubicBezTo>
                  <a:pt x="6967" y="13128"/>
                  <a:pt x="6990" y="13026"/>
                  <a:pt x="6995" y="12973"/>
                </a:cubicBezTo>
                <a:cubicBezTo>
                  <a:pt x="6995" y="12928"/>
                  <a:pt x="6998" y="12915"/>
                  <a:pt x="6970" y="12898"/>
                </a:cubicBezTo>
                <a:cubicBezTo>
                  <a:pt x="6903" y="12955"/>
                  <a:pt x="6911" y="12974"/>
                  <a:pt x="6970" y="13047"/>
                </a:cubicBezTo>
              </a:path>
              <a:path w="3721" h="1365">
                <a:moveTo>
                  <a:pt x="7193" y="12378"/>
                </a:moveTo>
                <a:cubicBezTo>
                  <a:pt x="7133" y="12438"/>
                  <a:pt x="7057" y="12474"/>
                  <a:pt x="7119" y="12551"/>
                </a:cubicBezTo>
                <a:cubicBezTo>
                  <a:pt x="7136" y="12573"/>
                  <a:pt x="7192" y="12643"/>
                  <a:pt x="7218" y="12650"/>
                </a:cubicBezTo>
                <a:cubicBezTo>
                  <a:pt x="7274" y="12666"/>
                  <a:pt x="7336" y="12610"/>
                  <a:pt x="7317" y="12551"/>
                </a:cubicBezTo>
                <a:cubicBezTo>
                  <a:pt x="7297" y="12490"/>
                  <a:pt x="7241" y="12422"/>
                  <a:pt x="7218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4768920" y="1482840"/>
            <a:ext cx="1098360" cy="625320"/>
          </a:xfrm>
          <a:custGeom>
            <a:avLst/>
            <a:gdLst/>
            <a:ahLst/>
            <a:rect l="l" t="t" r="r" b="b"/>
            <a:pathLst>
              <a:path w="3052" h="1737">
                <a:moveTo>
                  <a:pt x="13295" y="5730"/>
                </a:moveTo>
                <a:cubicBezTo>
                  <a:pt x="13377" y="5677"/>
                  <a:pt x="13459" y="5651"/>
                  <a:pt x="13543" y="5606"/>
                </a:cubicBezTo>
                <a:cubicBezTo>
                  <a:pt x="13648" y="5549"/>
                  <a:pt x="13735" y="5465"/>
                  <a:pt x="13841" y="5407"/>
                </a:cubicBezTo>
                <a:cubicBezTo>
                  <a:pt x="13958" y="5343"/>
                  <a:pt x="14076" y="5281"/>
                  <a:pt x="14188" y="5209"/>
                </a:cubicBezTo>
                <a:cubicBezTo>
                  <a:pt x="14261" y="5162"/>
                  <a:pt x="14349" y="5118"/>
                  <a:pt x="14412" y="5060"/>
                </a:cubicBezTo>
                <a:cubicBezTo>
                  <a:pt x="14435" y="5039"/>
                  <a:pt x="14428" y="5042"/>
                  <a:pt x="14436" y="5011"/>
                </a:cubicBezTo>
              </a:path>
              <a:path w="3052" h="1737">
                <a:moveTo>
                  <a:pt x="13295" y="5432"/>
                </a:moveTo>
                <a:cubicBezTo>
                  <a:pt x="13274" y="5543"/>
                  <a:pt x="13246" y="5643"/>
                  <a:pt x="13246" y="5755"/>
                </a:cubicBezTo>
                <a:cubicBezTo>
                  <a:pt x="13246" y="5804"/>
                  <a:pt x="13246" y="5821"/>
                  <a:pt x="13246" y="5854"/>
                </a:cubicBezTo>
                <a:cubicBezTo>
                  <a:pt x="13391" y="5854"/>
                  <a:pt x="13530" y="5852"/>
                  <a:pt x="13667" y="5829"/>
                </a:cubicBezTo>
                <a:cubicBezTo>
                  <a:pt x="13725" y="5829"/>
                  <a:pt x="13750" y="5829"/>
                  <a:pt x="13791" y="5829"/>
                </a:cubicBezTo>
              </a:path>
              <a:path w="3052" h="1737">
                <a:moveTo>
                  <a:pt x="14511" y="4762"/>
                </a:moveTo>
                <a:cubicBezTo>
                  <a:pt x="14520" y="4703"/>
                  <a:pt x="14547" y="4665"/>
                  <a:pt x="14585" y="4614"/>
                </a:cubicBezTo>
                <a:cubicBezTo>
                  <a:pt x="14619" y="4569"/>
                  <a:pt x="14676" y="4542"/>
                  <a:pt x="14734" y="4564"/>
                </a:cubicBezTo>
                <a:cubicBezTo>
                  <a:pt x="14781" y="4582"/>
                  <a:pt x="14803" y="4673"/>
                  <a:pt x="14808" y="4713"/>
                </a:cubicBezTo>
                <a:cubicBezTo>
                  <a:pt x="14823" y="4832"/>
                  <a:pt x="14811" y="4952"/>
                  <a:pt x="14759" y="5060"/>
                </a:cubicBezTo>
                <a:cubicBezTo>
                  <a:pt x="14716" y="5149"/>
                  <a:pt x="14664" y="5181"/>
                  <a:pt x="14585" y="5135"/>
                </a:cubicBezTo>
                <a:cubicBezTo>
                  <a:pt x="14594" y="5062"/>
                  <a:pt x="14609" y="4961"/>
                  <a:pt x="14709" y="4961"/>
                </a:cubicBezTo>
                <a:cubicBezTo>
                  <a:pt x="14748" y="4961"/>
                  <a:pt x="14835" y="5049"/>
                  <a:pt x="14883" y="5060"/>
                </a:cubicBezTo>
                <a:cubicBezTo>
                  <a:pt x="14942" y="5060"/>
                  <a:pt x="14961" y="5051"/>
                  <a:pt x="14957" y="4986"/>
                </a:cubicBezTo>
              </a:path>
              <a:path w="3052" h="1737">
                <a:moveTo>
                  <a:pt x="14932" y="4514"/>
                </a:moveTo>
                <a:cubicBezTo>
                  <a:pt x="15036" y="4434"/>
                  <a:pt x="15086" y="4416"/>
                  <a:pt x="15180" y="4366"/>
                </a:cubicBezTo>
                <a:cubicBezTo>
                  <a:pt x="15197" y="4358"/>
                  <a:pt x="15213" y="4349"/>
                  <a:pt x="15230" y="4341"/>
                </a:cubicBezTo>
              </a:path>
              <a:path w="3052" h="1737">
                <a:moveTo>
                  <a:pt x="14932" y="4539"/>
                </a:moveTo>
                <a:cubicBezTo>
                  <a:pt x="14932" y="4628"/>
                  <a:pt x="14926" y="4668"/>
                  <a:pt x="14982" y="4738"/>
                </a:cubicBezTo>
                <a:cubicBezTo>
                  <a:pt x="15020" y="4691"/>
                  <a:pt x="15039" y="4629"/>
                  <a:pt x="15106" y="4614"/>
                </a:cubicBezTo>
                <a:cubicBezTo>
                  <a:pt x="15156" y="4602"/>
                  <a:pt x="15204" y="4647"/>
                  <a:pt x="15230" y="4688"/>
                </a:cubicBezTo>
                <a:cubicBezTo>
                  <a:pt x="15260" y="4734"/>
                  <a:pt x="15321" y="4829"/>
                  <a:pt x="15304" y="4887"/>
                </a:cubicBezTo>
                <a:cubicBezTo>
                  <a:pt x="15285" y="4952"/>
                  <a:pt x="15195" y="5018"/>
                  <a:pt x="15131" y="5035"/>
                </a:cubicBezTo>
                <a:cubicBezTo>
                  <a:pt x="15083" y="5048"/>
                  <a:pt x="15046" y="5009"/>
                  <a:pt x="15007" y="4986"/>
                </a:cubicBezTo>
              </a:path>
              <a:path w="3052" h="1737">
                <a:moveTo>
                  <a:pt x="15404" y="4837"/>
                </a:moveTo>
                <a:cubicBezTo>
                  <a:pt x="15427" y="4860"/>
                  <a:pt x="15435" y="4871"/>
                  <a:pt x="15429" y="4837"/>
                </a:cubicBezTo>
              </a:path>
              <a:path w="3052" h="1737">
                <a:moveTo>
                  <a:pt x="15453" y="4366"/>
                </a:moveTo>
                <a:cubicBezTo>
                  <a:pt x="15481" y="4290"/>
                  <a:pt x="15463" y="4245"/>
                  <a:pt x="15553" y="4242"/>
                </a:cubicBezTo>
                <a:cubicBezTo>
                  <a:pt x="15653" y="4238"/>
                  <a:pt x="15695" y="4242"/>
                  <a:pt x="15701" y="4341"/>
                </a:cubicBezTo>
                <a:cubicBezTo>
                  <a:pt x="15707" y="4445"/>
                  <a:pt x="15672" y="4462"/>
                  <a:pt x="15602" y="4514"/>
                </a:cubicBezTo>
                <a:cubicBezTo>
                  <a:pt x="15594" y="4522"/>
                  <a:pt x="15585" y="4531"/>
                  <a:pt x="15577" y="4539"/>
                </a:cubicBezTo>
                <a:cubicBezTo>
                  <a:pt x="15666" y="4500"/>
                  <a:pt x="15697" y="4499"/>
                  <a:pt x="15776" y="4514"/>
                </a:cubicBezTo>
                <a:cubicBezTo>
                  <a:pt x="15843" y="4527"/>
                  <a:pt x="15861" y="4545"/>
                  <a:pt x="15875" y="4614"/>
                </a:cubicBezTo>
                <a:cubicBezTo>
                  <a:pt x="15889" y="4683"/>
                  <a:pt x="15830" y="4751"/>
                  <a:pt x="15776" y="4787"/>
                </a:cubicBezTo>
                <a:cubicBezTo>
                  <a:pt x="15717" y="4826"/>
                  <a:pt x="15645" y="4812"/>
                  <a:pt x="15577" y="4812"/>
                </a:cubicBezTo>
              </a:path>
              <a:path w="3052" h="1737">
                <a:moveTo>
                  <a:pt x="16073" y="4242"/>
                </a:moveTo>
                <a:cubicBezTo>
                  <a:pt x="16047" y="4163"/>
                  <a:pt x="15999" y="4182"/>
                  <a:pt x="15925" y="4242"/>
                </a:cubicBezTo>
                <a:cubicBezTo>
                  <a:pt x="15844" y="4307"/>
                  <a:pt x="15890" y="4368"/>
                  <a:pt x="15925" y="4440"/>
                </a:cubicBezTo>
                <a:cubicBezTo>
                  <a:pt x="15964" y="4519"/>
                  <a:pt x="16031" y="4543"/>
                  <a:pt x="16073" y="4614"/>
                </a:cubicBezTo>
                <a:cubicBezTo>
                  <a:pt x="16105" y="4668"/>
                  <a:pt x="16116" y="4703"/>
                  <a:pt x="16123" y="4762"/>
                </a:cubicBezTo>
                <a:cubicBezTo>
                  <a:pt x="16035" y="4719"/>
                  <a:pt x="15950" y="4691"/>
                  <a:pt x="15925" y="4589"/>
                </a:cubicBezTo>
                <a:cubicBezTo>
                  <a:pt x="15914" y="4542"/>
                  <a:pt x="15970" y="4475"/>
                  <a:pt x="15999" y="4440"/>
                </a:cubicBezTo>
                <a:cubicBezTo>
                  <a:pt x="16047" y="4382"/>
                  <a:pt x="16088" y="4332"/>
                  <a:pt x="16123" y="4266"/>
                </a:cubicBezTo>
                <a:cubicBezTo>
                  <a:pt x="16147" y="4221"/>
                  <a:pt x="16166" y="4182"/>
                  <a:pt x="16197" y="4142"/>
                </a:cubicBezTo>
                <a:cubicBezTo>
                  <a:pt x="16159" y="4174"/>
                  <a:pt x="16113" y="4279"/>
                  <a:pt x="16222" y="4242"/>
                </a:cubicBezTo>
                <a:cubicBezTo>
                  <a:pt x="16259" y="4229"/>
                  <a:pt x="16355" y="4149"/>
                  <a:pt x="16272" y="4118"/>
                </a:cubicBezTo>
                <a:cubicBezTo>
                  <a:pt x="16255" y="4118"/>
                  <a:pt x="16239" y="4118"/>
                  <a:pt x="16222" y="41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3857760" y="1473120"/>
            <a:ext cx="733320" cy="1268640"/>
          </a:xfrm>
          <a:custGeom>
            <a:avLst/>
            <a:gdLst/>
            <a:ahLst/>
            <a:rect l="l" t="t" r="r" b="b"/>
            <a:pathLst>
              <a:path w="2035" h="3523">
                <a:moveTo>
                  <a:pt x="12502" y="4614"/>
                </a:moveTo>
                <a:cubicBezTo>
                  <a:pt x="12502" y="4647"/>
                  <a:pt x="12502" y="4680"/>
                  <a:pt x="12502" y="4713"/>
                </a:cubicBezTo>
                <a:cubicBezTo>
                  <a:pt x="12502" y="4597"/>
                  <a:pt x="12474" y="4524"/>
                  <a:pt x="12452" y="4415"/>
                </a:cubicBezTo>
                <a:cubicBezTo>
                  <a:pt x="12443" y="4368"/>
                  <a:pt x="12417" y="4260"/>
                  <a:pt x="12427" y="4217"/>
                </a:cubicBezTo>
                <a:cubicBezTo>
                  <a:pt x="12445" y="4138"/>
                  <a:pt x="12514" y="4068"/>
                  <a:pt x="12601" y="4093"/>
                </a:cubicBezTo>
                <a:cubicBezTo>
                  <a:pt x="12653" y="4108"/>
                  <a:pt x="12681" y="4198"/>
                  <a:pt x="12675" y="4242"/>
                </a:cubicBezTo>
                <a:cubicBezTo>
                  <a:pt x="12657" y="4364"/>
                  <a:pt x="12632" y="4354"/>
                  <a:pt x="12551" y="4415"/>
                </a:cubicBezTo>
                <a:cubicBezTo>
                  <a:pt x="12526" y="4440"/>
                  <a:pt x="12518" y="4448"/>
                  <a:pt x="12502" y="4415"/>
                </a:cubicBezTo>
                <a:cubicBezTo>
                  <a:pt x="12560" y="4397"/>
                  <a:pt x="12756" y="4359"/>
                  <a:pt x="12750" y="4490"/>
                </a:cubicBezTo>
                <a:cubicBezTo>
                  <a:pt x="12748" y="4544"/>
                  <a:pt x="12672" y="4661"/>
                  <a:pt x="12626" y="4688"/>
                </a:cubicBezTo>
                <a:cubicBezTo>
                  <a:pt x="12599" y="4704"/>
                  <a:pt x="12483" y="4778"/>
                  <a:pt x="12452" y="4787"/>
                </a:cubicBezTo>
                <a:cubicBezTo>
                  <a:pt x="12407" y="4787"/>
                  <a:pt x="12394" y="4783"/>
                  <a:pt x="12378" y="4812"/>
                </a:cubicBezTo>
              </a:path>
              <a:path w="2035" h="3523">
                <a:moveTo>
                  <a:pt x="10815" y="6077"/>
                </a:moveTo>
                <a:cubicBezTo>
                  <a:pt x="10870" y="6001"/>
                  <a:pt x="10894" y="6003"/>
                  <a:pt x="10988" y="6003"/>
                </a:cubicBezTo>
                <a:cubicBezTo>
                  <a:pt x="11050" y="6003"/>
                  <a:pt x="11099" y="6031"/>
                  <a:pt x="11088" y="6102"/>
                </a:cubicBezTo>
                <a:cubicBezTo>
                  <a:pt x="11073" y="6199"/>
                  <a:pt x="11049" y="6215"/>
                  <a:pt x="10988" y="6276"/>
                </a:cubicBezTo>
                <a:cubicBezTo>
                  <a:pt x="10924" y="6340"/>
                  <a:pt x="10937" y="6305"/>
                  <a:pt x="11013" y="6300"/>
                </a:cubicBezTo>
                <a:cubicBezTo>
                  <a:pt x="11084" y="6296"/>
                  <a:pt x="11116" y="6329"/>
                  <a:pt x="11162" y="6375"/>
                </a:cubicBezTo>
                <a:cubicBezTo>
                  <a:pt x="11201" y="6414"/>
                  <a:pt x="11227" y="6542"/>
                  <a:pt x="11212" y="6598"/>
                </a:cubicBezTo>
                <a:cubicBezTo>
                  <a:pt x="11200" y="6642"/>
                  <a:pt x="11166" y="6707"/>
                  <a:pt x="11112" y="6722"/>
                </a:cubicBezTo>
                <a:cubicBezTo>
                  <a:pt x="11058" y="6736"/>
                  <a:pt x="10983" y="6726"/>
                  <a:pt x="10964" y="6697"/>
                </a:cubicBezTo>
              </a:path>
              <a:path w="2035" h="3523">
                <a:moveTo>
                  <a:pt x="11336" y="6152"/>
                </a:moveTo>
                <a:cubicBezTo>
                  <a:pt x="11385" y="6112"/>
                  <a:pt x="11447" y="6087"/>
                  <a:pt x="11509" y="6077"/>
                </a:cubicBezTo>
                <a:cubicBezTo>
                  <a:pt x="11526" y="6077"/>
                  <a:pt x="11542" y="6077"/>
                  <a:pt x="11559" y="6077"/>
                </a:cubicBezTo>
                <a:cubicBezTo>
                  <a:pt x="11559" y="6158"/>
                  <a:pt x="11538" y="6223"/>
                  <a:pt x="11534" y="6300"/>
                </a:cubicBezTo>
                <a:cubicBezTo>
                  <a:pt x="11530" y="6365"/>
                  <a:pt x="11509" y="6402"/>
                  <a:pt x="11509" y="6474"/>
                </a:cubicBezTo>
                <a:cubicBezTo>
                  <a:pt x="11509" y="6565"/>
                  <a:pt x="11509" y="6656"/>
                  <a:pt x="11509" y="6747"/>
                </a:cubicBezTo>
              </a:path>
              <a:path w="2035" h="3523">
                <a:moveTo>
                  <a:pt x="11733" y="6697"/>
                </a:moveTo>
                <a:cubicBezTo>
                  <a:pt x="11741" y="6689"/>
                  <a:pt x="11749" y="6680"/>
                  <a:pt x="11757" y="6672"/>
                </a:cubicBezTo>
              </a:path>
              <a:path w="2035" h="3523">
                <a:moveTo>
                  <a:pt x="12105" y="6201"/>
                </a:moveTo>
                <a:cubicBezTo>
                  <a:pt x="12105" y="6150"/>
                  <a:pt x="12104" y="6131"/>
                  <a:pt x="12080" y="6102"/>
                </a:cubicBezTo>
                <a:cubicBezTo>
                  <a:pt x="12011" y="6111"/>
                  <a:pt x="11960" y="6128"/>
                  <a:pt x="11906" y="6176"/>
                </a:cubicBezTo>
                <a:cubicBezTo>
                  <a:pt x="11838" y="6237"/>
                  <a:pt x="11841" y="6309"/>
                  <a:pt x="11931" y="6325"/>
                </a:cubicBezTo>
                <a:cubicBezTo>
                  <a:pt x="11989" y="6335"/>
                  <a:pt x="12064" y="6282"/>
                  <a:pt x="12080" y="6226"/>
                </a:cubicBezTo>
                <a:cubicBezTo>
                  <a:pt x="12080" y="6181"/>
                  <a:pt x="12076" y="6168"/>
                  <a:pt x="12105" y="6152"/>
                </a:cubicBezTo>
                <a:cubicBezTo>
                  <a:pt x="12029" y="6227"/>
                  <a:pt x="12091" y="6258"/>
                  <a:pt x="12055" y="6350"/>
                </a:cubicBezTo>
                <a:cubicBezTo>
                  <a:pt x="12035" y="6402"/>
                  <a:pt x="12007" y="6483"/>
                  <a:pt x="12030" y="6548"/>
                </a:cubicBezTo>
                <a:cubicBezTo>
                  <a:pt x="12053" y="6571"/>
                  <a:pt x="12061" y="6582"/>
                  <a:pt x="12055" y="6548"/>
                </a:cubicBezTo>
              </a:path>
              <a:path w="2035" h="3523">
                <a:moveTo>
                  <a:pt x="12303" y="6077"/>
                </a:moveTo>
                <a:cubicBezTo>
                  <a:pt x="12374" y="6050"/>
                  <a:pt x="12432" y="6071"/>
                  <a:pt x="12502" y="6052"/>
                </a:cubicBezTo>
                <a:cubicBezTo>
                  <a:pt x="12518" y="6044"/>
                  <a:pt x="12535" y="6036"/>
                  <a:pt x="12551" y="6028"/>
                </a:cubicBezTo>
              </a:path>
              <a:path w="2035" h="3523">
                <a:moveTo>
                  <a:pt x="12254" y="6152"/>
                </a:moveTo>
                <a:cubicBezTo>
                  <a:pt x="12254" y="6213"/>
                  <a:pt x="12229" y="6293"/>
                  <a:pt x="12254" y="6325"/>
                </a:cubicBezTo>
                <a:cubicBezTo>
                  <a:pt x="12262" y="6333"/>
                  <a:pt x="12270" y="6342"/>
                  <a:pt x="12278" y="6350"/>
                </a:cubicBezTo>
                <a:cubicBezTo>
                  <a:pt x="12335" y="6293"/>
                  <a:pt x="12346" y="6250"/>
                  <a:pt x="12427" y="6276"/>
                </a:cubicBezTo>
                <a:cubicBezTo>
                  <a:pt x="12515" y="6305"/>
                  <a:pt x="12522" y="6395"/>
                  <a:pt x="12526" y="6474"/>
                </a:cubicBezTo>
                <a:cubicBezTo>
                  <a:pt x="12530" y="6564"/>
                  <a:pt x="12473" y="6566"/>
                  <a:pt x="12402" y="6598"/>
                </a:cubicBezTo>
                <a:cubicBezTo>
                  <a:pt x="12330" y="6631"/>
                  <a:pt x="12258" y="6685"/>
                  <a:pt x="12179" y="6697"/>
                </a:cubicBezTo>
                <a:cubicBezTo>
                  <a:pt x="12154" y="6697"/>
                  <a:pt x="12130" y="6697"/>
                  <a:pt x="12105" y="6697"/>
                </a:cubicBezTo>
              </a:path>
              <a:path w="2035" h="3523">
                <a:moveTo>
                  <a:pt x="10765" y="7045"/>
                </a:moveTo>
                <a:cubicBezTo>
                  <a:pt x="10765" y="7166"/>
                  <a:pt x="10752" y="7271"/>
                  <a:pt x="10740" y="7392"/>
                </a:cubicBezTo>
                <a:cubicBezTo>
                  <a:pt x="10732" y="7470"/>
                  <a:pt x="10725" y="7540"/>
                  <a:pt x="10716" y="7615"/>
                </a:cubicBezTo>
              </a:path>
              <a:path w="2035" h="3523">
                <a:moveTo>
                  <a:pt x="10864" y="7144"/>
                </a:moveTo>
                <a:cubicBezTo>
                  <a:pt x="10981" y="7082"/>
                  <a:pt x="11025" y="7027"/>
                  <a:pt x="11137" y="7119"/>
                </a:cubicBezTo>
                <a:cubicBezTo>
                  <a:pt x="11222" y="7189"/>
                  <a:pt x="11064" y="7298"/>
                  <a:pt x="11038" y="7342"/>
                </a:cubicBezTo>
                <a:cubicBezTo>
                  <a:pt x="11014" y="7382"/>
                  <a:pt x="10947" y="7525"/>
                  <a:pt x="11013" y="7565"/>
                </a:cubicBezTo>
                <a:cubicBezTo>
                  <a:pt x="11084" y="7608"/>
                  <a:pt x="11167" y="7571"/>
                  <a:pt x="11237" y="7541"/>
                </a:cubicBezTo>
              </a:path>
              <a:path w="2035" h="3523">
                <a:moveTo>
                  <a:pt x="11460" y="7169"/>
                </a:moveTo>
                <a:cubicBezTo>
                  <a:pt x="11460" y="7302"/>
                  <a:pt x="11464" y="7417"/>
                  <a:pt x="11485" y="7541"/>
                </a:cubicBezTo>
                <a:cubicBezTo>
                  <a:pt x="11485" y="7585"/>
                  <a:pt x="11482" y="7598"/>
                  <a:pt x="11509" y="7615"/>
                </a:cubicBezTo>
                <a:cubicBezTo>
                  <a:pt x="11509" y="7509"/>
                  <a:pt x="11517" y="7416"/>
                  <a:pt x="11534" y="7317"/>
                </a:cubicBezTo>
                <a:cubicBezTo>
                  <a:pt x="11547" y="7242"/>
                  <a:pt x="11535" y="7166"/>
                  <a:pt x="11559" y="7094"/>
                </a:cubicBezTo>
                <a:cubicBezTo>
                  <a:pt x="11580" y="7031"/>
                  <a:pt x="11628" y="6999"/>
                  <a:pt x="11683" y="6970"/>
                </a:cubicBezTo>
                <a:cubicBezTo>
                  <a:pt x="11750" y="6934"/>
                  <a:pt x="11831" y="6924"/>
                  <a:pt x="11906" y="6921"/>
                </a:cubicBezTo>
                <a:cubicBezTo>
                  <a:pt x="12001" y="6917"/>
                  <a:pt x="12086" y="6899"/>
                  <a:pt x="12179" y="6896"/>
                </a:cubicBezTo>
                <a:cubicBezTo>
                  <a:pt x="12261" y="6893"/>
                  <a:pt x="12344" y="6896"/>
                  <a:pt x="12427" y="6896"/>
                </a:cubicBezTo>
              </a:path>
              <a:path w="2035" h="3523">
                <a:moveTo>
                  <a:pt x="11757" y="7094"/>
                </a:moveTo>
                <a:cubicBezTo>
                  <a:pt x="11757" y="7177"/>
                  <a:pt x="11711" y="7458"/>
                  <a:pt x="11733" y="7516"/>
                </a:cubicBezTo>
                <a:cubicBezTo>
                  <a:pt x="11741" y="7516"/>
                  <a:pt x="11749" y="7516"/>
                  <a:pt x="11757" y="7516"/>
                </a:cubicBezTo>
              </a:path>
              <a:path w="2035" h="3523">
                <a:moveTo>
                  <a:pt x="11931" y="7317"/>
                </a:moveTo>
                <a:cubicBezTo>
                  <a:pt x="11931" y="7360"/>
                  <a:pt x="11911" y="7476"/>
                  <a:pt x="11981" y="7491"/>
                </a:cubicBezTo>
                <a:cubicBezTo>
                  <a:pt x="12073" y="7511"/>
                  <a:pt x="12142" y="7515"/>
                  <a:pt x="12229" y="7466"/>
                </a:cubicBezTo>
                <a:cubicBezTo>
                  <a:pt x="12277" y="7439"/>
                  <a:pt x="12300" y="7363"/>
                  <a:pt x="12303" y="7317"/>
                </a:cubicBezTo>
                <a:cubicBezTo>
                  <a:pt x="12306" y="7267"/>
                  <a:pt x="12291" y="7162"/>
                  <a:pt x="12229" y="7144"/>
                </a:cubicBezTo>
                <a:cubicBezTo>
                  <a:pt x="12159" y="7124"/>
                  <a:pt x="12093" y="7158"/>
                  <a:pt x="12030" y="7169"/>
                </a:cubicBezTo>
                <a:cubicBezTo>
                  <a:pt x="12014" y="7169"/>
                  <a:pt x="11997" y="7169"/>
                  <a:pt x="11981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4456080" y="2884320"/>
            <a:ext cx="339840" cy="490680"/>
          </a:xfrm>
          <a:custGeom>
            <a:avLst/>
            <a:gdLst/>
            <a:ahLst/>
            <a:rect l="l" t="t" r="r" b="b"/>
            <a:pathLst>
              <a:path w="943" h="1365">
                <a:moveTo>
                  <a:pt x="12799" y="8012"/>
                </a:moveTo>
                <a:cubicBezTo>
                  <a:pt x="12861" y="8012"/>
                  <a:pt x="12920" y="8047"/>
                  <a:pt x="12973" y="8037"/>
                </a:cubicBezTo>
                <a:cubicBezTo>
                  <a:pt x="13072" y="8019"/>
                  <a:pt x="13142" y="8012"/>
                  <a:pt x="13246" y="8012"/>
                </a:cubicBezTo>
                <a:cubicBezTo>
                  <a:pt x="13370" y="8012"/>
                  <a:pt x="13306" y="8105"/>
                  <a:pt x="13295" y="8186"/>
                </a:cubicBezTo>
                <a:cubicBezTo>
                  <a:pt x="13284" y="8262"/>
                  <a:pt x="13251" y="8355"/>
                  <a:pt x="13271" y="8434"/>
                </a:cubicBezTo>
                <a:cubicBezTo>
                  <a:pt x="13302" y="8496"/>
                  <a:pt x="13310" y="8527"/>
                  <a:pt x="13295" y="8582"/>
                </a:cubicBezTo>
              </a:path>
              <a:path w="943" h="1365">
                <a:moveTo>
                  <a:pt x="12725" y="9004"/>
                </a:moveTo>
                <a:cubicBezTo>
                  <a:pt x="12725" y="8942"/>
                  <a:pt x="12727" y="8875"/>
                  <a:pt x="12675" y="8830"/>
                </a:cubicBezTo>
                <a:cubicBezTo>
                  <a:pt x="12620" y="8783"/>
                  <a:pt x="12555" y="8763"/>
                  <a:pt x="12502" y="8830"/>
                </a:cubicBezTo>
                <a:cubicBezTo>
                  <a:pt x="12454" y="8891"/>
                  <a:pt x="12387" y="8999"/>
                  <a:pt x="12378" y="9079"/>
                </a:cubicBezTo>
                <a:cubicBezTo>
                  <a:pt x="12366" y="9189"/>
                  <a:pt x="12380" y="9286"/>
                  <a:pt x="12477" y="9351"/>
                </a:cubicBezTo>
                <a:cubicBezTo>
                  <a:pt x="12530" y="9387"/>
                  <a:pt x="12636" y="9390"/>
                  <a:pt x="12700" y="9376"/>
                </a:cubicBezTo>
                <a:cubicBezTo>
                  <a:pt x="12788" y="9357"/>
                  <a:pt x="12800" y="9360"/>
                  <a:pt x="12849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5276880" y="1955880"/>
            <a:ext cx="662040" cy="1428840"/>
          </a:xfrm>
          <a:custGeom>
            <a:avLst/>
            <a:gdLst/>
            <a:ahLst/>
            <a:rect l="l" t="t" r="r" b="b"/>
            <a:pathLst>
              <a:path w="1836" h="3970">
                <a:moveTo>
                  <a:pt x="14660" y="8880"/>
                </a:moveTo>
                <a:cubicBezTo>
                  <a:pt x="14684" y="8880"/>
                  <a:pt x="14710" y="8958"/>
                  <a:pt x="14684" y="9029"/>
                </a:cubicBezTo>
                <a:cubicBezTo>
                  <a:pt x="14663" y="9085"/>
                  <a:pt x="14644" y="9157"/>
                  <a:pt x="14660" y="9227"/>
                </a:cubicBezTo>
                <a:cubicBezTo>
                  <a:pt x="14672" y="9281"/>
                  <a:pt x="14727" y="9375"/>
                  <a:pt x="14660" y="9351"/>
                </a:cubicBezTo>
              </a:path>
              <a:path w="1836" h="3970">
                <a:moveTo>
                  <a:pt x="15156" y="8930"/>
                </a:moveTo>
                <a:cubicBezTo>
                  <a:pt x="15037" y="8898"/>
                  <a:pt x="15021" y="8931"/>
                  <a:pt x="14908" y="8954"/>
                </a:cubicBezTo>
                <a:cubicBezTo>
                  <a:pt x="14846" y="8967"/>
                  <a:pt x="14853" y="8959"/>
                  <a:pt x="14808" y="9004"/>
                </a:cubicBezTo>
                <a:cubicBezTo>
                  <a:pt x="14878" y="9063"/>
                  <a:pt x="14957" y="9126"/>
                  <a:pt x="15032" y="9178"/>
                </a:cubicBezTo>
                <a:cubicBezTo>
                  <a:pt x="15079" y="9211"/>
                  <a:pt x="15141" y="9264"/>
                  <a:pt x="15156" y="9327"/>
                </a:cubicBezTo>
                <a:cubicBezTo>
                  <a:pt x="15156" y="9343"/>
                  <a:pt x="15156" y="9360"/>
                  <a:pt x="15156" y="9376"/>
                </a:cubicBezTo>
                <a:cubicBezTo>
                  <a:pt x="15089" y="9416"/>
                  <a:pt x="15027" y="9395"/>
                  <a:pt x="14957" y="9351"/>
                </a:cubicBezTo>
                <a:cubicBezTo>
                  <a:pt x="14926" y="9331"/>
                  <a:pt x="14880" y="9252"/>
                  <a:pt x="14883" y="9227"/>
                </a:cubicBezTo>
                <a:cubicBezTo>
                  <a:pt x="14891" y="9165"/>
                  <a:pt x="14944" y="9079"/>
                  <a:pt x="14982" y="9029"/>
                </a:cubicBezTo>
                <a:cubicBezTo>
                  <a:pt x="15012" y="8999"/>
                  <a:pt x="15023" y="8985"/>
                  <a:pt x="15032" y="8954"/>
                </a:cubicBezTo>
              </a:path>
              <a:path w="1836" h="3970">
                <a:moveTo>
                  <a:pt x="15379" y="5507"/>
                </a:moveTo>
                <a:cubicBezTo>
                  <a:pt x="15353" y="5576"/>
                  <a:pt x="15318" y="5656"/>
                  <a:pt x="15304" y="5730"/>
                </a:cubicBezTo>
                <a:cubicBezTo>
                  <a:pt x="15284" y="5832"/>
                  <a:pt x="15352" y="5850"/>
                  <a:pt x="15429" y="5854"/>
                </a:cubicBezTo>
                <a:cubicBezTo>
                  <a:pt x="15503" y="5858"/>
                  <a:pt x="15566" y="5846"/>
                  <a:pt x="15627" y="5829"/>
                </a:cubicBezTo>
                <a:cubicBezTo>
                  <a:pt x="15635" y="5829"/>
                  <a:pt x="15644" y="5829"/>
                  <a:pt x="15652" y="5829"/>
                </a:cubicBezTo>
              </a:path>
              <a:path w="1836" h="3970">
                <a:moveTo>
                  <a:pt x="15677" y="5432"/>
                </a:moveTo>
                <a:cubicBezTo>
                  <a:pt x="15667" y="5519"/>
                  <a:pt x="15668" y="5619"/>
                  <a:pt x="15652" y="5705"/>
                </a:cubicBezTo>
                <a:cubicBezTo>
                  <a:pt x="15633" y="5808"/>
                  <a:pt x="15627" y="5896"/>
                  <a:pt x="15627" y="6003"/>
                </a:cubicBezTo>
                <a:cubicBezTo>
                  <a:pt x="15627" y="6060"/>
                  <a:pt x="15628" y="6129"/>
                  <a:pt x="15652" y="6176"/>
                </a:cubicBezTo>
                <a:cubicBezTo>
                  <a:pt x="15660" y="6184"/>
                  <a:pt x="15669" y="6193"/>
                  <a:pt x="15677" y="6201"/>
                </a:cubicBezTo>
              </a:path>
              <a:path w="1836" h="3970">
                <a:moveTo>
                  <a:pt x="15875" y="5606"/>
                </a:moveTo>
                <a:cubicBezTo>
                  <a:pt x="15941" y="5540"/>
                  <a:pt x="15995" y="5501"/>
                  <a:pt x="16098" y="5531"/>
                </a:cubicBezTo>
                <a:cubicBezTo>
                  <a:pt x="16161" y="5550"/>
                  <a:pt x="16181" y="5655"/>
                  <a:pt x="16173" y="5705"/>
                </a:cubicBezTo>
                <a:cubicBezTo>
                  <a:pt x="16159" y="5795"/>
                  <a:pt x="16091" y="5903"/>
                  <a:pt x="16049" y="5978"/>
                </a:cubicBezTo>
                <a:cubicBezTo>
                  <a:pt x="16018" y="6033"/>
                  <a:pt x="15980" y="6072"/>
                  <a:pt x="15949" y="6127"/>
                </a:cubicBezTo>
                <a:cubicBezTo>
                  <a:pt x="16010" y="6176"/>
                  <a:pt x="16046" y="6176"/>
                  <a:pt x="16123" y="6176"/>
                </a:cubicBezTo>
                <a:cubicBezTo>
                  <a:pt x="16213" y="6176"/>
                  <a:pt x="16286" y="6197"/>
                  <a:pt x="16371" y="6201"/>
                </a:cubicBezTo>
                <a:cubicBezTo>
                  <a:pt x="16421" y="6203"/>
                  <a:pt x="16520" y="6201"/>
                  <a:pt x="16470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6483240" y="3089160"/>
            <a:ext cx="231840" cy="268560"/>
          </a:xfrm>
          <a:custGeom>
            <a:avLst/>
            <a:gdLst/>
            <a:ahLst/>
            <a:rect l="l" t="t" r="r" b="b"/>
            <a:pathLst>
              <a:path w="646" h="746">
                <a:moveTo>
                  <a:pt x="18107" y="9004"/>
                </a:moveTo>
                <a:cubicBezTo>
                  <a:pt x="18062" y="9063"/>
                  <a:pt x="18039" y="9109"/>
                  <a:pt x="18008" y="9178"/>
                </a:cubicBezTo>
                <a:cubicBezTo>
                  <a:pt x="18052" y="9123"/>
                  <a:pt x="18097" y="9067"/>
                  <a:pt x="18132" y="9004"/>
                </a:cubicBezTo>
                <a:cubicBezTo>
                  <a:pt x="18177" y="8922"/>
                  <a:pt x="18199" y="8836"/>
                  <a:pt x="18231" y="8756"/>
                </a:cubicBezTo>
                <a:cubicBezTo>
                  <a:pt x="18256" y="8692"/>
                  <a:pt x="18289" y="8634"/>
                  <a:pt x="18331" y="8582"/>
                </a:cubicBezTo>
                <a:cubicBezTo>
                  <a:pt x="18366" y="8679"/>
                  <a:pt x="18356" y="8775"/>
                  <a:pt x="18380" y="8880"/>
                </a:cubicBezTo>
                <a:cubicBezTo>
                  <a:pt x="18408" y="9000"/>
                  <a:pt x="18477" y="9050"/>
                  <a:pt x="18529" y="9153"/>
                </a:cubicBezTo>
                <a:cubicBezTo>
                  <a:pt x="18566" y="9227"/>
                  <a:pt x="18595" y="9268"/>
                  <a:pt x="18653" y="9327"/>
                </a:cubicBezTo>
              </a:path>
              <a:path w="646" h="746">
                <a:moveTo>
                  <a:pt x="18231" y="9029"/>
                </a:moveTo>
                <a:cubicBezTo>
                  <a:pt x="18381" y="9006"/>
                  <a:pt x="18439" y="9013"/>
                  <a:pt x="18579" y="9029"/>
                </a:cubicBezTo>
                <a:cubicBezTo>
                  <a:pt x="18604" y="9029"/>
                  <a:pt x="18628" y="9029"/>
                  <a:pt x="18653" y="90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6"/>
          <p:cNvSpPr/>
          <p:nvPr/>
        </p:nvSpPr>
        <p:spPr>
          <a:xfrm>
            <a:off x="5776920" y="2874960"/>
            <a:ext cx="563400" cy="223920"/>
          </a:xfrm>
          <a:custGeom>
            <a:avLst/>
            <a:gdLst/>
            <a:ahLst/>
            <a:rect l="l" t="t" r="r" b="b"/>
            <a:pathLst>
              <a:path w="1563" h="621">
                <a:moveTo>
                  <a:pt x="16148" y="7987"/>
                </a:moveTo>
                <a:cubicBezTo>
                  <a:pt x="16115" y="8076"/>
                  <a:pt x="16111" y="8170"/>
                  <a:pt x="16073" y="8260"/>
                </a:cubicBezTo>
                <a:cubicBezTo>
                  <a:pt x="16048" y="8320"/>
                  <a:pt x="16031" y="8416"/>
                  <a:pt x="16049" y="8483"/>
                </a:cubicBezTo>
                <a:cubicBezTo>
                  <a:pt x="16056" y="8511"/>
                  <a:pt x="16114" y="8600"/>
                  <a:pt x="16148" y="8607"/>
                </a:cubicBezTo>
                <a:cubicBezTo>
                  <a:pt x="16243" y="8627"/>
                  <a:pt x="16257" y="8574"/>
                  <a:pt x="16321" y="8533"/>
                </a:cubicBezTo>
                <a:cubicBezTo>
                  <a:pt x="16371" y="8501"/>
                  <a:pt x="16454" y="8418"/>
                  <a:pt x="16446" y="8359"/>
                </a:cubicBezTo>
                <a:cubicBezTo>
                  <a:pt x="16434" y="8270"/>
                  <a:pt x="16372" y="8283"/>
                  <a:pt x="16321" y="8310"/>
                </a:cubicBezTo>
                <a:cubicBezTo>
                  <a:pt x="16239" y="8353"/>
                  <a:pt x="16272" y="8396"/>
                  <a:pt x="16321" y="8458"/>
                </a:cubicBezTo>
              </a:path>
              <a:path w="1563" h="621">
                <a:moveTo>
                  <a:pt x="16520" y="8086"/>
                </a:moveTo>
                <a:cubicBezTo>
                  <a:pt x="16509" y="8188"/>
                  <a:pt x="16475" y="8321"/>
                  <a:pt x="16644" y="8310"/>
                </a:cubicBezTo>
                <a:cubicBezTo>
                  <a:pt x="16652" y="8302"/>
                  <a:pt x="16661" y="8293"/>
                  <a:pt x="16669" y="8285"/>
                </a:cubicBezTo>
              </a:path>
              <a:path w="1563" h="621">
                <a:moveTo>
                  <a:pt x="16694" y="7987"/>
                </a:moveTo>
                <a:cubicBezTo>
                  <a:pt x="16688" y="8055"/>
                  <a:pt x="16690" y="8170"/>
                  <a:pt x="16669" y="8235"/>
                </a:cubicBezTo>
                <a:cubicBezTo>
                  <a:pt x="16651" y="8293"/>
                  <a:pt x="16644" y="8339"/>
                  <a:pt x="16644" y="8409"/>
                </a:cubicBezTo>
                <a:cubicBezTo>
                  <a:pt x="16644" y="8467"/>
                  <a:pt x="16644" y="8524"/>
                  <a:pt x="16644" y="8582"/>
                </a:cubicBezTo>
              </a:path>
              <a:path w="1563" h="621">
                <a:moveTo>
                  <a:pt x="16842" y="8483"/>
                </a:moveTo>
                <a:cubicBezTo>
                  <a:pt x="16842" y="8500"/>
                  <a:pt x="16842" y="8516"/>
                  <a:pt x="16842" y="8533"/>
                </a:cubicBezTo>
              </a:path>
              <a:path w="1563" h="621">
                <a:moveTo>
                  <a:pt x="16942" y="8037"/>
                </a:moveTo>
                <a:cubicBezTo>
                  <a:pt x="16922" y="8108"/>
                  <a:pt x="16904" y="8198"/>
                  <a:pt x="16892" y="8260"/>
                </a:cubicBezTo>
                <a:cubicBezTo>
                  <a:pt x="16882" y="8315"/>
                  <a:pt x="16882" y="8394"/>
                  <a:pt x="16917" y="8434"/>
                </a:cubicBezTo>
                <a:cubicBezTo>
                  <a:pt x="16959" y="8482"/>
                  <a:pt x="17049" y="8509"/>
                  <a:pt x="17115" y="8483"/>
                </a:cubicBezTo>
                <a:cubicBezTo>
                  <a:pt x="17182" y="8457"/>
                  <a:pt x="17184" y="8366"/>
                  <a:pt x="17190" y="8310"/>
                </a:cubicBezTo>
                <a:cubicBezTo>
                  <a:pt x="17122" y="8319"/>
                  <a:pt x="17080" y="8354"/>
                  <a:pt x="17066" y="8434"/>
                </a:cubicBezTo>
                <a:cubicBezTo>
                  <a:pt x="17059" y="8472"/>
                  <a:pt x="17079" y="8584"/>
                  <a:pt x="17115" y="8607"/>
                </a:cubicBezTo>
                <a:cubicBezTo>
                  <a:pt x="17123" y="8607"/>
                  <a:pt x="17132" y="8607"/>
                  <a:pt x="17140" y="8607"/>
                </a:cubicBezTo>
              </a:path>
              <a:path w="1563" h="621">
                <a:moveTo>
                  <a:pt x="17264" y="8086"/>
                </a:moveTo>
                <a:cubicBezTo>
                  <a:pt x="17353" y="8070"/>
                  <a:pt x="17422" y="8064"/>
                  <a:pt x="17388" y="8186"/>
                </a:cubicBezTo>
                <a:cubicBezTo>
                  <a:pt x="17373" y="8241"/>
                  <a:pt x="17302" y="8263"/>
                  <a:pt x="17289" y="8310"/>
                </a:cubicBezTo>
                <a:cubicBezTo>
                  <a:pt x="17273" y="8365"/>
                  <a:pt x="17250" y="8409"/>
                  <a:pt x="17289" y="8458"/>
                </a:cubicBezTo>
                <a:cubicBezTo>
                  <a:pt x="17334" y="8513"/>
                  <a:pt x="17373" y="8502"/>
                  <a:pt x="17438" y="8508"/>
                </a:cubicBezTo>
              </a:path>
              <a:path w="1563" h="621">
                <a:moveTo>
                  <a:pt x="17537" y="8186"/>
                </a:moveTo>
                <a:cubicBezTo>
                  <a:pt x="17512" y="8210"/>
                  <a:pt x="17503" y="8218"/>
                  <a:pt x="17487" y="8235"/>
                </a:cubicBezTo>
                <a:cubicBezTo>
                  <a:pt x="17561" y="8272"/>
                  <a:pt x="17606" y="8280"/>
                  <a:pt x="17611" y="8186"/>
                </a:cubicBezTo>
                <a:cubicBezTo>
                  <a:pt x="17611" y="8136"/>
                  <a:pt x="17611" y="8120"/>
                  <a:pt x="17562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7"/>
          <p:cNvSpPr/>
          <p:nvPr/>
        </p:nvSpPr>
        <p:spPr>
          <a:xfrm>
            <a:off x="5027760" y="3606840"/>
            <a:ext cx="1133280" cy="465120"/>
          </a:xfrm>
          <a:custGeom>
            <a:avLst/>
            <a:gdLst/>
            <a:ahLst/>
            <a:rect l="l" t="t" r="r" b="b"/>
            <a:pathLst>
              <a:path w="3151" h="1291">
                <a:moveTo>
                  <a:pt x="14560" y="10368"/>
                </a:moveTo>
                <a:cubicBezTo>
                  <a:pt x="14560" y="10318"/>
                  <a:pt x="14561" y="10234"/>
                  <a:pt x="14536" y="10195"/>
                </a:cubicBezTo>
                <a:cubicBezTo>
                  <a:pt x="14508" y="10151"/>
                  <a:pt x="14450" y="10109"/>
                  <a:pt x="14412" y="10071"/>
                </a:cubicBezTo>
                <a:cubicBezTo>
                  <a:pt x="14353" y="10012"/>
                  <a:pt x="14299" y="10013"/>
                  <a:pt x="14238" y="10046"/>
                </a:cubicBezTo>
                <a:cubicBezTo>
                  <a:pt x="14146" y="10095"/>
                  <a:pt x="14081" y="10147"/>
                  <a:pt x="14039" y="10244"/>
                </a:cubicBezTo>
                <a:cubicBezTo>
                  <a:pt x="14001" y="10331"/>
                  <a:pt x="13969" y="10422"/>
                  <a:pt x="13965" y="10517"/>
                </a:cubicBezTo>
                <a:cubicBezTo>
                  <a:pt x="13961" y="10626"/>
                  <a:pt x="13980" y="10689"/>
                  <a:pt x="14015" y="10790"/>
                </a:cubicBezTo>
                <a:cubicBezTo>
                  <a:pt x="14053" y="10900"/>
                  <a:pt x="14112" y="10982"/>
                  <a:pt x="14213" y="11038"/>
                </a:cubicBezTo>
                <a:cubicBezTo>
                  <a:pt x="14287" y="11079"/>
                  <a:pt x="14341" y="11071"/>
                  <a:pt x="14412" y="11063"/>
                </a:cubicBezTo>
                <a:cubicBezTo>
                  <a:pt x="14428" y="11063"/>
                  <a:pt x="14445" y="11063"/>
                  <a:pt x="14461" y="11063"/>
                </a:cubicBezTo>
              </a:path>
              <a:path w="3151" h="1291">
                <a:moveTo>
                  <a:pt x="14784" y="10616"/>
                </a:moveTo>
                <a:cubicBezTo>
                  <a:pt x="14775" y="10680"/>
                  <a:pt x="14759" y="10719"/>
                  <a:pt x="14759" y="10790"/>
                </a:cubicBezTo>
                <a:cubicBezTo>
                  <a:pt x="14759" y="10867"/>
                  <a:pt x="14757" y="10925"/>
                  <a:pt x="14808" y="10988"/>
                </a:cubicBezTo>
                <a:cubicBezTo>
                  <a:pt x="14844" y="11032"/>
                  <a:pt x="14926" y="11060"/>
                  <a:pt x="14982" y="11038"/>
                </a:cubicBezTo>
                <a:cubicBezTo>
                  <a:pt x="15016" y="11025"/>
                  <a:pt x="15073" y="10946"/>
                  <a:pt x="15081" y="10914"/>
                </a:cubicBezTo>
                <a:cubicBezTo>
                  <a:pt x="15105" y="10810"/>
                  <a:pt x="15101" y="10758"/>
                  <a:pt x="15056" y="10666"/>
                </a:cubicBezTo>
                <a:cubicBezTo>
                  <a:pt x="15031" y="10614"/>
                  <a:pt x="14993" y="10531"/>
                  <a:pt x="14932" y="10517"/>
                </a:cubicBezTo>
                <a:cubicBezTo>
                  <a:pt x="14863" y="10501"/>
                  <a:pt x="14767" y="10475"/>
                  <a:pt x="14709" y="10517"/>
                </a:cubicBezTo>
                <a:cubicBezTo>
                  <a:pt x="14673" y="10543"/>
                  <a:pt x="14628" y="10649"/>
                  <a:pt x="14660" y="10691"/>
                </a:cubicBezTo>
                <a:cubicBezTo>
                  <a:pt x="14713" y="10718"/>
                  <a:pt x="14733" y="10730"/>
                  <a:pt x="14759" y="10765"/>
                </a:cubicBezTo>
              </a:path>
              <a:path w="3151" h="1291">
                <a:moveTo>
                  <a:pt x="15528" y="10641"/>
                </a:moveTo>
                <a:cubicBezTo>
                  <a:pt x="15421" y="10606"/>
                  <a:pt x="15415" y="10589"/>
                  <a:pt x="15354" y="10592"/>
                </a:cubicBezTo>
                <a:cubicBezTo>
                  <a:pt x="15305" y="10672"/>
                  <a:pt x="15356" y="10685"/>
                  <a:pt x="15404" y="10765"/>
                </a:cubicBezTo>
                <a:cubicBezTo>
                  <a:pt x="15454" y="10848"/>
                  <a:pt x="15511" y="10880"/>
                  <a:pt x="15553" y="10964"/>
                </a:cubicBezTo>
                <a:cubicBezTo>
                  <a:pt x="15583" y="11025"/>
                  <a:pt x="15584" y="11035"/>
                  <a:pt x="15553" y="11088"/>
                </a:cubicBezTo>
                <a:cubicBezTo>
                  <a:pt x="15484" y="11079"/>
                  <a:pt x="15419" y="11067"/>
                  <a:pt x="15354" y="11038"/>
                </a:cubicBezTo>
                <a:cubicBezTo>
                  <a:pt x="15310" y="11016"/>
                  <a:pt x="15299" y="11013"/>
                  <a:pt x="15280" y="10988"/>
                </a:cubicBezTo>
              </a:path>
              <a:path w="3151" h="1291">
                <a:moveTo>
                  <a:pt x="15925" y="10567"/>
                </a:moveTo>
                <a:cubicBezTo>
                  <a:pt x="15901" y="10709"/>
                  <a:pt x="15875" y="10844"/>
                  <a:pt x="15875" y="10988"/>
                </a:cubicBezTo>
                <a:cubicBezTo>
                  <a:pt x="15875" y="11038"/>
                  <a:pt x="15875" y="11087"/>
                  <a:pt x="15875" y="11137"/>
                </a:cubicBezTo>
                <a:cubicBezTo>
                  <a:pt x="15908" y="11017"/>
                  <a:pt x="15936" y="10890"/>
                  <a:pt x="15949" y="10765"/>
                </a:cubicBezTo>
                <a:cubicBezTo>
                  <a:pt x="15960" y="10665"/>
                  <a:pt x="15954" y="10567"/>
                  <a:pt x="15974" y="10468"/>
                </a:cubicBezTo>
                <a:cubicBezTo>
                  <a:pt x="15992" y="10378"/>
                  <a:pt x="15993" y="10253"/>
                  <a:pt x="16024" y="10170"/>
                </a:cubicBezTo>
                <a:cubicBezTo>
                  <a:pt x="16037" y="10136"/>
                  <a:pt x="16054" y="10104"/>
                  <a:pt x="16073" y="10071"/>
                </a:cubicBezTo>
                <a:cubicBezTo>
                  <a:pt x="16105" y="10123"/>
                  <a:pt x="16125" y="10180"/>
                  <a:pt x="16148" y="10244"/>
                </a:cubicBezTo>
                <a:cubicBezTo>
                  <a:pt x="16185" y="10347"/>
                  <a:pt x="16208" y="10437"/>
                  <a:pt x="16247" y="10542"/>
                </a:cubicBezTo>
                <a:cubicBezTo>
                  <a:pt x="16285" y="10645"/>
                  <a:pt x="16325" y="10766"/>
                  <a:pt x="16371" y="10864"/>
                </a:cubicBezTo>
                <a:cubicBezTo>
                  <a:pt x="16425" y="10980"/>
                  <a:pt x="16489" y="11096"/>
                  <a:pt x="16545" y="11212"/>
                </a:cubicBezTo>
                <a:cubicBezTo>
                  <a:pt x="16566" y="11257"/>
                  <a:pt x="16585" y="11277"/>
                  <a:pt x="16619" y="11311"/>
                </a:cubicBezTo>
              </a:path>
              <a:path w="3151" h="1291">
                <a:moveTo>
                  <a:pt x="15949" y="10666"/>
                </a:moveTo>
                <a:cubicBezTo>
                  <a:pt x="16056" y="10630"/>
                  <a:pt x="16134" y="10662"/>
                  <a:pt x="16247" y="10666"/>
                </a:cubicBezTo>
                <a:cubicBezTo>
                  <a:pt x="16321" y="10666"/>
                  <a:pt x="16346" y="10666"/>
                  <a:pt x="16396" y="10666"/>
                </a:cubicBezTo>
              </a:path>
              <a:path w="3151" h="1291">
                <a:moveTo>
                  <a:pt x="16718" y="10567"/>
                </a:moveTo>
                <a:cubicBezTo>
                  <a:pt x="16851" y="10567"/>
                  <a:pt x="16942" y="10578"/>
                  <a:pt x="17066" y="10592"/>
                </a:cubicBezTo>
              </a:path>
              <a:path w="3151" h="1291">
                <a:moveTo>
                  <a:pt x="16768" y="10790"/>
                </a:moveTo>
                <a:cubicBezTo>
                  <a:pt x="16937" y="10862"/>
                  <a:pt x="16990" y="10887"/>
                  <a:pt x="17115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8"/>
          <p:cNvSpPr/>
          <p:nvPr/>
        </p:nvSpPr>
        <p:spPr>
          <a:xfrm>
            <a:off x="6348240" y="3527280"/>
            <a:ext cx="689040" cy="642960"/>
          </a:xfrm>
          <a:custGeom>
            <a:avLst/>
            <a:gdLst/>
            <a:ahLst/>
            <a:rect l="l" t="t" r="r" b="b"/>
            <a:pathLst>
              <a:path w="1911" h="1787">
                <a:moveTo>
                  <a:pt x="17636" y="9872"/>
                </a:moveTo>
                <a:cubicBezTo>
                  <a:pt x="17636" y="10001"/>
                  <a:pt x="17649" y="10120"/>
                  <a:pt x="17661" y="10244"/>
                </a:cubicBezTo>
                <a:cubicBezTo>
                  <a:pt x="17667" y="10309"/>
                  <a:pt x="17662" y="10429"/>
                  <a:pt x="17686" y="10492"/>
                </a:cubicBezTo>
                <a:cubicBezTo>
                  <a:pt x="17711" y="10517"/>
                  <a:pt x="17719" y="10525"/>
                  <a:pt x="17735" y="10542"/>
                </a:cubicBezTo>
              </a:path>
              <a:path w="1911" h="1787">
                <a:moveTo>
                  <a:pt x="18182" y="9971"/>
                </a:moveTo>
                <a:cubicBezTo>
                  <a:pt x="18128" y="9917"/>
                  <a:pt x="18080" y="9852"/>
                  <a:pt x="18008" y="9823"/>
                </a:cubicBezTo>
                <a:cubicBezTo>
                  <a:pt x="17948" y="9803"/>
                  <a:pt x="17933" y="9784"/>
                  <a:pt x="17909" y="9823"/>
                </a:cubicBezTo>
                <a:cubicBezTo>
                  <a:pt x="17881" y="9904"/>
                  <a:pt x="17948" y="9993"/>
                  <a:pt x="18008" y="10071"/>
                </a:cubicBezTo>
                <a:cubicBezTo>
                  <a:pt x="18067" y="10148"/>
                  <a:pt x="18095" y="10223"/>
                  <a:pt x="18107" y="10319"/>
                </a:cubicBezTo>
                <a:cubicBezTo>
                  <a:pt x="18116" y="10397"/>
                  <a:pt x="18104" y="10397"/>
                  <a:pt x="18058" y="10443"/>
                </a:cubicBezTo>
                <a:cubicBezTo>
                  <a:pt x="18006" y="10391"/>
                  <a:pt x="17992" y="10350"/>
                  <a:pt x="18008" y="10269"/>
                </a:cubicBezTo>
                <a:cubicBezTo>
                  <a:pt x="18024" y="10188"/>
                  <a:pt x="18064" y="10156"/>
                  <a:pt x="18132" y="10120"/>
                </a:cubicBezTo>
                <a:cubicBezTo>
                  <a:pt x="18149" y="10112"/>
                  <a:pt x="18165" y="10104"/>
                  <a:pt x="18182" y="10096"/>
                </a:cubicBezTo>
              </a:path>
              <a:path w="1911" h="1787">
                <a:moveTo>
                  <a:pt x="18430" y="9823"/>
                </a:moveTo>
                <a:cubicBezTo>
                  <a:pt x="18407" y="9993"/>
                  <a:pt x="18387" y="10153"/>
                  <a:pt x="18355" y="10319"/>
                </a:cubicBezTo>
                <a:cubicBezTo>
                  <a:pt x="18327" y="10466"/>
                  <a:pt x="18288" y="10617"/>
                  <a:pt x="18281" y="10765"/>
                </a:cubicBezTo>
                <a:cubicBezTo>
                  <a:pt x="18272" y="10940"/>
                  <a:pt x="18262" y="11113"/>
                  <a:pt x="18256" y="11286"/>
                </a:cubicBezTo>
                <a:cubicBezTo>
                  <a:pt x="18255" y="11316"/>
                  <a:pt x="18231" y="11535"/>
                  <a:pt x="18281" y="11534"/>
                </a:cubicBezTo>
                <a:cubicBezTo>
                  <a:pt x="18281" y="11526"/>
                  <a:pt x="18281" y="11517"/>
                  <a:pt x="18281" y="11509"/>
                </a:cubicBezTo>
              </a:path>
              <a:path w="1911" h="1787">
                <a:moveTo>
                  <a:pt x="18504" y="10840"/>
                </a:moveTo>
                <a:cubicBezTo>
                  <a:pt x="18433" y="10890"/>
                  <a:pt x="18427" y="10907"/>
                  <a:pt x="18455" y="10988"/>
                </a:cubicBezTo>
                <a:cubicBezTo>
                  <a:pt x="18478" y="11054"/>
                  <a:pt x="18549" y="11100"/>
                  <a:pt x="18604" y="11137"/>
                </a:cubicBezTo>
                <a:cubicBezTo>
                  <a:pt x="18709" y="11207"/>
                  <a:pt x="18725" y="11199"/>
                  <a:pt x="18802" y="11112"/>
                </a:cubicBezTo>
              </a:path>
              <a:path w="1911" h="1787">
                <a:moveTo>
                  <a:pt x="18777" y="10666"/>
                </a:moveTo>
                <a:cubicBezTo>
                  <a:pt x="18739" y="10763"/>
                  <a:pt x="18728" y="10836"/>
                  <a:pt x="18728" y="10939"/>
                </a:cubicBezTo>
                <a:cubicBezTo>
                  <a:pt x="18728" y="11081"/>
                  <a:pt x="18761" y="11182"/>
                  <a:pt x="18777" y="11311"/>
                </a:cubicBezTo>
                <a:cubicBezTo>
                  <a:pt x="18787" y="11390"/>
                  <a:pt x="18777" y="11518"/>
                  <a:pt x="18827" y="11584"/>
                </a:cubicBezTo>
                <a:cubicBezTo>
                  <a:pt x="18827" y="11576"/>
                  <a:pt x="18827" y="11567"/>
                  <a:pt x="18827" y="11559"/>
                </a:cubicBezTo>
              </a:path>
              <a:path w="1911" h="1787">
                <a:moveTo>
                  <a:pt x="19000" y="10939"/>
                </a:moveTo>
                <a:cubicBezTo>
                  <a:pt x="19051" y="10846"/>
                  <a:pt x="19074" y="10776"/>
                  <a:pt x="19199" y="10815"/>
                </a:cubicBezTo>
                <a:cubicBezTo>
                  <a:pt x="19299" y="10846"/>
                  <a:pt x="19251" y="11069"/>
                  <a:pt x="19248" y="11112"/>
                </a:cubicBezTo>
                <a:cubicBezTo>
                  <a:pt x="19244" y="11179"/>
                  <a:pt x="19235" y="11268"/>
                  <a:pt x="19174" y="11311"/>
                </a:cubicBezTo>
                <a:cubicBezTo>
                  <a:pt x="19104" y="11361"/>
                  <a:pt x="19091" y="11399"/>
                  <a:pt x="19000" y="11410"/>
                </a:cubicBezTo>
                <a:cubicBezTo>
                  <a:pt x="19000" y="11324"/>
                  <a:pt x="18985" y="11267"/>
                  <a:pt x="19100" y="11286"/>
                </a:cubicBezTo>
                <a:cubicBezTo>
                  <a:pt x="19175" y="11298"/>
                  <a:pt x="19255" y="11355"/>
                  <a:pt x="19323" y="11385"/>
                </a:cubicBezTo>
                <a:cubicBezTo>
                  <a:pt x="19369" y="11406"/>
                  <a:pt x="19430" y="11473"/>
                  <a:pt x="19472" y="11485"/>
                </a:cubicBezTo>
                <a:cubicBezTo>
                  <a:pt x="19516" y="11485"/>
                  <a:pt x="19530" y="11488"/>
                  <a:pt x="19546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9"/>
          <p:cNvSpPr/>
          <p:nvPr/>
        </p:nvSpPr>
        <p:spPr>
          <a:xfrm>
            <a:off x="5680080" y="4384800"/>
            <a:ext cx="2330280" cy="822240"/>
          </a:xfrm>
          <a:custGeom>
            <a:avLst/>
            <a:gdLst/>
            <a:ahLst/>
            <a:rect l="l" t="t" r="r" b="b"/>
            <a:pathLst>
              <a:path w="6475" h="2283">
                <a:moveTo>
                  <a:pt x="15900" y="13097"/>
                </a:moveTo>
                <a:cubicBezTo>
                  <a:pt x="15828" y="13276"/>
                  <a:pt x="15776" y="13429"/>
                  <a:pt x="15801" y="13618"/>
                </a:cubicBezTo>
                <a:cubicBezTo>
                  <a:pt x="15801" y="13748"/>
                  <a:pt x="15847" y="13493"/>
                  <a:pt x="15850" y="13469"/>
                </a:cubicBezTo>
                <a:cubicBezTo>
                  <a:pt x="15870" y="13312"/>
                  <a:pt x="15900" y="13154"/>
                  <a:pt x="15925" y="12998"/>
                </a:cubicBezTo>
                <a:cubicBezTo>
                  <a:pt x="15946" y="12866"/>
                  <a:pt x="15982" y="12734"/>
                  <a:pt x="15999" y="12601"/>
                </a:cubicBezTo>
                <a:cubicBezTo>
                  <a:pt x="16011" y="12510"/>
                  <a:pt x="16038" y="12415"/>
                  <a:pt x="16049" y="12328"/>
                </a:cubicBezTo>
                <a:cubicBezTo>
                  <a:pt x="16058" y="12260"/>
                  <a:pt x="16067" y="12242"/>
                  <a:pt x="16073" y="12179"/>
                </a:cubicBezTo>
                <a:cubicBezTo>
                  <a:pt x="16110" y="12228"/>
                  <a:pt x="16139" y="12262"/>
                  <a:pt x="16148" y="12328"/>
                </a:cubicBezTo>
                <a:cubicBezTo>
                  <a:pt x="16161" y="12428"/>
                  <a:pt x="16163" y="12530"/>
                  <a:pt x="16197" y="12626"/>
                </a:cubicBezTo>
                <a:cubicBezTo>
                  <a:pt x="16242" y="12754"/>
                  <a:pt x="16309" y="12902"/>
                  <a:pt x="16371" y="13022"/>
                </a:cubicBezTo>
                <a:cubicBezTo>
                  <a:pt x="16445" y="13165"/>
                  <a:pt x="16521" y="13303"/>
                  <a:pt x="16594" y="13444"/>
                </a:cubicBezTo>
                <a:cubicBezTo>
                  <a:pt x="16636" y="13527"/>
                  <a:pt x="16636" y="13551"/>
                  <a:pt x="16694" y="13568"/>
                </a:cubicBezTo>
              </a:path>
              <a:path w="6475" h="2283">
                <a:moveTo>
                  <a:pt x="15949" y="12849"/>
                </a:moveTo>
                <a:cubicBezTo>
                  <a:pt x="16133" y="12899"/>
                  <a:pt x="16308" y="12960"/>
                  <a:pt x="16495" y="12973"/>
                </a:cubicBezTo>
              </a:path>
              <a:path w="6475" h="2283">
                <a:moveTo>
                  <a:pt x="16644" y="12923"/>
                </a:moveTo>
                <a:cubicBezTo>
                  <a:pt x="16745" y="12940"/>
                  <a:pt x="16843" y="12962"/>
                  <a:pt x="16942" y="12973"/>
                </a:cubicBezTo>
              </a:path>
              <a:path w="6475" h="2283">
                <a:moveTo>
                  <a:pt x="16718" y="13097"/>
                </a:moveTo>
                <a:cubicBezTo>
                  <a:pt x="16809" y="13133"/>
                  <a:pt x="16894" y="13167"/>
                  <a:pt x="16991" y="13171"/>
                </a:cubicBezTo>
                <a:cubicBezTo>
                  <a:pt x="17016" y="13171"/>
                  <a:pt x="17041" y="13171"/>
                  <a:pt x="17066" y="13171"/>
                </a:cubicBezTo>
              </a:path>
              <a:path w="6475" h="2283">
                <a:moveTo>
                  <a:pt x="17636" y="12849"/>
                </a:moveTo>
                <a:cubicBezTo>
                  <a:pt x="17676" y="12908"/>
                  <a:pt x="17680" y="12920"/>
                  <a:pt x="17711" y="12948"/>
                </a:cubicBezTo>
                <a:cubicBezTo>
                  <a:pt x="17759" y="12887"/>
                  <a:pt x="17780" y="12847"/>
                  <a:pt x="17735" y="12774"/>
                </a:cubicBezTo>
                <a:cubicBezTo>
                  <a:pt x="17689" y="12698"/>
                  <a:pt x="17600" y="12724"/>
                  <a:pt x="17537" y="12750"/>
                </a:cubicBezTo>
                <a:cubicBezTo>
                  <a:pt x="17465" y="12780"/>
                  <a:pt x="17425" y="12895"/>
                  <a:pt x="17438" y="12973"/>
                </a:cubicBezTo>
                <a:cubicBezTo>
                  <a:pt x="17455" y="13079"/>
                  <a:pt x="17498" y="13232"/>
                  <a:pt x="17562" y="13320"/>
                </a:cubicBezTo>
                <a:cubicBezTo>
                  <a:pt x="17640" y="13428"/>
                  <a:pt x="17707" y="13493"/>
                  <a:pt x="17835" y="13519"/>
                </a:cubicBezTo>
              </a:path>
              <a:path w="6475" h="2283">
                <a:moveTo>
                  <a:pt x="18058" y="13047"/>
                </a:moveTo>
                <a:cubicBezTo>
                  <a:pt x="18073" y="12956"/>
                  <a:pt x="18083" y="12889"/>
                  <a:pt x="18083" y="12799"/>
                </a:cubicBezTo>
                <a:cubicBezTo>
                  <a:pt x="18032" y="12850"/>
                  <a:pt x="18019" y="12898"/>
                  <a:pt x="18008" y="12973"/>
                </a:cubicBezTo>
                <a:cubicBezTo>
                  <a:pt x="17992" y="13083"/>
                  <a:pt x="18028" y="13169"/>
                  <a:pt x="18058" y="13271"/>
                </a:cubicBezTo>
                <a:cubicBezTo>
                  <a:pt x="18094" y="13393"/>
                  <a:pt x="18110" y="13536"/>
                  <a:pt x="18256" y="13568"/>
                </a:cubicBezTo>
                <a:cubicBezTo>
                  <a:pt x="18321" y="13582"/>
                  <a:pt x="18390" y="13532"/>
                  <a:pt x="18405" y="13469"/>
                </a:cubicBezTo>
                <a:cubicBezTo>
                  <a:pt x="18428" y="13371"/>
                  <a:pt x="18445" y="13248"/>
                  <a:pt x="18430" y="13146"/>
                </a:cubicBezTo>
                <a:cubicBezTo>
                  <a:pt x="18417" y="13052"/>
                  <a:pt x="18369" y="12965"/>
                  <a:pt x="18306" y="12898"/>
                </a:cubicBezTo>
                <a:cubicBezTo>
                  <a:pt x="18244" y="12832"/>
                  <a:pt x="18195" y="12789"/>
                  <a:pt x="18107" y="12774"/>
                </a:cubicBezTo>
                <a:cubicBezTo>
                  <a:pt x="18053" y="12765"/>
                  <a:pt x="17987" y="12812"/>
                  <a:pt x="18008" y="12874"/>
                </a:cubicBezTo>
                <a:cubicBezTo>
                  <a:pt x="18025" y="12907"/>
                  <a:pt x="18041" y="12940"/>
                  <a:pt x="18058" y="12973"/>
                </a:cubicBezTo>
              </a:path>
              <a:path w="6475" h="2283">
                <a:moveTo>
                  <a:pt x="18678" y="12799"/>
                </a:moveTo>
                <a:cubicBezTo>
                  <a:pt x="18605" y="12757"/>
                  <a:pt x="18629" y="12753"/>
                  <a:pt x="18554" y="12774"/>
                </a:cubicBezTo>
                <a:cubicBezTo>
                  <a:pt x="18544" y="12883"/>
                  <a:pt x="18595" y="13013"/>
                  <a:pt x="18653" y="13122"/>
                </a:cubicBezTo>
                <a:cubicBezTo>
                  <a:pt x="18699" y="13208"/>
                  <a:pt x="18767" y="13305"/>
                  <a:pt x="18777" y="13395"/>
                </a:cubicBezTo>
                <a:cubicBezTo>
                  <a:pt x="18785" y="13469"/>
                  <a:pt x="18741" y="13490"/>
                  <a:pt x="18678" y="13494"/>
                </a:cubicBezTo>
                <a:cubicBezTo>
                  <a:pt x="18584" y="13500"/>
                  <a:pt x="18539" y="13405"/>
                  <a:pt x="18529" y="13320"/>
                </a:cubicBezTo>
                <a:cubicBezTo>
                  <a:pt x="18529" y="13295"/>
                  <a:pt x="18529" y="13271"/>
                  <a:pt x="18529" y="13246"/>
                </a:cubicBezTo>
              </a:path>
              <a:path w="6475" h="2283">
                <a:moveTo>
                  <a:pt x="18852" y="12601"/>
                </a:moveTo>
                <a:cubicBezTo>
                  <a:pt x="18999" y="12601"/>
                  <a:pt x="19029" y="12603"/>
                  <a:pt x="19149" y="12526"/>
                </a:cubicBezTo>
              </a:path>
              <a:path w="6475" h="2283">
                <a:moveTo>
                  <a:pt x="19273" y="12229"/>
                </a:moveTo>
                <a:cubicBezTo>
                  <a:pt x="19252" y="12306"/>
                  <a:pt x="19232" y="12395"/>
                  <a:pt x="19248" y="12477"/>
                </a:cubicBezTo>
                <a:cubicBezTo>
                  <a:pt x="19265" y="12565"/>
                  <a:pt x="19273" y="12633"/>
                  <a:pt x="19273" y="12725"/>
                </a:cubicBezTo>
                <a:cubicBezTo>
                  <a:pt x="19273" y="12766"/>
                  <a:pt x="19273" y="12774"/>
                  <a:pt x="19273" y="12799"/>
                </a:cubicBezTo>
              </a:path>
              <a:path w="6475" h="2283">
                <a:moveTo>
                  <a:pt x="19819" y="12229"/>
                </a:moveTo>
                <a:cubicBezTo>
                  <a:pt x="19769" y="12341"/>
                  <a:pt x="19711" y="12436"/>
                  <a:pt x="19670" y="12551"/>
                </a:cubicBezTo>
                <a:cubicBezTo>
                  <a:pt x="19624" y="12681"/>
                  <a:pt x="19599" y="12811"/>
                  <a:pt x="19596" y="12948"/>
                </a:cubicBezTo>
                <a:cubicBezTo>
                  <a:pt x="19592" y="13103"/>
                  <a:pt x="19613" y="13269"/>
                  <a:pt x="19645" y="13419"/>
                </a:cubicBezTo>
                <a:cubicBezTo>
                  <a:pt x="19673" y="13548"/>
                  <a:pt x="19728" y="13634"/>
                  <a:pt x="19819" y="13717"/>
                </a:cubicBezTo>
              </a:path>
              <a:path w="6475" h="2283">
                <a:moveTo>
                  <a:pt x="20017" y="12576"/>
                </a:moveTo>
                <a:cubicBezTo>
                  <a:pt x="20026" y="12683"/>
                  <a:pt x="20049" y="12793"/>
                  <a:pt x="20067" y="12898"/>
                </a:cubicBezTo>
                <a:cubicBezTo>
                  <a:pt x="20094" y="13054"/>
                  <a:pt x="20117" y="13183"/>
                  <a:pt x="20117" y="13345"/>
                </a:cubicBezTo>
                <a:cubicBezTo>
                  <a:pt x="20117" y="13395"/>
                  <a:pt x="20117" y="13444"/>
                  <a:pt x="20117" y="13494"/>
                </a:cubicBezTo>
              </a:path>
              <a:path w="6475" h="2283">
                <a:moveTo>
                  <a:pt x="20513" y="12799"/>
                </a:moveTo>
                <a:cubicBezTo>
                  <a:pt x="20444" y="12721"/>
                  <a:pt x="20433" y="12698"/>
                  <a:pt x="20340" y="12725"/>
                </a:cubicBezTo>
                <a:cubicBezTo>
                  <a:pt x="20340" y="12849"/>
                  <a:pt x="20359" y="12951"/>
                  <a:pt x="20389" y="13072"/>
                </a:cubicBezTo>
                <a:cubicBezTo>
                  <a:pt x="20410" y="13156"/>
                  <a:pt x="20438" y="13282"/>
                  <a:pt x="20414" y="13370"/>
                </a:cubicBezTo>
                <a:cubicBezTo>
                  <a:pt x="20398" y="13430"/>
                  <a:pt x="20339" y="13482"/>
                  <a:pt x="20290" y="13419"/>
                </a:cubicBezTo>
                <a:cubicBezTo>
                  <a:pt x="20243" y="13359"/>
                  <a:pt x="20263" y="13282"/>
                  <a:pt x="20290" y="13221"/>
                </a:cubicBezTo>
                <a:cubicBezTo>
                  <a:pt x="20322" y="13150"/>
                  <a:pt x="20362" y="13079"/>
                  <a:pt x="20414" y="13022"/>
                </a:cubicBezTo>
                <a:cubicBezTo>
                  <a:pt x="20461" y="12970"/>
                  <a:pt x="20501" y="12933"/>
                  <a:pt x="20538" y="12874"/>
                </a:cubicBezTo>
              </a:path>
              <a:path w="6475" h="2283">
                <a:moveTo>
                  <a:pt x="20910" y="12626"/>
                </a:moveTo>
                <a:cubicBezTo>
                  <a:pt x="20900" y="12805"/>
                  <a:pt x="20853" y="12968"/>
                  <a:pt x="20811" y="13146"/>
                </a:cubicBezTo>
                <a:cubicBezTo>
                  <a:pt x="20780" y="13278"/>
                  <a:pt x="20750" y="13409"/>
                  <a:pt x="20737" y="13543"/>
                </a:cubicBezTo>
                <a:cubicBezTo>
                  <a:pt x="20730" y="13616"/>
                  <a:pt x="20737" y="13693"/>
                  <a:pt x="20737" y="13767"/>
                </a:cubicBezTo>
              </a:path>
              <a:path w="6475" h="2283">
                <a:moveTo>
                  <a:pt x="20935" y="12973"/>
                </a:moveTo>
                <a:cubicBezTo>
                  <a:pt x="20970" y="13064"/>
                  <a:pt x="21003" y="13113"/>
                  <a:pt x="21059" y="13196"/>
                </a:cubicBezTo>
                <a:cubicBezTo>
                  <a:pt x="21100" y="13256"/>
                  <a:pt x="21121" y="13281"/>
                  <a:pt x="21183" y="13320"/>
                </a:cubicBezTo>
              </a:path>
              <a:path w="6475" h="2283">
                <a:moveTo>
                  <a:pt x="21332" y="12700"/>
                </a:moveTo>
                <a:cubicBezTo>
                  <a:pt x="21288" y="12788"/>
                  <a:pt x="21279" y="12855"/>
                  <a:pt x="21258" y="12948"/>
                </a:cubicBezTo>
                <a:cubicBezTo>
                  <a:pt x="21231" y="13069"/>
                  <a:pt x="21258" y="13192"/>
                  <a:pt x="21258" y="13320"/>
                </a:cubicBezTo>
                <a:cubicBezTo>
                  <a:pt x="21258" y="13411"/>
                  <a:pt x="21258" y="13502"/>
                  <a:pt x="21258" y="13593"/>
                </a:cubicBezTo>
              </a:path>
              <a:path w="6475" h="2283">
                <a:moveTo>
                  <a:pt x="21481" y="12973"/>
                </a:moveTo>
                <a:cubicBezTo>
                  <a:pt x="21555" y="12908"/>
                  <a:pt x="21605" y="12866"/>
                  <a:pt x="21704" y="12923"/>
                </a:cubicBezTo>
                <a:cubicBezTo>
                  <a:pt x="21753" y="12951"/>
                  <a:pt x="21717" y="13035"/>
                  <a:pt x="21704" y="13072"/>
                </a:cubicBezTo>
                <a:cubicBezTo>
                  <a:pt x="21669" y="13170"/>
                  <a:pt x="21576" y="13248"/>
                  <a:pt x="21530" y="13345"/>
                </a:cubicBezTo>
                <a:cubicBezTo>
                  <a:pt x="21494" y="13422"/>
                  <a:pt x="21488" y="13492"/>
                  <a:pt x="21506" y="13568"/>
                </a:cubicBezTo>
                <a:cubicBezTo>
                  <a:pt x="21523" y="13639"/>
                  <a:pt x="21530" y="13779"/>
                  <a:pt x="21630" y="13791"/>
                </a:cubicBezTo>
                <a:cubicBezTo>
                  <a:pt x="21766" y="13791"/>
                  <a:pt x="21816" y="13784"/>
                  <a:pt x="21878" y="13692"/>
                </a:cubicBezTo>
              </a:path>
              <a:path w="6475" h="2283">
                <a:moveTo>
                  <a:pt x="21927" y="12303"/>
                </a:moveTo>
                <a:cubicBezTo>
                  <a:pt x="22065" y="12548"/>
                  <a:pt x="22175" y="12788"/>
                  <a:pt x="22225" y="13072"/>
                </a:cubicBezTo>
                <a:cubicBezTo>
                  <a:pt x="22286" y="13418"/>
                  <a:pt x="22223" y="13687"/>
                  <a:pt x="22126" y="14015"/>
                </a:cubicBezTo>
                <a:cubicBezTo>
                  <a:pt x="22062" y="14232"/>
                  <a:pt x="21945" y="14413"/>
                  <a:pt x="21704" y="14461"/>
                </a:cubicBezTo>
                <a:cubicBezTo>
                  <a:pt x="21663" y="14461"/>
                  <a:pt x="21621" y="14461"/>
                  <a:pt x="21580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20"/>
          <p:cNvSpPr/>
          <p:nvPr/>
        </p:nvSpPr>
        <p:spPr>
          <a:xfrm>
            <a:off x="5776920" y="4991040"/>
            <a:ext cx="1474920" cy="608040"/>
          </a:xfrm>
          <a:custGeom>
            <a:avLst/>
            <a:gdLst/>
            <a:ahLst/>
            <a:rect l="l" t="t" r="r" b="b"/>
            <a:pathLst>
              <a:path w="4093" h="1688">
                <a:moveTo>
                  <a:pt x="16098" y="14734"/>
                </a:moveTo>
                <a:cubicBezTo>
                  <a:pt x="16073" y="14802"/>
                  <a:pt x="16065" y="14857"/>
                  <a:pt x="16049" y="14932"/>
                </a:cubicBezTo>
                <a:cubicBezTo>
                  <a:pt x="16073" y="14833"/>
                  <a:pt x="16076" y="14733"/>
                  <a:pt x="16098" y="14635"/>
                </a:cubicBezTo>
                <a:cubicBezTo>
                  <a:pt x="16129" y="14496"/>
                  <a:pt x="16136" y="14353"/>
                  <a:pt x="16173" y="14213"/>
                </a:cubicBezTo>
                <a:cubicBezTo>
                  <a:pt x="16196" y="14125"/>
                  <a:pt x="16232" y="14046"/>
                  <a:pt x="16272" y="13965"/>
                </a:cubicBezTo>
                <a:cubicBezTo>
                  <a:pt x="16295" y="13920"/>
                  <a:pt x="16311" y="13901"/>
                  <a:pt x="16346" y="13866"/>
                </a:cubicBezTo>
                <a:cubicBezTo>
                  <a:pt x="16442" y="13934"/>
                  <a:pt x="16388" y="13970"/>
                  <a:pt x="16446" y="14064"/>
                </a:cubicBezTo>
                <a:cubicBezTo>
                  <a:pt x="16511" y="14171"/>
                  <a:pt x="16534" y="14261"/>
                  <a:pt x="16570" y="14387"/>
                </a:cubicBezTo>
                <a:cubicBezTo>
                  <a:pt x="16617" y="14552"/>
                  <a:pt x="16712" y="14711"/>
                  <a:pt x="16768" y="14883"/>
                </a:cubicBezTo>
                <a:cubicBezTo>
                  <a:pt x="16793" y="14960"/>
                  <a:pt x="16838" y="15015"/>
                  <a:pt x="16867" y="15081"/>
                </a:cubicBezTo>
                <a:cubicBezTo>
                  <a:pt x="16867" y="15089"/>
                  <a:pt x="16867" y="15098"/>
                  <a:pt x="16867" y="15106"/>
                </a:cubicBezTo>
              </a:path>
              <a:path w="4093" h="1688">
                <a:moveTo>
                  <a:pt x="16049" y="14461"/>
                </a:moveTo>
                <a:cubicBezTo>
                  <a:pt x="16198" y="14502"/>
                  <a:pt x="16343" y="14530"/>
                  <a:pt x="16495" y="14560"/>
                </a:cubicBezTo>
              </a:path>
              <a:path w="4093" h="1688">
                <a:moveTo>
                  <a:pt x="17016" y="14461"/>
                </a:moveTo>
                <a:cubicBezTo>
                  <a:pt x="17109" y="14480"/>
                  <a:pt x="17196" y="14511"/>
                  <a:pt x="17289" y="14511"/>
                </a:cubicBezTo>
              </a:path>
              <a:path w="4093" h="1688">
                <a:moveTo>
                  <a:pt x="17041" y="14759"/>
                </a:moveTo>
                <a:cubicBezTo>
                  <a:pt x="17225" y="14864"/>
                  <a:pt x="17210" y="14873"/>
                  <a:pt x="17388" y="14808"/>
                </a:cubicBezTo>
              </a:path>
              <a:path w="4093" h="1688">
                <a:moveTo>
                  <a:pt x="17711" y="14288"/>
                </a:moveTo>
                <a:cubicBezTo>
                  <a:pt x="17703" y="14380"/>
                  <a:pt x="17651" y="14448"/>
                  <a:pt x="17636" y="14536"/>
                </a:cubicBezTo>
                <a:cubicBezTo>
                  <a:pt x="17619" y="14637"/>
                  <a:pt x="17590" y="14727"/>
                  <a:pt x="17587" y="14833"/>
                </a:cubicBezTo>
                <a:cubicBezTo>
                  <a:pt x="17583" y="14954"/>
                  <a:pt x="17634" y="15072"/>
                  <a:pt x="17686" y="15180"/>
                </a:cubicBezTo>
                <a:cubicBezTo>
                  <a:pt x="17716" y="15242"/>
                  <a:pt x="17784" y="15300"/>
                  <a:pt x="17859" y="15280"/>
                </a:cubicBezTo>
                <a:cubicBezTo>
                  <a:pt x="17920" y="15264"/>
                  <a:pt x="17974" y="15135"/>
                  <a:pt x="17983" y="15081"/>
                </a:cubicBezTo>
                <a:cubicBezTo>
                  <a:pt x="17997" y="14994"/>
                  <a:pt x="17963" y="14928"/>
                  <a:pt x="17909" y="14883"/>
                </a:cubicBezTo>
                <a:cubicBezTo>
                  <a:pt x="17849" y="14943"/>
                  <a:pt x="17822" y="14991"/>
                  <a:pt x="17810" y="15081"/>
                </a:cubicBezTo>
                <a:cubicBezTo>
                  <a:pt x="17801" y="15145"/>
                  <a:pt x="17796" y="15254"/>
                  <a:pt x="17835" y="15280"/>
                </a:cubicBezTo>
              </a:path>
              <a:path w="4093" h="1688">
                <a:moveTo>
                  <a:pt x="18107" y="14436"/>
                </a:moveTo>
                <a:cubicBezTo>
                  <a:pt x="18107" y="14562"/>
                  <a:pt x="18096" y="14687"/>
                  <a:pt x="18132" y="14808"/>
                </a:cubicBezTo>
                <a:cubicBezTo>
                  <a:pt x="18163" y="14911"/>
                  <a:pt x="18185" y="14931"/>
                  <a:pt x="18281" y="14908"/>
                </a:cubicBezTo>
              </a:path>
              <a:path w="4093" h="1688">
                <a:moveTo>
                  <a:pt x="18430" y="14362"/>
                </a:moveTo>
                <a:cubicBezTo>
                  <a:pt x="18384" y="14454"/>
                  <a:pt x="18405" y="14604"/>
                  <a:pt x="18405" y="14709"/>
                </a:cubicBezTo>
                <a:cubicBezTo>
                  <a:pt x="18405" y="14887"/>
                  <a:pt x="18404" y="15057"/>
                  <a:pt x="18380" y="15230"/>
                </a:cubicBezTo>
                <a:cubicBezTo>
                  <a:pt x="18380" y="15247"/>
                  <a:pt x="18380" y="15263"/>
                  <a:pt x="18380" y="15280"/>
                </a:cubicBezTo>
              </a:path>
              <a:path w="4093" h="1688">
                <a:moveTo>
                  <a:pt x="18554" y="15255"/>
                </a:moveTo>
                <a:cubicBezTo>
                  <a:pt x="18597" y="15298"/>
                  <a:pt x="18614" y="15245"/>
                  <a:pt x="18653" y="15205"/>
                </a:cubicBezTo>
              </a:path>
              <a:path w="4093" h="1688">
                <a:moveTo>
                  <a:pt x="19025" y="14511"/>
                </a:moveTo>
                <a:cubicBezTo>
                  <a:pt x="19045" y="14562"/>
                  <a:pt x="19016" y="14641"/>
                  <a:pt x="19000" y="14709"/>
                </a:cubicBezTo>
                <a:cubicBezTo>
                  <a:pt x="18975" y="14810"/>
                  <a:pt x="18937" y="14903"/>
                  <a:pt x="18926" y="15007"/>
                </a:cubicBezTo>
                <a:cubicBezTo>
                  <a:pt x="18917" y="15095"/>
                  <a:pt x="18958" y="15229"/>
                  <a:pt x="19000" y="15304"/>
                </a:cubicBezTo>
                <a:cubicBezTo>
                  <a:pt x="19032" y="15360"/>
                  <a:pt x="19079" y="15368"/>
                  <a:pt x="19124" y="15329"/>
                </a:cubicBezTo>
                <a:cubicBezTo>
                  <a:pt x="19211" y="15254"/>
                  <a:pt x="19219" y="15222"/>
                  <a:pt x="19224" y="15106"/>
                </a:cubicBezTo>
                <a:cubicBezTo>
                  <a:pt x="19227" y="15031"/>
                  <a:pt x="19226" y="15009"/>
                  <a:pt x="19174" y="14957"/>
                </a:cubicBezTo>
                <a:cubicBezTo>
                  <a:pt x="19143" y="14988"/>
                  <a:pt x="19086" y="15041"/>
                  <a:pt x="19075" y="15081"/>
                </a:cubicBezTo>
                <a:cubicBezTo>
                  <a:pt x="19061" y="15135"/>
                  <a:pt x="19072" y="15274"/>
                  <a:pt x="19075" y="15280"/>
                </a:cubicBezTo>
              </a:path>
              <a:path w="4093" h="1688">
                <a:moveTo>
                  <a:pt x="19372" y="14585"/>
                </a:moveTo>
                <a:cubicBezTo>
                  <a:pt x="19462" y="14512"/>
                  <a:pt x="19491" y="14475"/>
                  <a:pt x="19596" y="14560"/>
                </a:cubicBezTo>
                <a:cubicBezTo>
                  <a:pt x="19638" y="14594"/>
                  <a:pt x="19682" y="14679"/>
                  <a:pt x="19670" y="14734"/>
                </a:cubicBezTo>
                <a:cubicBezTo>
                  <a:pt x="19650" y="14823"/>
                  <a:pt x="19622" y="14836"/>
                  <a:pt x="19571" y="14908"/>
                </a:cubicBezTo>
                <a:cubicBezTo>
                  <a:pt x="19519" y="14981"/>
                  <a:pt x="19464" y="15022"/>
                  <a:pt x="19422" y="15106"/>
                </a:cubicBezTo>
                <a:cubicBezTo>
                  <a:pt x="19384" y="15182"/>
                  <a:pt x="19304" y="15290"/>
                  <a:pt x="19323" y="15379"/>
                </a:cubicBezTo>
                <a:cubicBezTo>
                  <a:pt x="19334" y="15430"/>
                  <a:pt x="19387" y="15468"/>
                  <a:pt x="19422" y="15503"/>
                </a:cubicBezTo>
                <a:cubicBezTo>
                  <a:pt x="19466" y="15547"/>
                  <a:pt x="19503" y="15572"/>
                  <a:pt x="19571" y="15553"/>
                </a:cubicBezTo>
                <a:cubicBezTo>
                  <a:pt x="19625" y="15526"/>
                  <a:pt x="19645" y="15514"/>
                  <a:pt x="19670" y="15478"/>
                </a:cubicBezTo>
              </a:path>
              <a:path w="4093" h="1688">
                <a:moveTo>
                  <a:pt x="19968" y="14461"/>
                </a:moveTo>
                <a:cubicBezTo>
                  <a:pt x="19968" y="14559"/>
                  <a:pt x="20000" y="14642"/>
                  <a:pt x="20017" y="14734"/>
                </a:cubicBezTo>
                <a:cubicBezTo>
                  <a:pt x="20017" y="14786"/>
                  <a:pt x="20018" y="14804"/>
                  <a:pt x="20042" y="14833"/>
                </a:cubicBezTo>
                <a:cubicBezTo>
                  <a:pt x="20111" y="14776"/>
                  <a:pt x="20081" y="14757"/>
                  <a:pt x="20117" y="14684"/>
                </a:cubicBezTo>
                <a:cubicBezTo>
                  <a:pt x="20152" y="14613"/>
                  <a:pt x="20076" y="14486"/>
                  <a:pt x="20042" y="14412"/>
                </a:cubicBezTo>
                <a:cubicBezTo>
                  <a:pt x="19995" y="14309"/>
                  <a:pt x="19936" y="14230"/>
                  <a:pt x="19869" y="141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21"/>
          <p:cNvSpPr/>
          <p:nvPr/>
        </p:nvSpPr>
        <p:spPr>
          <a:xfrm>
            <a:off x="608040" y="1527120"/>
            <a:ext cx="1123920" cy="1062000"/>
          </a:xfrm>
          <a:custGeom>
            <a:avLst/>
            <a:gdLst/>
            <a:ahLst/>
            <a:rect l="l" t="t" r="r" b="b"/>
            <a:pathLst>
              <a:path w="3126" h="2952">
                <a:moveTo>
                  <a:pt x="1836" y="4390"/>
                </a:moveTo>
                <a:cubicBezTo>
                  <a:pt x="1836" y="4747"/>
                  <a:pt x="1833" y="5102"/>
                  <a:pt x="1811" y="5457"/>
                </a:cubicBezTo>
                <a:cubicBezTo>
                  <a:pt x="1799" y="5647"/>
                  <a:pt x="1797" y="5839"/>
                  <a:pt x="1786" y="6028"/>
                </a:cubicBezTo>
                <a:cubicBezTo>
                  <a:pt x="1772" y="6276"/>
                  <a:pt x="1776" y="6524"/>
                  <a:pt x="1761" y="6772"/>
                </a:cubicBezTo>
                <a:cubicBezTo>
                  <a:pt x="1755" y="6870"/>
                  <a:pt x="1750" y="6954"/>
                  <a:pt x="1736" y="7045"/>
                </a:cubicBezTo>
                <a:cubicBezTo>
                  <a:pt x="1718" y="6933"/>
                  <a:pt x="1714" y="6837"/>
                  <a:pt x="1712" y="6722"/>
                </a:cubicBezTo>
                <a:cubicBezTo>
                  <a:pt x="1707" y="6440"/>
                  <a:pt x="1693" y="6160"/>
                  <a:pt x="1687" y="5879"/>
                </a:cubicBezTo>
                <a:cubicBezTo>
                  <a:pt x="1682" y="5628"/>
                  <a:pt x="1695" y="5382"/>
                  <a:pt x="1712" y="5135"/>
                </a:cubicBezTo>
                <a:cubicBezTo>
                  <a:pt x="1723" y="4966"/>
                  <a:pt x="1771" y="4803"/>
                  <a:pt x="1786" y="4638"/>
                </a:cubicBezTo>
                <a:cubicBezTo>
                  <a:pt x="1793" y="4554"/>
                  <a:pt x="1789" y="4447"/>
                  <a:pt x="1811" y="4366"/>
                </a:cubicBezTo>
                <a:cubicBezTo>
                  <a:pt x="1821" y="4328"/>
                  <a:pt x="1871" y="4279"/>
                  <a:pt x="1885" y="4242"/>
                </a:cubicBezTo>
                <a:cubicBezTo>
                  <a:pt x="1943" y="4296"/>
                  <a:pt x="1984" y="4326"/>
                  <a:pt x="2034" y="4390"/>
                </a:cubicBezTo>
                <a:cubicBezTo>
                  <a:pt x="2089" y="4460"/>
                  <a:pt x="2128" y="4576"/>
                  <a:pt x="2183" y="4638"/>
                </a:cubicBezTo>
                <a:cubicBezTo>
                  <a:pt x="2269" y="4733"/>
                  <a:pt x="2365" y="4820"/>
                  <a:pt x="2456" y="4911"/>
                </a:cubicBezTo>
                <a:cubicBezTo>
                  <a:pt x="2678" y="5134"/>
                  <a:pt x="2897" y="5370"/>
                  <a:pt x="3125" y="5581"/>
                </a:cubicBezTo>
                <a:cubicBezTo>
                  <a:pt x="3278" y="5722"/>
                  <a:pt x="3452" y="5854"/>
                  <a:pt x="3597" y="6003"/>
                </a:cubicBezTo>
                <a:cubicBezTo>
                  <a:pt x="3730" y="6139"/>
                  <a:pt x="3900" y="6278"/>
                  <a:pt x="4018" y="6424"/>
                </a:cubicBezTo>
                <a:cubicBezTo>
                  <a:pt x="4147" y="6584"/>
                  <a:pt x="4291" y="6718"/>
                  <a:pt x="4440" y="6871"/>
                </a:cubicBezTo>
                <a:cubicBezTo>
                  <a:pt x="4522" y="6956"/>
                  <a:pt x="4621" y="7044"/>
                  <a:pt x="4713" y="7119"/>
                </a:cubicBezTo>
                <a:cubicBezTo>
                  <a:pt x="4754" y="7153"/>
                  <a:pt x="4747" y="7134"/>
                  <a:pt x="4787" y="7169"/>
                </a:cubicBezTo>
                <a:cubicBezTo>
                  <a:pt x="4731" y="7166"/>
                  <a:pt x="4655" y="7147"/>
                  <a:pt x="4614" y="7144"/>
                </a:cubicBezTo>
                <a:cubicBezTo>
                  <a:pt x="4328" y="7126"/>
                  <a:pt x="4030" y="7119"/>
                  <a:pt x="3746" y="7119"/>
                </a:cubicBezTo>
                <a:cubicBezTo>
                  <a:pt x="3542" y="7119"/>
                  <a:pt x="3351" y="7099"/>
                  <a:pt x="3150" y="7094"/>
                </a:cubicBezTo>
                <a:cubicBezTo>
                  <a:pt x="2990" y="7090"/>
                  <a:pt x="2835" y="7080"/>
                  <a:pt x="2679" y="7069"/>
                </a:cubicBezTo>
                <a:cubicBezTo>
                  <a:pt x="2417" y="7050"/>
                  <a:pt x="2148" y="7069"/>
                  <a:pt x="1885" y="70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22"/>
          <p:cNvSpPr/>
          <p:nvPr/>
        </p:nvSpPr>
        <p:spPr>
          <a:xfrm>
            <a:off x="473040" y="2625840"/>
            <a:ext cx="108000" cy="160200"/>
          </a:xfrm>
          <a:custGeom>
            <a:avLst/>
            <a:gdLst/>
            <a:ahLst/>
            <a:rect l="l" t="t" r="r" b="b"/>
            <a:pathLst>
              <a:path w="298" h="447">
                <a:moveTo>
                  <a:pt x="1588" y="7417"/>
                </a:moveTo>
                <a:cubicBezTo>
                  <a:pt x="1604" y="7375"/>
                  <a:pt x="1598" y="7319"/>
                  <a:pt x="1538" y="7293"/>
                </a:cubicBezTo>
                <a:cubicBezTo>
                  <a:pt x="1482" y="7269"/>
                  <a:pt x="1415" y="7320"/>
                  <a:pt x="1389" y="7367"/>
                </a:cubicBezTo>
                <a:cubicBezTo>
                  <a:pt x="1350" y="7437"/>
                  <a:pt x="1319" y="7515"/>
                  <a:pt x="1315" y="7590"/>
                </a:cubicBezTo>
                <a:cubicBezTo>
                  <a:pt x="1313" y="7635"/>
                  <a:pt x="1335" y="7723"/>
                  <a:pt x="1389" y="7739"/>
                </a:cubicBezTo>
                <a:cubicBezTo>
                  <a:pt x="1452" y="7757"/>
                  <a:pt x="1545" y="7739"/>
                  <a:pt x="1612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23"/>
          <p:cNvSpPr/>
          <p:nvPr/>
        </p:nvSpPr>
        <p:spPr>
          <a:xfrm>
            <a:off x="517680" y="1295280"/>
            <a:ext cx="144360" cy="268560"/>
          </a:xfrm>
          <a:custGeom>
            <a:avLst/>
            <a:gdLst/>
            <a:ahLst/>
            <a:rect l="l" t="t" r="r" b="b"/>
            <a:pathLst>
              <a:path w="398" h="745">
                <a:moveTo>
                  <a:pt x="1513" y="4043"/>
                </a:moveTo>
                <a:cubicBezTo>
                  <a:pt x="1513" y="4139"/>
                  <a:pt x="1523" y="4204"/>
                  <a:pt x="1538" y="4291"/>
                </a:cubicBezTo>
                <a:cubicBezTo>
                  <a:pt x="1538" y="4333"/>
                  <a:pt x="1546" y="4349"/>
                  <a:pt x="1513" y="4341"/>
                </a:cubicBezTo>
                <a:cubicBezTo>
                  <a:pt x="1506" y="4294"/>
                  <a:pt x="1506" y="4213"/>
                  <a:pt x="1488" y="4167"/>
                </a:cubicBezTo>
                <a:cubicBezTo>
                  <a:pt x="1464" y="4104"/>
                  <a:pt x="1463" y="4046"/>
                  <a:pt x="1463" y="3969"/>
                </a:cubicBezTo>
                <a:cubicBezTo>
                  <a:pt x="1463" y="3893"/>
                  <a:pt x="1465" y="3815"/>
                  <a:pt x="1488" y="3746"/>
                </a:cubicBezTo>
                <a:cubicBezTo>
                  <a:pt x="1508" y="3687"/>
                  <a:pt x="1544" y="3613"/>
                  <a:pt x="1612" y="3597"/>
                </a:cubicBezTo>
                <a:cubicBezTo>
                  <a:pt x="1696" y="3578"/>
                  <a:pt x="1709" y="3659"/>
                  <a:pt x="1712" y="3721"/>
                </a:cubicBezTo>
                <a:cubicBezTo>
                  <a:pt x="1716" y="3795"/>
                  <a:pt x="1671" y="3859"/>
                  <a:pt x="1637" y="3919"/>
                </a:cubicBezTo>
                <a:cubicBezTo>
                  <a:pt x="1615" y="3963"/>
                  <a:pt x="1612" y="3974"/>
                  <a:pt x="1588" y="3994"/>
                </a:cubicBezTo>
                <a:cubicBezTo>
                  <a:pt x="1651" y="3951"/>
                  <a:pt x="1714" y="3936"/>
                  <a:pt x="1786" y="3969"/>
                </a:cubicBezTo>
                <a:cubicBezTo>
                  <a:pt x="1855" y="4001"/>
                  <a:pt x="1842" y="4092"/>
                  <a:pt x="1811" y="4142"/>
                </a:cubicBezTo>
                <a:cubicBezTo>
                  <a:pt x="1777" y="4196"/>
                  <a:pt x="1687" y="4208"/>
                  <a:pt x="1637" y="4242"/>
                </a:cubicBezTo>
                <a:cubicBezTo>
                  <a:pt x="1563" y="4292"/>
                  <a:pt x="1529" y="4308"/>
                  <a:pt x="1439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24"/>
          <p:cNvSpPr/>
          <p:nvPr/>
        </p:nvSpPr>
        <p:spPr>
          <a:xfrm>
            <a:off x="1803240" y="2571840"/>
            <a:ext cx="108000" cy="22392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5060" y="7590"/>
                </a:moveTo>
                <a:cubicBezTo>
                  <a:pt x="5037" y="7681"/>
                  <a:pt x="5031" y="7707"/>
                  <a:pt x="5011" y="7764"/>
                </a:cubicBezTo>
                <a:cubicBezTo>
                  <a:pt x="5011" y="7586"/>
                  <a:pt x="5013" y="7416"/>
                  <a:pt x="5035" y="7243"/>
                </a:cubicBezTo>
                <a:cubicBezTo>
                  <a:pt x="5035" y="7191"/>
                  <a:pt x="5036" y="7173"/>
                  <a:pt x="5060" y="7144"/>
                </a:cubicBezTo>
                <a:cubicBezTo>
                  <a:pt x="5126" y="7198"/>
                  <a:pt x="5108" y="7216"/>
                  <a:pt x="5135" y="7293"/>
                </a:cubicBezTo>
                <a:cubicBezTo>
                  <a:pt x="5158" y="7360"/>
                  <a:pt x="5181" y="7428"/>
                  <a:pt x="5209" y="7491"/>
                </a:cubicBezTo>
                <a:cubicBezTo>
                  <a:pt x="5231" y="7541"/>
                  <a:pt x="5253" y="7602"/>
                  <a:pt x="5283" y="7640"/>
                </a:cubicBezTo>
                <a:cubicBezTo>
                  <a:pt x="5311" y="7668"/>
                  <a:pt x="5320" y="7681"/>
                  <a:pt x="5308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25"/>
          <p:cNvSpPr/>
          <p:nvPr/>
        </p:nvSpPr>
        <p:spPr>
          <a:xfrm>
            <a:off x="1768320" y="2705040"/>
            <a:ext cx="11592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4911" y="7615"/>
                </a:moveTo>
                <a:cubicBezTo>
                  <a:pt x="4987" y="7590"/>
                  <a:pt x="5061" y="7611"/>
                  <a:pt x="5135" y="7590"/>
                </a:cubicBezTo>
                <a:cubicBezTo>
                  <a:pt x="5213" y="7568"/>
                  <a:pt x="5213" y="7577"/>
                  <a:pt x="5234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6"/>
          <p:cNvSpPr/>
          <p:nvPr/>
        </p:nvSpPr>
        <p:spPr>
          <a:xfrm>
            <a:off x="366840" y="1982880"/>
            <a:ext cx="133200" cy="20484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1067" y="5507"/>
                </a:moveTo>
                <a:cubicBezTo>
                  <a:pt x="1058" y="5571"/>
                  <a:pt x="1042" y="5609"/>
                  <a:pt x="1042" y="5680"/>
                </a:cubicBezTo>
                <a:cubicBezTo>
                  <a:pt x="1042" y="5768"/>
                  <a:pt x="1011" y="5791"/>
                  <a:pt x="1042" y="5879"/>
                </a:cubicBezTo>
                <a:cubicBezTo>
                  <a:pt x="1073" y="5967"/>
                  <a:pt x="1128" y="6052"/>
                  <a:pt x="1240" y="6028"/>
                </a:cubicBezTo>
                <a:cubicBezTo>
                  <a:pt x="1303" y="6015"/>
                  <a:pt x="1371" y="6002"/>
                  <a:pt x="1389" y="5928"/>
                </a:cubicBezTo>
                <a:cubicBezTo>
                  <a:pt x="1402" y="5873"/>
                  <a:pt x="1338" y="5817"/>
                  <a:pt x="1290" y="5804"/>
                </a:cubicBezTo>
                <a:cubicBezTo>
                  <a:pt x="1239" y="5790"/>
                  <a:pt x="1192" y="5839"/>
                  <a:pt x="1166" y="5879"/>
                </a:cubicBezTo>
                <a:cubicBezTo>
                  <a:pt x="1119" y="5951"/>
                  <a:pt x="1097" y="5965"/>
                  <a:pt x="1091" y="6052"/>
                </a:cubicBezTo>
                <a:cubicBezTo>
                  <a:pt x="1091" y="6060"/>
                  <a:pt x="1091" y="6069"/>
                  <a:pt x="1091" y="60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7"/>
          <p:cNvSpPr/>
          <p:nvPr/>
        </p:nvSpPr>
        <p:spPr>
          <a:xfrm>
            <a:off x="1035000" y="2608200"/>
            <a:ext cx="19080" cy="187560"/>
          </a:xfrm>
          <a:custGeom>
            <a:avLst/>
            <a:gdLst/>
            <a:ahLst/>
            <a:rect l="l" t="t" r="r" b="b"/>
            <a:pathLst>
              <a:path w="51" h="522">
                <a:moveTo>
                  <a:pt x="2877" y="7243"/>
                </a:moveTo>
                <a:cubicBezTo>
                  <a:pt x="2903" y="7313"/>
                  <a:pt x="2902" y="7365"/>
                  <a:pt x="2902" y="7441"/>
                </a:cubicBezTo>
                <a:cubicBezTo>
                  <a:pt x="2902" y="7524"/>
                  <a:pt x="2914" y="7589"/>
                  <a:pt x="2927" y="7665"/>
                </a:cubicBezTo>
                <a:cubicBezTo>
                  <a:pt x="2927" y="7714"/>
                  <a:pt x="2927" y="7731"/>
                  <a:pt x="2927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28"/>
          <p:cNvSpPr/>
          <p:nvPr/>
        </p:nvSpPr>
        <p:spPr>
          <a:xfrm>
            <a:off x="1125360" y="2643120"/>
            <a:ext cx="10656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3175" y="7342"/>
                </a:moveTo>
                <a:cubicBezTo>
                  <a:pt x="3167" y="7430"/>
                  <a:pt x="3138" y="7506"/>
                  <a:pt x="3125" y="7590"/>
                </a:cubicBezTo>
                <a:cubicBezTo>
                  <a:pt x="3108" y="7695"/>
                  <a:pt x="3122" y="7777"/>
                  <a:pt x="3225" y="7813"/>
                </a:cubicBezTo>
                <a:cubicBezTo>
                  <a:pt x="3299" y="7839"/>
                  <a:pt x="3355" y="7757"/>
                  <a:pt x="3398" y="7714"/>
                </a:cubicBezTo>
                <a:cubicBezTo>
                  <a:pt x="3457" y="7655"/>
                  <a:pt x="3418" y="7598"/>
                  <a:pt x="3349" y="7590"/>
                </a:cubicBezTo>
                <a:cubicBezTo>
                  <a:pt x="3275" y="7581"/>
                  <a:pt x="3234" y="7652"/>
                  <a:pt x="3175" y="7689"/>
                </a:cubicBezTo>
                <a:cubicBezTo>
                  <a:pt x="3158" y="7697"/>
                  <a:pt x="3142" y="7706"/>
                  <a:pt x="3125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29"/>
          <p:cNvSpPr/>
          <p:nvPr/>
        </p:nvSpPr>
        <p:spPr>
          <a:xfrm>
            <a:off x="642960" y="2394000"/>
            <a:ext cx="142920" cy="1602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786" y="6648"/>
                </a:moveTo>
                <a:cubicBezTo>
                  <a:pt x="1918" y="6648"/>
                  <a:pt x="2051" y="6648"/>
                  <a:pt x="2183" y="6648"/>
                </a:cubicBezTo>
                <a:cubicBezTo>
                  <a:pt x="2183" y="6768"/>
                  <a:pt x="2172" y="6882"/>
                  <a:pt x="2158" y="6995"/>
                </a:cubicBezTo>
                <a:cubicBezTo>
                  <a:pt x="2158" y="7056"/>
                  <a:pt x="2149" y="7072"/>
                  <a:pt x="2183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30"/>
          <p:cNvSpPr/>
          <p:nvPr/>
        </p:nvSpPr>
        <p:spPr>
          <a:xfrm>
            <a:off x="1295280" y="1758960"/>
            <a:ext cx="17640" cy="214200"/>
          </a:xfrm>
          <a:custGeom>
            <a:avLst/>
            <a:gdLst/>
            <a:ahLst/>
            <a:rect l="l" t="t" r="r" b="b"/>
            <a:pathLst>
              <a:path w="50" h="596">
                <a:moveTo>
                  <a:pt x="3621" y="4887"/>
                </a:moveTo>
                <a:cubicBezTo>
                  <a:pt x="3621" y="5012"/>
                  <a:pt x="3614" y="5114"/>
                  <a:pt x="3597" y="5234"/>
                </a:cubicBezTo>
                <a:cubicBezTo>
                  <a:pt x="3587" y="5308"/>
                  <a:pt x="3610" y="5373"/>
                  <a:pt x="3621" y="5432"/>
                </a:cubicBezTo>
                <a:cubicBezTo>
                  <a:pt x="3621" y="5477"/>
                  <a:pt x="3618" y="5497"/>
                  <a:pt x="3646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31"/>
          <p:cNvSpPr/>
          <p:nvPr/>
        </p:nvSpPr>
        <p:spPr>
          <a:xfrm>
            <a:off x="1393920" y="1758960"/>
            <a:ext cx="1332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3870" y="4911"/>
                </a:moveTo>
                <a:cubicBezTo>
                  <a:pt x="3936" y="4951"/>
                  <a:pt x="3957" y="4923"/>
                  <a:pt x="4018" y="4911"/>
                </a:cubicBezTo>
                <a:cubicBezTo>
                  <a:pt x="4089" y="4897"/>
                  <a:pt x="4170" y="4895"/>
                  <a:pt x="4242" y="4887"/>
                </a:cubicBezTo>
                <a:cubicBezTo>
                  <a:pt x="4242" y="4953"/>
                  <a:pt x="4244" y="5030"/>
                  <a:pt x="4217" y="5085"/>
                </a:cubicBezTo>
                <a:cubicBezTo>
                  <a:pt x="4187" y="5145"/>
                  <a:pt x="4169" y="5196"/>
                  <a:pt x="4142" y="5259"/>
                </a:cubicBezTo>
                <a:cubicBezTo>
                  <a:pt x="4112" y="5327"/>
                  <a:pt x="4118" y="5383"/>
                  <a:pt x="4118" y="5457"/>
                </a:cubicBezTo>
                <a:cubicBezTo>
                  <a:pt x="4118" y="5474"/>
                  <a:pt x="4118" y="5490"/>
                  <a:pt x="4118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32"/>
          <p:cNvSpPr/>
          <p:nvPr/>
        </p:nvSpPr>
        <p:spPr>
          <a:xfrm>
            <a:off x="1581120" y="1946160"/>
            <a:ext cx="792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4390" y="5482"/>
                </a:moveTo>
                <a:cubicBezTo>
                  <a:pt x="4418" y="5454"/>
                  <a:pt x="4427" y="5440"/>
                  <a:pt x="4415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33"/>
          <p:cNvSpPr/>
          <p:nvPr/>
        </p:nvSpPr>
        <p:spPr>
          <a:xfrm>
            <a:off x="1677960" y="1751040"/>
            <a:ext cx="127080" cy="204840"/>
          </a:xfrm>
          <a:custGeom>
            <a:avLst/>
            <a:gdLst/>
            <a:ahLst/>
            <a:rect l="l" t="t" r="r" b="b"/>
            <a:pathLst>
              <a:path w="349" h="571">
                <a:moveTo>
                  <a:pt x="4688" y="4862"/>
                </a:moveTo>
                <a:cubicBezTo>
                  <a:pt x="4688" y="4986"/>
                  <a:pt x="4677" y="5087"/>
                  <a:pt x="4663" y="5209"/>
                </a:cubicBezTo>
                <a:cubicBezTo>
                  <a:pt x="4658" y="5258"/>
                  <a:pt x="4686" y="5346"/>
                  <a:pt x="4713" y="5383"/>
                </a:cubicBezTo>
                <a:cubicBezTo>
                  <a:pt x="4766" y="5454"/>
                  <a:pt x="4846" y="5419"/>
                  <a:pt x="4911" y="5383"/>
                </a:cubicBezTo>
                <a:cubicBezTo>
                  <a:pt x="4955" y="5359"/>
                  <a:pt x="5001" y="5280"/>
                  <a:pt x="5011" y="5234"/>
                </a:cubicBezTo>
                <a:cubicBezTo>
                  <a:pt x="5025" y="5170"/>
                  <a:pt x="5004" y="5069"/>
                  <a:pt x="4986" y="5011"/>
                </a:cubicBezTo>
                <a:cubicBezTo>
                  <a:pt x="4968" y="4954"/>
                  <a:pt x="4899" y="4876"/>
                  <a:pt x="4837" y="4862"/>
                </a:cubicBezTo>
                <a:cubicBezTo>
                  <a:pt x="4795" y="4862"/>
                  <a:pt x="4787" y="4862"/>
                  <a:pt x="4762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34"/>
          <p:cNvSpPr/>
          <p:nvPr/>
        </p:nvSpPr>
        <p:spPr>
          <a:xfrm>
            <a:off x="1874880" y="169704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5531" y="4762"/>
                </a:moveTo>
                <a:cubicBezTo>
                  <a:pt x="5472" y="4703"/>
                  <a:pt x="5409" y="4714"/>
                  <a:pt x="5333" y="4762"/>
                </a:cubicBezTo>
                <a:cubicBezTo>
                  <a:pt x="5262" y="4807"/>
                  <a:pt x="5223" y="4855"/>
                  <a:pt x="5209" y="4936"/>
                </a:cubicBezTo>
                <a:cubicBezTo>
                  <a:pt x="5195" y="5019"/>
                  <a:pt x="5287" y="5050"/>
                  <a:pt x="5358" y="5035"/>
                </a:cubicBezTo>
                <a:cubicBezTo>
                  <a:pt x="5421" y="5022"/>
                  <a:pt x="5463" y="5006"/>
                  <a:pt x="5507" y="4961"/>
                </a:cubicBezTo>
                <a:cubicBezTo>
                  <a:pt x="5536" y="4931"/>
                  <a:pt x="5547" y="4917"/>
                  <a:pt x="5556" y="4887"/>
                </a:cubicBezTo>
                <a:cubicBezTo>
                  <a:pt x="5556" y="4966"/>
                  <a:pt x="5534" y="5033"/>
                  <a:pt x="5531" y="5110"/>
                </a:cubicBezTo>
                <a:cubicBezTo>
                  <a:pt x="5527" y="5201"/>
                  <a:pt x="5531" y="5292"/>
                  <a:pt x="5531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35"/>
          <p:cNvSpPr/>
          <p:nvPr/>
        </p:nvSpPr>
        <p:spPr>
          <a:xfrm>
            <a:off x="1446120" y="204480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4242" y="5779"/>
                </a:moveTo>
                <a:cubicBezTo>
                  <a:pt x="4162" y="5821"/>
                  <a:pt x="4271" y="5726"/>
                  <a:pt x="4291" y="5705"/>
                </a:cubicBezTo>
                <a:cubicBezTo>
                  <a:pt x="4299" y="5697"/>
                  <a:pt x="4308" y="5688"/>
                  <a:pt x="4316" y="5680"/>
                </a:cubicBezTo>
                <a:cubicBezTo>
                  <a:pt x="4379" y="5716"/>
                  <a:pt x="4412" y="5729"/>
                  <a:pt x="4415" y="5804"/>
                </a:cubicBezTo>
                <a:cubicBezTo>
                  <a:pt x="4419" y="5924"/>
                  <a:pt x="4381" y="6022"/>
                  <a:pt x="4291" y="6102"/>
                </a:cubicBezTo>
                <a:cubicBezTo>
                  <a:pt x="4256" y="6133"/>
                  <a:pt x="4181" y="6168"/>
                  <a:pt x="4142" y="6176"/>
                </a:cubicBezTo>
                <a:cubicBezTo>
                  <a:pt x="4072" y="6190"/>
                  <a:pt x="4025" y="6134"/>
                  <a:pt x="4018" y="6077"/>
                </a:cubicBezTo>
                <a:cubicBezTo>
                  <a:pt x="4008" y="5995"/>
                  <a:pt x="4057" y="5977"/>
                  <a:pt x="4118" y="6003"/>
                </a:cubicBezTo>
                <a:cubicBezTo>
                  <a:pt x="4196" y="6036"/>
                  <a:pt x="4214" y="6095"/>
                  <a:pt x="4266" y="6152"/>
                </a:cubicBezTo>
                <a:cubicBezTo>
                  <a:pt x="4314" y="6205"/>
                  <a:pt x="4299" y="6195"/>
                  <a:pt x="4366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36"/>
          <p:cNvSpPr/>
          <p:nvPr/>
        </p:nvSpPr>
        <p:spPr>
          <a:xfrm>
            <a:off x="1670040" y="2009880"/>
            <a:ext cx="268200" cy="204840"/>
          </a:xfrm>
          <a:custGeom>
            <a:avLst/>
            <a:gdLst/>
            <a:ahLst/>
            <a:rect l="l" t="t" r="r" b="b"/>
            <a:pathLst>
              <a:path w="746" h="572">
                <a:moveTo>
                  <a:pt x="4638" y="5829"/>
                </a:moveTo>
                <a:cubicBezTo>
                  <a:pt x="4638" y="6039"/>
                  <a:pt x="4576" y="6077"/>
                  <a:pt x="4663" y="6152"/>
                </a:cubicBezTo>
                <a:cubicBezTo>
                  <a:pt x="4653" y="6063"/>
                  <a:pt x="4658" y="6013"/>
                  <a:pt x="4663" y="5928"/>
                </a:cubicBezTo>
                <a:cubicBezTo>
                  <a:pt x="4666" y="5876"/>
                  <a:pt x="4681" y="5819"/>
                  <a:pt x="4713" y="5779"/>
                </a:cubicBezTo>
                <a:cubicBezTo>
                  <a:pt x="4745" y="5740"/>
                  <a:pt x="4754" y="5649"/>
                  <a:pt x="4812" y="5631"/>
                </a:cubicBezTo>
                <a:cubicBezTo>
                  <a:pt x="4919" y="5598"/>
                  <a:pt x="5025" y="5606"/>
                  <a:pt x="5135" y="5606"/>
                </a:cubicBezTo>
                <a:cubicBezTo>
                  <a:pt x="5204" y="5606"/>
                  <a:pt x="5253" y="5581"/>
                  <a:pt x="5333" y="5581"/>
                </a:cubicBezTo>
                <a:cubicBezTo>
                  <a:pt x="5350" y="5581"/>
                  <a:pt x="5366" y="5581"/>
                  <a:pt x="5383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37"/>
          <p:cNvSpPr/>
          <p:nvPr/>
        </p:nvSpPr>
        <p:spPr>
          <a:xfrm>
            <a:off x="1768320" y="2071800"/>
            <a:ext cx="14292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4911" y="5755"/>
                </a:moveTo>
                <a:cubicBezTo>
                  <a:pt x="5043" y="5755"/>
                  <a:pt x="5176" y="5755"/>
                  <a:pt x="5308" y="5755"/>
                </a:cubicBezTo>
                <a:cubicBezTo>
                  <a:pt x="5283" y="5798"/>
                  <a:pt x="5229" y="5837"/>
                  <a:pt x="5209" y="5879"/>
                </a:cubicBezTo>
                <a:cubicBezTo>
                  <a:pt x="5200" y="5897"/>
                  <a:pt x="5154" y="6084"/>
                  <a:pt x="5184" y="6102"/>
                </a:cubicBezTo>
                <a:cubicBezTo>
                  <a:pt x="5192" y="6094"/>
                  <a:pt x="5201" y="6085"/>
                  <a:pt x="5209" y="60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38"/>
          <p:cNvSpPr/>
          <p:nvPr/>
        </p:nvSpPr>
        <p:spPr>
          <a:xfrm>
            <a:off x="1955880" y="2044800"/>
            <a:ext cx="1332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5432" y="5705"/>
                </a:moveTo>
                <a:cubicBezTo>
                  <a:pt x="5530" y="5693"/>
                  <a:pt x="5585" y="5674"/>
                  <a:pt x="5655" y="5755"/>
                </a:cubicBezTo>
                <a:cubicBezTo>
                  <a:pt x="5728" y="5839"/>
                  <a:pt x="5633" y="5882"/>
                  <a:pt x="5581" y="5928"/>
                </a:cubicBezTo>
                <a:cubicBezTo>
                  <a:pt x="5573" y="5936"/>
                  <a:pt x="5564" y="5945"/>
                  <a:pt x="5556" y="5953"/>
                </a:cubicBezTo>
                <a:cubicBezTo>
                  <a:pt x="5618" y="5959"/>
                  <a:pt x="5742" y="5964"/>
                  <a:pt x="5779" y="6028"/>
                </a:cubicBezTo>
                <a:cubicBezTo>
                  <a:pt x="5853" y="6156"/>
                  <a:pt x="5757" y="6153"/>
                  <a:pt x="5680" y="6176"/>
                </a:cubicBezTo>
                <a:cubicBezTo>
                  <a:pt x="5601" y="6200"/>
                  <a:pt x="5543" y="6201"/>
                  <a:pt x="5457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39"/>
          <p:cNvSpPr/>
          <p:nvPr/>
        </p:nvSpPr>
        <p:spPr>
          <a:xfrm>
            <a:off x="1411200" y="2367000"/>
            <a:ext cx="61920" cy="150840"/>
          </a:xfrm>
          <a:custGeom>
            <a:avLst/>
            <a:gdLst/>
            <a:ahLst/>
            <a:rect l="l" t="t" r="r" b="b"/>
            <a:pathLst>
              <a:path w="175" h="423">
                <a:moveTo>
                  <a:pt x="4093" y="6573"/>
                </a:moveTo>
                <a:cubicBezTo>
                  <a:pt x="4058" y="6608"/>
                  <a:pt x="4014" y="6652"/>
                  <a:pt x="3994" y="6697"/>
                </a:cubicBezTo>
                <a:cubicBezTo>
                  <a:pt x="3968" y="6756"/>
                  <a:pt x="3899" y="6853"/>
                  <a:pt x="3919" y="6921"/>
                </a:cubicBezTo>
                <a:cubicBezTo>
                  <a:pt x="3949" y="6950"/>
                  <a:pt x="3961" y="6964"/>
                  <a:pt x="3969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40"/>
          <p:cNvSpPr/>
          <p:nvPr/>
        </p:nvSpPr>
        <p:spPr>
          <a:xfrm>
            <a:off x="4572000" y="1697040"/>
            <a:ext cx="1938240" cy="1446120"/>
          </a:xfrm>
          <a:custGeom>
            <a:avLst/>
            <a:gdLst/>
            <a:ahLst/>
            <a:rect l="l" t="t" r="r" b="b"/>
            <a:pathLst>
              <a:path w="5384" h="4019">
                <a:moveTo>
                  <a:pt x="12874" y="5011"/>
                </a:moveTo>
                <a:cubicBezTo>
                  <a:pt x="12886" y="5150"/>
                  <a:pt x="12896" y="5288"/>
                  <a:pt x="12898" y="5432"/>
                </a:cubicBezTo>
                <a:cubicBezTo>
                  <a:pt x="12908" y="6083"/>
                  <a:pt x="12916" y="6743"/>
                  <a:pt x="12874" y="7392"/>
                </a:cubicBezTo>
                <a:cubicBezTo>
                  <a:pt x="12850" y="7761"/>
                  <a:pt x="12742" y="8120"/>
                  <a:pt x="12700" y="8483"/>
                </a:cubicBezTo>
                <a:cubicBezTo>
                  <a:pt x="12680" y="8659"/>
                  <a:pt x="12673" y="8637"/>
                  <a:pt x="12700" y="8483"/>
                </a:cubicBezTo>
                <a:cubicBezTo>
                  <a:pt x="12739" y="8262"/>
                  <a:pt x="12751" y="8060"/>
                  <a:pt x="12774" y="7838"/>
                </a:cubicBezTo>
                <a:cubicBezTo>
                  <a:pt x="12799" y="7604"/>
                  <a:pt x="12806" y="7378"/>
                  <a:pt x="12824" y="7144"/>
                </a:cubicBezTo>
                <a:cubicBezTo>
                  <a:pt x="12847" y="6846"/>
                  <a:pt x="12849" y="6551"/>
                  <a:pt x="12849" y="6251"/>
                </a:cubicBezTo>
                <a:cubicBezTo>
                  <a:pt x="12849" y="6041"/>
                  <a:pt x="12862" y="5838"/>
                  <a:pt x="12874" y="5631"/>
                </a:cubicBezTo>
                <a:cubicBezTo>
                  <a:pt x="12885" y="5432"/>
                  <a:pt x="12895" y="5232"/>
                  <a:pt x="12923" y="5035"/>
                </a:cubicBezTo>
                <a:cubicBezTo>
                  <a:pt x="12936" y="4944"/>
                  <a:pt x="12954" y="4841"/>
                  <a:pt x="12973" y="4762"/>
                </a:cubicBezTo>
                <a:cubicBezTo>
                  <a:pt x="12981" y="4746"/>
                  <a:pt x="12990" y="4729"/>
                  <a:pt x="12998" y="4713"/>
                </a:cubicBezTo>
                <a:cubicBezTo>
                  <a:pt x="13047" y="4754"/>
                  <a:pt x="13095" y="4796"/>
                  <a:pt x="13146" y="4837"/>
                </a:cubicBezTo>
                <a:cubicBezTo>
                  <a:pt x="13260" y="4929"/>
                  <a:pt x="13381" y="5016"/>
                  <a:pt x="13494" y="5110"/>
                </a:cubicBezTo>
                <a:cubicBezTo>
                  <a:pt x="13720" y="5298"/>
                  <a:pt x="13952" y="5488"/>
                  <a:pt x="14213" y="5631"/>
                </a:cubicBezTo>
                <a:cubicBezTo>
                  <a:pt x="14505" y="5791"/>
                  <a:pt x="14780" y="5984"/>
                  <a:pt x="15056" y="6176"/>
                </a:cubicBezTo>
                <a:cubicBezTo>
                  <a:pt x="15304" y="6349"/>
                  <a:pt x="15554" y="6522"/>
                  <a:pt x="15801" y="6697"/>
                </a:cubicBezTo>
                <a:cubicBezTo>
                  <a:pt x="16172" y="6960"/>
                  <a:pt x="16531" y="7241"/>
                  <a:pt x="16892" y="7516"/>
                </a:cubicBezTo>
                <a:cubicBezTo>
                  <a:pt x="17087" y="7664"/>
                  <a:pt x="17303" y="7779"/>
                  <a:pt x="17487" y="7938"/>
                </a:cubicBezTo>
                <a:cubicBezTo>
                  <a:pt x="17659" y="8088"/>
                  <a:pt x="17838" y="8232"/>
                  <a:pt x="18008" y="8384"/>
                </a:cubicBezTo>
                <a:cubicBezTo>
                  <a:pt x="18034" y="8407"/>
                  <a:pt x="18056" y="8435"/>
                  <a:pt x="18083" y="8458"/>
                </a:cubicBezTo>
                <a:cubicBezTo>
                  <a:pt x="18043" y="8479"/>
                  <a:pt x="18001" y="8515"/>
                  <a:pt x="17959" y="8533"/>
                </a:cubicBezTo>
                <a:cubicBezTo>
                  <a:pt x="17860" y="8575"/>
                  <a:pt x="17766" y="8602"/>
                  <a:pt x="17661" y="8632"/>
                </a:cubicBezTo>
                <a:cubicBezTo>
                  <a:pt x="17521" y="8671"/>
                  <a:pt x="17382" y="8690"/>
                  <a:pt x="17239" y="8706"/>
                </a:cubicBezTo>
                <a:cubicBezTo>
                  <a:pt x="17048" y="8727"/>
                  <a:pt x="16863" y="8731"/>
                  <a:pt x="16669" y="8731"/>
                </a:cubicBezTo>
                <a:cubicBezTo>
                  <a:pt x="16172" y="8731"/>
                  <a:pt x="15675" y="8723"/>
                  <a:pt x="15180" y="8682"/>
                </a:cubicBezTo>
                <a:cubicBezTo>
                  <a:pt x="14908" y="8659"/>
                  <a:pt x="14633" y="8656"/>
                  <a:pt x="14362" y="8632"/>
                </a:cubicBezTo>
                <a:cubicBezTo>
                  <a:pt x="14138" y="8612"/>
                  <a:pt x="13916" y="8599"/>
                  <a:pt x="13692" y="8582"/>
                </a:cubicBezTo>
                <a:cubicBezTo>
                  <a:pt x="13528" y="8570"/>
                  <a:pt x="13360" y="8549"/>
                  <a:pt x="13196" y="8533"/>
                </a:cubicBezTo>
                <a:cubicBezTo>
                  <a:pt x="13086" y="8522"/>
                  <a:pt x="12973" y="8506"/>
                  <a:pt x="12874" y="8483"/>
                </a:cubicBezTo>
                <a:cubicBezTo>
                  <a:pt x="12866" y="8475"/>
                  <a:pt x="12857" y="8466"/>
                  <a:pt x="12849" y="84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Arial"/>
              </a:rPr>
              <a:t>Lesson 4.8</a:t>
            </a:r>
            <a:br>
              <a:rPr sz="8500"/>
            </a:br>
            <a:r>
              <a:rPr b="0" lang="en-US" sz="85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Arial"/>
              </a:rPr>
              <a:t>Application Problems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A 100-foot line is attached to a kite.  If the line is tight, the angle of elevation is 51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Find the height of the k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5"/>
          <p:cNvSpPr/>
          <p:nvPr/>
        </p:nvSpPr>
        <p:spPr>
          <a:xfrm>
            <a:off x="901800" y="2554200"/>
            <a:ext cx="465120" cy="419040"/>
          </a:xfrm>
          <a:custGeom>
            <a:avLst/>
            <a:gdLst/>
            <a:ahLst/>
            <a:rect l="l" t="t" r="r" b="b"/>
            <a:pathLst>
              <a:path w="1291" h="1167">
                <a:moveTo>
                  <a:pt x="3076" y="7119"/>
                </a:moveTo>
                <a:cubicBezTo>
                  <a:pt x="2991" y="7204"/>
                  <a:pt x="2914" y="7314"/>
                  <a:pt x="2828" y="7392"/>
                </a:cubicBezTo>
                <a:cubicBezTo>
                  <a:pt x="2756" y="7457"/>
                  <a:pt x="2722" y="7551"/>
                  <a:pt x="2654" y="7615"/>
                </a:cubicBezTo>
                <a:cubicBezTo>
                  <a:pt x="2617" y="7650"/>
                  <a:pt x="2569" y="7676"/>
                  <a:pt x="2530" y="7714"/>
                </a:cubicBezTo>
                <a:cubicBezTo>
                  <a:pt x="2522" y="7722"/>
                  <a:pt x="2513" y="7731"/>
                  <a:pt x="2505" y="7739"/>
                </a:cubicBezTo>
                <a:cubicBezTo>
                  <a:pt x="2553" y="7787"/>
                  <a:pt x="2593" y="7831"/>
                  <a:pt x="2654" y="7863"/>
                </a:cubicBezTo>
                <a:cubicBezTo>
                  <a:pt x="2729" y="7903"/>
                  <a:pt x="2806" y="7981"/>
                  <a:pt x="2877" y="8037"/>
                </a:cubicBezTo>
                <a:cubicBezTo>
                  <a:pt x="2946" y="8092"/>
                  <a:pt x="3004" y="8137"/>
                  <a:pt x="3076" y="8186"/>
                </a:cubicBezTo>
                <a:cubicBezTo>
                  <a:pt x="3131" y="8223"/>
                  <a:pt x="3158" y="8239"/>
                  <a:pt x="3225" y="8260"/>
                </a:cubicBezTo>
              </a:path>
              <a:path w="1291" h="1167">
                <a:moveTo>
                  <a:pt x="3101" y="7094"/>
                </a:moveTo>
                <a:cubicBezTo>
                  <a:pt x="3149" y="7133"/>
                  <a:pt x="3213" y="7172"/>
                  <a:pt x="3249" y="7218"/>
                </a:cubicBezTo>
                <a:cubicBezTo>
                  <a:pt x="3309" y="7294"/>
                  <a:pt x="3354" y="7281"/>
                  <a:pt x="3423" y="7342"/>
                </a:cubicBezTo>
                <a:cubicBezTo>
                  <a:pt x="3489" y="7400"/>
                  <a:pt x="3541" y="7441"/>
                  <a:pt x="3621" y="7491"/>
                </a:cubicBezTo>
                <a:cubicBezTo>
                  <a:pt x="3675" y="7525"/>
                  <a:pt x="3725" y="7569"/>
                  <a:pt x="3770" y="7615"/>
                </a:cubicBezTo>
                <a:cubicBezTo>
                  <a:pt x="3839" y="7685"/>
                  <a:pt x="3747" y="7716"/>
                  <a:pt x="3696" y="7764"/>
                </a:cubicBezTo>
                <a:cubicBezTo>
                  <a:pt x="3638" y="7818"/>
                  <a:pt x="3579" y="7859"/>
                  <a:pt x="3522" y="7913"/>
                </a:cubicBezTo>
                <a:cubicBezTo>
                  <a:pt x="3458" y="7974"/>
                  <a:pt x="3348" y="8017"/>
                  <a:pt x="3299" y="8086"/>
                </a:cubicBezTo>
                <a:cubicBezTo>
                  <a:pt x="3265" y="8133"/>
                  <a:pt x="3242" y="8169"/>
                  <a:pt x="3200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6"/>
          <p:cNvSpPr/>
          <p:nvPr/>
        </p:nvSpPr>
        <p:spPr>
          <a:xfrm>
            <a:off x="1143000" y="2955960"/>
            <a:ext cx="2394000" cy="1544760"/>
          </a:xfrm>
          <a:custGeom>
            <a:avLst/>
            <a:gdLst/>
            <a:ahLst/>
            <a:rect l="l" t="t" r="r" b="b"/>
            <a:pathLst>
              <a:path w="6649" h="4293">
                <a:moveTo>
                  <a:pt x="3249" y="8210"/>
                </a:moveTo>
                <a:cubicBezTo>
                  <a:pt x="3318" y="8237"/>
                  <a:pt x="3378" y="8254"/>
                  <a:pt x="3448" y="8285"/>
                </a:cubicBezTo>
                <a:cubicBezTo>
                  <a:pt x="3574" y="8341"/>
                  <a:pt x="3695" y="8380"/>
                  <a:pt x="3820" y="8434"/>
                </a:cubicBezTo>
                <a:cubicBezTo>
                  <a:pt x="3907" y="8471"/>
                  <a:pt x="3983" y="8519"/>
                  <a:pt x="4068" y="8558"/>
                </a:cubicBezTo>
                <a:cubicBezTo>
                  <a:pt x="4180" y="8609"/>
                  <a:pt x="4285" y="8678"/>
                  <a:pt x="4390" y="8731"/>
                </a:cubicBezTo>
                <a:cubicBezTo>
                  <a:pt x="4535" y="8804"/>
                  <a:pt x="4704" y="8863"/>
                  <a:pt x="4837" y="8954"/>
                </a:cubicBezTo>
                <a:cubicBezTo>
                  <a:pt x="4963" y="9041"/>
                  <a:pt x="5083" y="9119"/>
                  <a:pt x="5209" y="9203"/>
                </a:cubicBezTo>
                <a:cubicBezTo>
                  <a:pt x="5344" y="9292"/>
                  <a:pt x="5498" y="9381"/>
                  <a:pt x="5631" y="9475"/>
                </a:cubicBezTo>
                <a:cubicBezTo>
                  <a:pt x="5737" y="9550"/>
                  <a:pt x="5825" y="9645"/>
                  <a:pt x="5928" y="9723"/>
                </a:cubicBezTo>
                <a:cubicBezTo>
                  <a:pt x="6045" y="9812"/>
                  <a:pt x="6180" y="9861"/>
                  <a:pt x="6300" y="9947"/>
                </a:cubicBezTo>
                <a:cubicBezTo>
                  <a:pt x="6429" y="10039"/>
                  <a:pt x="6546" y="10130"/>
                  <a:pt x="6672" y="10220"/>
                </a:cubicBezTo>
                <a:cubicBezTo>
                  <a:pt x="6836" y="10337"/>
                  <a:pt x="6999" y="10455"/>
                  <a:pt x="7169" y="10567"/>
                </a:cubicBezTo>
                <a:cubicBezTo>
                  <a:pt x="7307" y="10657"/>
                  <a:pt x="7411" y="10759"/>
                  <a:pt x="7541" y="10864"/>
                </a:cubicBezTo>
                <a:cubicBezTo>
                  <a:pt x="7701" y="10994"/>
                  <a:pt x="7874" y="11115"/>
                  <a:pt x="8037" y="11237"/>
                </a:cubicBezTo>
                <a:cubicBezTo>
                  <a:pt x="8201" y="11360"/>
                  <a:pt x="8378" y="11479"/>
                  <a:pt x="8533" y="11609"/>
                </a:cubicBezTo>
                <a:cubicBezTo>
                  <a:pt x="8702" y="11751"/>
                  <a:pt x="8890" y="11889"/>
                  <a:pt x="9054" y="12030"/>
                </a:cubicBezTo>
                <a:cubicBezTo>
                  <a:pt x="9152" y="12114"/>
                  <a:pt x="9225" y="12160"/>
                  <a:pt x="9327" y="12229"/>
                </a:cubicBezTo>
                <a:cubicBezTo>
                  <a:pt x="9405" y="12282"/>
                  <a:pt x="9468" y="12332"/>
                  <a:pt x="9550" y="12378"/>
                </a:cubicBezTo>
                <a:cubicBezTo>
                  <a:pt x="9602" y="12407"/>
                  <a:pt x="9691" y="12457"/>
                  <a:pt x="9748" y="12477"/>
                </a:cubicBezTo>
                <a:cubicBezTo>
                  <a:pt x="9892" y="12528"/>
                  <a:pt x="9740" y="12372"/>
                  <a:pt x="9723" y="12328"/>
                </a:cubicBezTo>
              </a:path>
              <a:path w="6649" h="4293">
                <a:moveTo>
                  <a:pt x="3299" y="8210"/>
                </a:moveTo>
                <a:cubicBezTo>
                  <a:pt x="3299" y="8704"/>
                  <a:pt x="3244" y="9186"/>
                  <a:pt x="3225" y="9674"/>
                </a:cubicBezTo>
                <a:cubicBezTo>
                  <a:pt x="3216" y="9922"/>
                  <a:pt x="3203" y="10170"/>
                  <a:pt x="3200" y="10418"/>
                </a:cubicBezTo>
                <a:cubicBezTo>
                  <a:pt x="3196" y="10750"/>
                  <a:pt x="3191" y="11082"/>
                  <a:pt x="3175" y="11410"/>
                </a:cubicBezTo>
                <a:cubicBezTo>
                  <a:pt x="3171" y="11501"/>
                  <a:pt x="3126" y="11896"/>
                  <a:pt x="3200" y="11956"/>
                </a:cubicBezTo>
                <a:cubicBezTo>
                  <a:pt x="3275" y="12018"/>
                  <a:pt x="3537" y="11935"/>
                  <a:pt x="3621" y="11931"/>
                </a:cubicBezTo>
                <a:cubicBezTo>
                  <a:pt x="4522" y="11892"/>
                  <a:pt x="5432" y="11951"/>
                  <a:pt x="6325" y="11981"/>
                </a:cubicBezTo>
                <a:cubicBezTo>
                  <a:pt x="6489" y="11987"/>
                  <a:pt x="6659" y="11980"/>
                  <a:pt x="6821" y="12005"/>
                </a:cubicBezTo>
                <a:cubicBezTo>
                  <a:pt x="7121" y="12052"/>
                  <a:pt x="7414" y="12121"/>
                  <a:pt x="7714" y="12154"/>
                </a:cubicBezTo>
                <a:cubicBezTo>
                  <a:pt x="7872" y="12171"/>
                  <a:pt x="8029" y="12177"/>
                  <a:pt x="8186" y="12204"/>
                </a:cubicBezTo>
                <a:cubicBezTo>
                  <a:pt x="8337" y="12230"/>
                  <a:pt x="8483" y="12250"/>
                  <a:pt x="8632" y="12278"/>
                </a:cubicBezTo>
                <a:cubicBezTo>
                  <a:pt x="8774" y="12304"/>
                  <a:pt x="8912" y="12332"/>
                  <a:pt x="9054" y="12353"/>
                </a:cubicBezTo>
                <a:cubicBezTo>
                  <a:pt x="9159" y="12369"/>
                  <a:pt x="9676" y="12570"/>
                  <a:pt x="9748" y="12502"/>
                </a:cubicBezTo>
                <a:cubicBezTo>
                  <a:pt x="9856" y="12401"/>
                  <a:pt x="9694" y="12629"/>
                  <a:pt x="9674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7"/>
          <p:cNvSpPr/>
          <p:nvPr/>
        </p:nvSpPr>
        <p:spPr>
          <a:xfrm>
            <a:off x="1928880" y="3152880"/>
            <a:ext cx="500040" cy="285480"/>
          </a:xfrm>
          <a:custGeom>
            <a:avLst/>
            <a:gdLst/>
            <a:ahLst/>
            <a:rect l="l" t="t" r="r" b="b"/>
            <a:pathLst>
              <a:path w="1390" h="795">
                <a:moveTo>
                  <a:pt x="5482" y="8756"/>
                </a:moveTo>
                <a:cubicBezTo>
                  <a:pt x="5457" y="8855"/>
                  <a:pt x="5417" y="8955"/>
                  <a:pt x="5407" y="9054"/>
                </a:cubicBezTo>
                <a:cubicBezTo>
                  <a:pt x="5401" y="9117"/>
                  <a:pt x="5368" y="9175"/>
                  <a:pt x="5358" y="9227"/>
                </a:cubicBezTo>
                <a:cubicBezTo>
                  <a:pt x="5358" y="9277"/>
                  <a:pt x="5358" y="9294"/>
                  <a:pt x="5358" y="9327"/>
                </a:cubicBezTo>
              </a:path>
              <a:path w="1390" h="795">
                <a:moveTo>
                  <a:pt x="5730" y="8880"/>
                </a:moveTo>
                <a:cubicBezTo>
                  <a:pt x="5690" y="8936"/>
                  <a:pt x="5622" y="9009"/>
                  <a:pt x="5606" y="9079"/>
                </a:cubicBezTo>
                <a:cubicBezTo>
                  <a:pt x="5595" y="9128"/>
                  <a:pt x="5612" y="9212"/>
                  <a:pt x="5631" y="9252"/>
                </a:cubicBezTo>
                <a:cubicBezTo>
                  <a:pt x="5645" y="9281"/>
                  <a:pt x="5723" y="9354"/>
                  <a:pt x="5755" y="9351"/>
                </a:cubicBezTo>
                <a:cubicBezTo>
                  <a:pt x="5796" y="9348"/>
                  <a:pt x="5846" y="9310"/>
                  <a:pt x="5879" y="9277"/>
                </a:cubicBezTo>
                <a:cubicBezTo>
                  <a:pt x="5928" y="9228"/>
                  <a:pt x="5925" y="9120"/>
                  <a:pt x="5928" y="9054"/>
                </a:cubicBezTo>
                <a:cubicBezTo>
                  <a:pt x="5931" y="8980"/>
                  <a:pt x="5891" y="8921"/>
                  <a:pt x="5829" y="8880"/>
                </a:cubicBezTo>
                <a:cubicBezTo>
                  <a:pt x="5779" y="8847"/>
                  <a:pt x="5731" y="8795"/>
                  <a:pt x="5680" y="8830"/>
                </a:cubicBezTo>
                <a:cubicBezTo>
                  <a:pt x="5657" y="8853"/>
                  <a:pt x="5649" y="8857"/>
                  <a:pt x="5655" y="8880"/>
                </a:cubicBezTo>
              </a:path>
              <a:path w="1390" h="795">
                <a:moveTo>
                  <a:pt x="6127" y="8979"/>
                </a:moveTo>
                <a:cubicBezTo>
                  <a:pt x="6078" y="9045"/>
                  <a:pt x="6046" y="9102"/>
                  <a:pt x="6003" y="9178"/>
                </a:cubicBezTo>
                <a:cubicBezTo>
                  <a:pt x="5962" y="9251"/>
                  <a:pt x="5970" y="9306"/>
                  <a:pt x="5978" y="9376"/>
                </a:cubicBezTo>
                <a:cubicBezTo>
                  <a:pt x="5986" y="9449"/>
                  <a:pt x="6011" y="9486"/>
                  <a:pt x="6077" y="9525"/>
                </a:cubicBezTo>
                <a:cubicBezTo>
                  <a:pt x="6131" y="9557"/>
                  <a:pt x="6221" y="9534"/>
                  <a:pt x="6276" y="9500"/>
                </a:cubicBezTo>
                <a:cubicBezTo>
                  <a:pt x="6354" y="9451"/>
                  <a:pt x="6350" y="9355"/>
                  <a:pt x="6350" y="9277"/>
                </a:cubicBezTo>
                <a:cubicBezTo>
                  <a:pt x="6350" y="9187"/>
                  <a:pt x="6315" y="9133"/>
                  <a:pt x="6276" y="9054"/>
                </a:cubicBezTo>
                <a:cubicBezTo>
                  <a:pt x="6243" y="8987"/>
                  <a:pt x="6225" y="8960"/>
                  <a:pt x="6152" y="8954"/>
                </a:cubicBezTo>
                <a:cubicBezTo>
                  <a:pt x="6124" y="8954"/>
                  <a:pt x="6113" y="8956"/>
                  <a:pt x="6102" y="8979"/>
                </a:cubicBezTo>
              </a:path>
              <a:path w="1390" h="795">
                <a:moveTo>
                  <a:pt x="6747" y="8880"/>
                </a:moveTo>
                <a:cubicBezTo>
                  <a:pt x="6682" y="8982"/>
                  <a:pt x="6673" y="9035"/>
                  <a:pt x="6648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8"/>
          <p:cNvSpPr/>
          <p:nvPr/>
        </p:nvSpPr>
        <p:spPr>
          <a:xfrm>
            <a:off x="884160" y="3473280"/>
            <a:ext cx="18756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2530" y="9649"/>
                </a:moveTo>
                <a:cubicBezTo>
                  <a:pt x="2562" y="9701"/>
                  <a:pt x="2568" y="9764"/>
                  <a:pt x="2604" y="9823"/>
                </a:cubicBezTo>
                <a:cubicBezTo>
                  <a:pt x="2640" y="9882"/>
                  <a:pt x="2698" y="9979"/>
                  <a:pt x="2753" y="10021"/>
                </a:cubicBezTo>
                <a:cubicBezTo>
                  <a:pt x="2798" y="10055"/>
                  <a:pt x="2836" y="10079"/>
                  <a:pt x="2877" y="10120"/>
                </a:cubicBezTo>
                <a:cubicBezTo>
                  <a:pt x="2933" y="10176"/>
                  <a:pt x="2963" y="10215"/>
                  <a:pt x="2977" y="10145"/>
                </a:cubicBezTo>
              </a:path>
              <a:path w="522" h="547">
                <a:moveTo>
                  <a:pt x="2877" y="9649"/>
                </a:moveTo>
                <a:cubicBezTo>
                  <a:pt x="2824" y="9730"/>
                  <a:pt x="2755" y="9803"/>
                  <a:pt x="2704" y="9872"/>
                </a:cubicBezTo>
                <a:cubicBezTo>
                  <a:pt x="2654" y="9940"/>
                  <a:pt x="2617" y="9994"/>
                  <a:pt x="2555" y="10046"/>
                </a:cubicBezTo>
                <a:cubicBezTo>
                  <a:pt x="2511" y="10083"/>
                  <a:pt x="2484" y="10120"/>
                  <a:pt x="2456" y="10170"/>
                </a:cubicBezTo>
                <a:cubicBezTo>
                  <a:pt x="2456" y="10120"/>
                  <a:pt x="2456" y="10104"/>
                  <a:pt x="2456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9"/>
          <p:cNvSpPr/>
          <p:nvPr/>
        </p:nvSpPr>
        <p:spPr>
          <a:xfrm>
            <a:off x="1197000" y="4037040"/>
            <a:ext cx="204840" cy="268200"/>
          </a:xfrm>
          <a:custGeom>
            <a:avLst/>
            <a:gdLst/>
            <a:ahLst/>
            <a:rect l="l" t="t" r="r" b="b"/>
            <a:pathLst>
              <a:path w="571" h="745">
                <a:moveTo>
                  <a:pt x="3572" y="11311"/>
                </a:moveTo>
                <a:cubicBezTo>
                  <a:pt x="3662" y="11311"/>
                  <a:pt x="3736" y="11322"/>
                  <a:pt x="3820" y="11336"/>
                </a:cubicBezTo>
                <a:cubicBezTo>
                  <a:pt x="3837" y="11336"/>
                  <a:pt x="3853" y="11336"/>
                  <a:pt x="3870" y="11336"/>
                </a:cubicBezTo>
                <a:cubicBezTo>
                  <a:pt x="3859" y="11420"/>
                  <a:pt x="3824" y="11496"/>
                  <a:pt x="3820" y="11584"/>
                </a:cubicBezTo>
                <a:cubicBezTo>
                  <a:pt x="3817" y="11657"/>
                  <a:pt x="3799" y="11826"/>
                  <a:pt x="3845" y="11857"/>
                </a:cubicBezTo>
              </a:path>
              <a:path w="571" h="745">
                <a:moveTo>
                  <a:pt x="3373" y="11261"/>
                </a:moveTo>
                <a:cubicBezTo>
                  <a:pt x="3239" y="11261"/>
                  <a:pt x="3454" y="11256"/>
                  <a:pt x="3473" y="11261"/>
                </a:cubicBezTo>
                <a:cubicBezTo>
                  <a:pt x="3514" y="11272"/>
                  <a:pt x="3681" y="11324"/>
                  <a:pt x="3721" y="11311"/>
                </a:cubicBezTo>
                <a:cubicBezTo>
                  <a:pt x="3713" y="11303"/>
                  <a:pt x="3704" y="11294"/>
                  <a:pt x="3696" y="11286"/>
                </a:cubicBezTo>
                <a:cubicBezTo>
                  <a:pt x="3632" y="11248"/>
                  <a:pt x="3596" y="11255"/>
                  <a:pt x="3522" y="11237"/>
                </a:cubicBezTo>
                <a:cubicBezTo>
                  <a:pt x="3438" y="11217"/>
                  <a:pt x="3401" y="11204"/>
                  <a:pt x="3324" y="11237"/>
                </a:cubicBezTo>
                <a:cubicBezTo>
                  <a:pt x="3386" y="11246"/>
                  <a:pt x="3459" y="11244"/>
                  <a:pt x="3522" y="11261"/>
                </a:cubicBezTo>
                <a:cubicBezTo>
                  <a:pt x="3607" y="11284"/>
                  <a:pt x="3677" y="11286"/>
                  <a:pt x="3770" y="11286"/>
                </a:cubicBezTo>
                <a:cubicBezTo>
                  <a:pt x="3863" y="11286"/>
                  <a:pt x="3845" y="11332"/>
                  <a:pt x="3845" y="11410"/>
                </a:cubicBezTo>
                <a:cubicBezTo>
                  <a:pt x="3845" y="11524"/>
                  <a:pt x="3857" y="11620"/>
                  <a:pt x="3870" y="11733"/>
                </a:cubicBezTo>
                <a:cubicBezTo>
                  <a:pt x="3877" y="11794"/>
                  <a:pt x="3884" y="11855"/>
                  <a:pt x="3894" y="11906"/>
                </a:cubicBezTo>
                <a:cubicBezTo>
                  <a:pt x="3894" y="11923"/>
                  <a:pt x="3894" y="11939"/>
                  <a:pt x="3894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0"/>
          <p:cNvSpPr/>
          <p:nvPr/>
        </p:nvSpPr>
        <p:spPr>
          <a:xfrm>
            <a:off x="2660760" y="4106880"/>
            <a:ext cx="349200" cy="206280"/>
          </a:xfrm>
          <a:custGeom>
            <a:avLst/>
            <a:gdLst/>
            <a:ahLst/>
            <a:rect l="l" t="t" r="r" b="b"/>
            <a:pathLst>
              <a:path w="968" h="572">
                <a:moveTo>
                  <a:pt x="7392" y="11435"/>
                </a:moveTo>
                <a:cubicBezTo>
                  <a:pt x="7457" y="11457"/>
                  <a:pt x="7533" y="11457"/>
                  <a:pt x="7590" y="11485"/>
                </a:cubicBezTo>
                <a:cubicBezTo>
                  <a:pt x="7613" y="11507"/>
                  <a:pt x="7618" y="11515"/>
                  <a:pt x="7640" y="11509"/>
                </a:cubicBezTo>
              </a:path>
              <a:path w="968" h="572">
                <a:moveTo>
                  <a:pt x="7516" y="11509"/>
                </a:moveTo>
                <a:cubicBezTo>
                  <a:pt x="7460" y="11549"/>
                  <a:pt x="7413" y="11576"/>
                  <a:pt x="7441" y="11633"/>
                </a:cubicBezTo>
                <a:cubicBezTo>
                  <a:pt x="7488" y="11657"/>
                  <a:pt x="7525" y="11608"/>
                  <a:pt x="7590" y="11633"/>
                </a:cubicBezTo>
                <a:cubicBezTo>
                  <a:pt x="7639" y="11652"/>
                  <a:pt x="7673" y="11667"/>
                  <a:pt x="7714" y="11708"/>
                </a:cubicBezTo>
                <a:cubicBezTo>
                  <a:pt x="7758" y="11752"/>
                  <a:pt x="7783" y="11789"/>
                  <a:pt x="7764" y="11857"/>
                </a:cubicBezTo>
                <a:cubicBezTo>
                  <a:pt x="7741" y="11939"/>
                  <a:pt x="7639" y="11919"/>
                  <a:pt x="7590" y="11881"/>
                </a:cubicBezTo>
                <a:cubicBezTo>
                  <a:pt x="7538" y="11841"/>
                  <a:pt x="7464" y="11842"/>
                  <a:pt x="7441" y="11807"/>
                </a:cubicBezTo>
              </a:path>
              <a:path w="968" h="572">
                <a:moveTo>
                  <a:pt x="7962" y="11435"/>
                </a:moveTo>
                <a:cubicBezTo>
                  <a:pt x="7962" y="11589"/>
                  <a:pt x="7966" y="11732"/>
                  <a:pt x="7987" y="11881"/>
                </a:cubicBezTo>
                <a:cubicBezTo>
                  <a:pt x="7993" y="11922"/>
                  <a:pt x="7987" y="11998"/>
                  <a:pt x="7987" y="11956"/>
                </a:cubicBezTo>
              </a:path>
              <a:path w="968" h="572">
                <a:moveTo>
                  <a:pt x="8186" y="11559"/>
                </a:moveTo>
                <a:cubicBezTo>
                  <a:pt x="8193" y="11620"/>
                  <a:pt x="8203" y="11671"/>
                  <a:pt x="8260" y="11708"/>
                </a:cubicBezTo>
                <a:cubicBezTo>
                  <a:pt x="8277" y="11716"/>
                  <a:pt x="8293" y="11725"/>
                  <a:pt x="8310" y="11733"/>
                </a:cubicBezTo>
                <a:cubicBezTo>
                  <a:pt x="8367" y="11659"/>
                  <a:pt x="8354" y="11657"/>
                  <a:pt x="8310" y="11584"/>
                </a:cubicBezTo>
                <a:cubicBezTo>
                  <a:pt x="8282" y="11527"/>
                  <a:pt x="8266" y="11508"/>
                  <a:pt x="8210" y="11509"/>
                </a:cubicBezTo>
              </a:path>
              <a:path w="968" h="572">
                <a:moveTo>
                  <a:pt x="7590" y="11410"/>
                </a:moveTo>
                <a:cubicBezTo>
                  <a:pt x="7659" y="11445"/>
                  <a:pt x="7721" y="11455"/>
                  <a:pt x="7789" y="11485"/>
                </a:cubicBezTo>
                <a:cubicBezTo>
                  <a:pt x="7846" y="11510"/>
                  <a:pt x="7876" y="11509"/>
                  <a:pt x="7938" y="115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1"/>
          <p:cNvSpPr/>
          <p:nvPr/>
        </p:nvSpPr>
        <p:spPr>
          <a:xfrm>
            <a:off x="4044960" y="3224160"/>
            <a:ext cx="2170080" cy="428760"/>
          </a:xfrm>
          <a:custGeom>
            <a:avLst/>
            <a:gdLst/>
            <a:ahLst/>
            <a:rect l="l" t="t" r="r" b="b"/>
            <a:pathLst>
              <a:path w="6028" h="1192">
                <a:moveTo>
                  <a:pt x="13097" y="9103"/>
                </a:moveTo>
                <a:cubicBezTo>
                  <a:pt x="13116" y="9122"/>
                  <a:pt x="13187" y="9226"/>
                  <a:pt x="13146" y="9153"/>
                </a:cubicBezTo>
                <a:cubicBezTo>
                  <a:pt x="13110" y="9089"/>
                  <a:pt x="13126" y="9019"/>
                  <a:pt x="13047" y="8979"/>
                </a:cubicBezTo>
                <a:cubicBezTo>
                  <a:pt x="12949" y="8930"/>
                  <a:pt x="12887" y="8964"/>
                  <a:pt x="12799" y="9004"/>
                </a:cubicBezTo>
                <a:cubicBezTo>
                  <a:pt x="12739" y="9031"/>
                  <a:pt x="12702" y="9069"/>
                  <a:pt x="12650" y="9103"/>
                </a:cubicBezTo>
                <a:cubicBezTo>
                  <a:pt x="12578" y="9149"/>
                  <a:pt x="12541" y="9162"/>
                  <a:pt x="12576" y="9252"/>
                </a:cubicBezTo>
                <a:cubicBezTo>
                  <a:pt x="12604" y="9324"/>
                  <a:pt x="12643" y="9334"/>
                  <a:pt x="12700" y="9376"/>
                </a:cubicBezTo>
                <a:cubicBezTo>
                  <a:pt x="12758" y="9419"/>
                  <a:pt x="12849" y="9443"/>
                  <a:pt x="12898" y="9500"/>
                </a:cubicBezTo>
                <a:cubicBezTo>
                  <a:pt x="12957" y="9569"/>
                  <a:pt x="13010" y="9621"/>
                  <a:pt x="13072" y="9699"/>
                </a:cubicBezTo>
                <a:cubicBezTo>
                  <a:pt x="13149" y="9796"/>
                  <a:pt x="13193" y="9898"/>
                  <a:pt x="13097" y="10021"/>
                </a:cubicBezTo>
                <a:cubicBezTo>
                  <a:pt x="13050" y="10081"/>
                  <a:pt x="12964" y="10071"/>
                  <a:pt x="12898" y="10071"/>
                </a:cubicBezTo>
                <a:cubicBezTo>
                  <a:pt x="12813" y="10071"/>
                  <a:pt x="12765" y="10080"/>
                  <a:pt x="12700" y="10021"/>
                </a:cubicBezTo>
                <a:cubicBezTo>
                  <a:pt x="12640" y="9967"/>
                  <a:pt x="12661" y="9935"/>
                  <a:pt x="12675" y="9872"/>
                </a:cubicBezTo>
              </a:path>
              <a:path w="6028" h="1192">
                <a:moveTo>
                  <a:pt x="13419" y="9723"/>
                </a:moveTo>
                <a:cubicBezTo>
                  <a:pt x="13424" y="9817"/>
                  <a:pt x="13416" y="9978"/>
                  <a:pt x="13444" y="10071"/>
                </a:cubicBezTo>
                <a:cubicBezTo>
                  <a:pt x="13466" y="10144"/>
                  <a:pt x="13449" y="10065"/>
                  <a:pt x="13444" y="10046"/>
                </a:cubicBezTo>
              </a:path>
              <a:path w="6028" h="1192">
                <a:moveTo>
                  <a:pt x="13469" y="9376"/>
                </a:moveTo>
                <a:cubicBezTo>
                  <a:pt x="13477" y="9376"/>
                  <a:pt x="13486" y="9376"/>
                  <a:pt x="13494" y="9376"/>
                </a:cubicBezTo>
              </a:path>
              <a:path w="6028" h="1192">
                <a:moveTo>
                  <a:pt x="13593" y="9922"/>
                </a:moveTo>
                <a:cubicBezTo>
                  <a:pt x="13593" y="10033"/>
                  <a:pt x="13593" y="10124"/>
                  <a:pt x="13593" y="9971"/>
                </a:cubicBezTo>
                <a:cubicBezTo>
                  <a:pt x="13593" y="9925"/>
                  <a:pt x="13601" y="9816"/>
                  <a:pt x="13618" y="9773"/>
                </a:cubicBezTo>
                <a:cubicBezTo>
                  <a:pt x="13636" y="9726"/>
                  <a:pt x="13657" y="9670"/>
                  <a:pt x="13692" y="9624"/>
                </a:cubicBezTo>
                <a:cubicBezTo>
                  <a:pt x="13735" y="9567"/>
                  <a:pt x="13812" y="9629"/>
                  <a:pt x="13841" y="9674"/>
                </a:cubicBezTo>
                <a:cubicBezTo>
                  <a:pt x="13910" y="9780"/>
                  <a:pt x="13952" y="9907"/>
                  <a:pt x="13990" y="10021"/>
                </a:cubicBezTo>
                <a:cubicBezTo>
                  <a:pt x="14006" y="10068"/>
                  <a:pt x="14018" y="10201"/>
                  <a:pt x="14039" y="10096"/>
                </a:cubicBezTo>
              </a:path>
              <a:path w="6028" h="1192">
                <a:moveTo>
                  <a:pt x="14312" y="9327"/>
                </a:moveTo>
                <a:cubicBezTo>
                  <a:pt x="14426" y="9327"/>
                  <a:pt x="14529" y="9316"/>
                  <a:pt x="14635" y="9302"/>
                </a:cubicBezTo>
                <a:cubicBezTo>
                  <a:pt x="14696" y="9302"/>
                  <a:pt x="14712" y="9311"/>
                  <a:pt x="14734" y="9277"/>
                </a:cubicBezTo>
              </a:path>
              <a:path w="6028" h="1192">
                <a:moveTo>
                  <a:pt x="14312" y="9351"/>
                </a:moveTo>
                <a:cubicBezTo>
                  <a:pt x="14250" y="9432"/>
                  <a:pt x="14238" y="9473"/>
                  <a:pt x="14238" y="9575"/>
                </a:cubicBezTo>
                <a:cubicBezTo>
                  <a:pt x="14310" y="9575"/>
                  <a:pt x="14347" y="9554"/>
                  <a:pt x="14412" y="9550"/>
                </a:cubicBezTo>
                <a:cubicBezTo>
                  <a:pt x="14504" y="9545"/>
                  <a:pt x="14545" y="9574"/>
                  <a:pt x="14585" y="9649"/>
                </a:cubicBezTo>
                <a:cubicBezTo>
                  <a:pt x="14628" y="9730"/>
                  <a:pt x="14700" y="9850"/>
                  <a:pt x="14684" y="9947"/>
                </a:cubicBezTo>
                <a:cubicBezTo>
                  <a:pt x="14672" y="10022"/>
                  <a:pt x="14645" y="10071"/>
                  <a:pt x="14585" y="10096"/>
                </a:cubicBezTo>
                <a:cubicBezTo>
                  <a:pt x="14549" y="10111"/>
                  <a:pt x="14404" y="10162"/>
                  <a:pt x="14387" y="10096"/>
                </a:cubicBezTo>
                <a:cubicBezTo>
                  <a:pt x="14387" y="10063"/>
                  <a:pt x="14387" y="10029"/>
                  <a:pt x="14387" y="9996"/>
                </a:cubicBezTo>
              </a:path>
              <a:path w="6028" h="1192">
                <a:moveTo>
                  <a:pt x="14932" y="9376"/>
                </a:moveTo>
                <a:cubicBezTo>
                  <a:pt x="14995" y="9502"/>
                  <a:pt x="14982" y="9575"/>
                  <a:pt x="14982" y="9723"/>
                </a:cubicBezTo>
                <a:cubicBezTo>
                  <a:pt x="14982" y="9755"/>
                  <a:pt x="14961" y="10096"/>
                  <a:pt x="15007" y="10096"/>
                </a:cubicBezTo>
                <a:cubicBezTo>
                  <a:pt x="15015" y="10088"/>
                  <a:pt x="15024" y="10079"/>
                  <a:pt x="15032" y="10071"/>
                </a:cubicBezTo>
              </a:path>
              <a:path w="6028" h="1192">
                <a:moveTo>
                  <a:pt x="15255" y="9227"/>
                </a:moveTo>
                <a:cubicBezTo>
                  <a:pt x="15229" y="9270"/>
                  <a:pt x="15211" y="9376"/>
                  <a:pt x="15304" y="9376"/>
                </a:cubicBezTo>
                <a:cubicBezTo>
                  <a:pt x="15407" y="9376"/>
                  <a:pt x="15376" y="9253"/>
                  <a:pt x="15354" y="9203"/>
                </a:cubicBezTo>
                <a:cubicBezTo>
                  <a:pt x="15317" y="9120"/>
                  <a:pt x="15288" y="9136"/>
                  <a:pt x="15205" y="9128"/>
                </a:cubicBezTo>
              </a:path>
              <a:path w="6028" h="1192">
                <a:moveTo>
                  <a:pt x="15652" y="9773"/>
                </a:moveTo>
                <a:cubicBezTo>
                  <a:pt x="15742" y="9773"/>
                  <a:pt x="15840" y="9775"/>
                  <a:pt x="15925" y="9748"/>
                </a:cubicBezTo>
                <a:cubicBezTo>
                  <a:pt x="15941" y="9740"/>
                  <a:pt x="15958" y="9731"/>
                  <a:pt x="15974" y="9723"/>
                </a:cubicBezTo>
              </a:path>
              <a:path w="6028" h="1192">
                <a:moveTo>
                  <a:pt x="15776" y="9996"/>
                </a:moveTo>
                <a:cubicBezTo>
                  <a:pt x="15893" y="10016"/>
                  <a:pt x="15915" y="10039"/>
                  <a:pt x="15974" y="9996"/>
                </a:cubicBezTo>
              </a:path>
              <a:path w="6028" h="1192">
                <a:moveTo>
                  <a:pt x="16520" y="9103"/>
                </a:moveTo>
                <a:cubicBezTo>
                  <a:pt x="16556" y="9184"/>
                  <a:pt x="16584" y="9269"/>
                  <a:pt x="16619" y="9351"/>
                </a:cubicBezTo>
                <a:cubicBezTo>
                  <a:pt x="16660" y="9447"/>
                  <a:pt x="16746" y="9507"/>
                  <a:pt x="16818" y="9575"/>
                </a:cubicBezTo>
                <a:cubicBezTo>
                  <a:pt x="16893" y="9645"/>
                  <a:pt x="16988" y="9747"/>
                  <a:pt x="17090" y="9773"/>
                </a:cubicBezTo>
                <a:cubicBezTo>
                  <a:pt x="17140" y="9773"/>
                  <a:pt x="17157" y="9773"/>
                  <a:pt x="17190" y="9773"/>
                </a:cubicBezTo>
              </a:path>
              <a:path w="6028" h="1192">
                <a:moveTo>
                  <a:pt x="16892" y="9153"/>
                </a:moveTo>
                <a:cubicBezTo>
                  <a:pt x="16784" y="9306"/>
                  <a:pt x="16731" y="9387"/>
                  <a:pt x="16669" y="9550"/>
                </a:cubicBezTo>
                <a:cubicBezTo>
                  <a:pt x="16631" y="9650"/>
                  <a:pt x="16593" y="9751"/>
                  <a:pt x="16545" y="9847"/>
                </a:cubicBezTo>
              </a:path>
              <a:path w="6028" h="1192">
                <a:moveTo>
                  <a:pt x="16371" y="9947"/>
                </a:moveTo>
                <a:cubicBezTo>
                  <a:pt x="16492" y="9940"/>
                  <a:pt x="16595" y="9922"/>
                  <a:pt x="16718" y="9922"/>
                </a:cubicBezTo>
                <a:cubicBezTo>
                  <a:pt x="16895" y="9922"/>
                  <a:pt x="17067" y="9928"/>
                  <a:pt x="17239" y="9897"/>
                </a:cubicBezTo>
                <a:cubicBezTo>
                  <a:pt x="17247" y="9897"/>
                  <a:pt x="17256" y="9897"/>
                  <a:pt x="17264" y="9897"/>
                </a:cubicBezTo>
              </a:path>
              <a:path w="6028" h="1192">
                <a:moveTo>
                  <a:pt x="12378" y="9599"/>
                </a:moveTo>
                <a:cubicBezTo>
                  <a:pt x="12370" y="9616"/>
                  <a:pt x="12361" y="9632"/>
                  <a:pt x="12353" y="9649"/>
                </a:cubicBezTo>
              </a:path>
              <a:path w="6028" h="1192">
                <a:moveTo>
                  <a:pt x="11311" y="9302"/>
                </a:moveTo>
                <a:cubicBezTo>
                  <a:pt x="11332" y="9379"/>
                  <a:pt x="11353" y="9468"/>
                  <a:pt x="11336" y="9550"/>
                </a:cubicBezTo>
                <a:cubicBezTo>
                  <a:pt x="11315" y="9650"/>
                  <a:pt x="11309" y="9750"/>
                  <a:pt x="11286" y="9847"/>
                </a:cubicBezTo>
                <a:cubicBezTo>
                  <a:pt x="11271" y="9912"/>
                  <a:pt x="11236" y="10020"/>
                  <a:pt x="11261" y="10046"/>
                </a:cubicBezTo>
              </a:path>
              <a:path w="6028" h="1192">
                <a:moveTo>
                  <a:pt x="11584" y="9401"/>
                </a:moveTo>
                <a:cubicBezTo>
                  <a:pt x="11558" y="9471"/>
                  <a:pt x="11518" y="9553"/>
                  <a:pt x="11509" y="9624"/>
                </a:cubicBezTo>
                <a:cubicBezTo>
                  <a:pt x="11501" y="9683"/>
                  <a:pt x="11473" y="9878"/>
                  <a:pt x="11534" y="9922"/>
                </a:cubicBezTo>
                <a:cubicBezTo>
                  <a:pt x="11593" y="9964"/>
                  <a:pt x="11668" y="9927"/>
                  <a:pt x="11708" y="9872"/>
                </a:cubicBezTo>
                <a:cubicBezTo>
                  <a:pt x="11744" y="9822"/>
                  <a:pt x="11774" y="9732"/>
                  <a:pt x="11782" y="9674"/>
                </a:cubicBezTo>
                <a:cubicBezTo>
                  <a:pt x="11793" y="9589"/>
                  <a:pt x="11767" y="9527"/>
                  <a:pt x="11757" y="9451"/>
                </a:cubicBezTo>
                <a:cubicBezTo>
                  <a:pt x="11746" y="9364"/>
                  <a:pt x="11754" y="9332"/>
                  <a:pt x="11658" y="9327"/>
                </a:cubicBezTo>
                <a:cubicBezTo>
                  <a:pt x="11617" y="9327"/>
                  <a:pt x="11609" y="9327"/>
                  <a:pt x="11584" y="9327"/>
                </a:cubicBezTo>
              </a:path>
              <a:path w="6028" h="1192">
                <a:moveTo>
                  <a:pt x="11881" y="9451"/>
                </a:moveTo>
                <a:cubicBezTo>
                  <a:pt x="11895" y="9565"/>
                  <a:pt x="11889" y="9721"/>
                  <a:pt x="11956" y="9823"/>
                </a:cubicBezTo>
                <a:cubicBezTo>
                  <a:pt x="11991" y="9877"/>
                  <a:pt x="12058" y="9870"/>
                  <a:pt x="12105" y="9847"/>
                </a:cubicBezTo>
                <a:cubicBezTo>
                  <a:pt x="12118" y="9841"/>
                  <a:pt x="12248" y="9736"/>
                  <a:pt x="12254" y="9723"/>
                </a:cubicBezTo>
                <a:cubicBezTo>
                  <a:pt x="12274" y="9683"/>
                  <a:pt x="12291" y="9573"/>
                  <a:pt x="12278" y="9525"/>
                </a:cubicBezTo>
                <a:cubicBezTo>
                  <a:pt x="12257" y="9447"/>
                  <a:pt x="12237" y="9390"/>
                  <a:pt x="12179" y="9327"/>
                </a:cubicBezTo>
                <a:cubicBezTo>
                  <a:pt x="12156" y="9304"/>
                  <a:pt x="12152" y="9296"/>
                  <a:pt x="12129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2"/>
          <p:cNvSpPr/>
          <p:nvPr/>
        </p:nvSpPr>
        <p:spPr>
          <a:xfrm>
            <a:off x="4653000" y="4179960"/>
            <a:ext cx="1419120" cy="606240"/>
          </a:xfrm>
          <a:custGeom>
            <a:avLst/>
            <a:gdLst/>
            <a:ahLst/>
            <a:rect l="l" t="t" r="r" b="b"/>
            <a:pathLst>
              <a:path w="3945" h="1687">
                <a:moveTo>
                  <a:pt x="15925" y="12005"/>
                </a:moveTo>
                <a:cubicBezTo>
                  <a:pt x="15984" y="12041"/>
                  <a:pt x="16036" y="12006"/>
                  <a:pt x="16098" y="12030"/>
                </a:cubicBezTo>
                <a:cubicBezTo>
                  <a:pt x="16134" y="12044"/>
                  <a:pt x="16158" y="12058"/>
                  <a:pt x="16173" y="12080"/>
                </a:cubicBezTo>
              </a:path>
              <a:path w="3945" h="1687">
                <a:moveTo>
                  <a:pt x="15751" y="12452"/>
                </a:moveTo>
                <a:cubicBezTo>
                  <a:pt x="15857" y="12452"/>
                  <a:pt x="15931" y="12450"/>
                  <a:pt x="16024" y="12427"/>
                </a:cubicBezTo>
                <a:cubicBezTo>
                  <a:pt x="16049" y="12419"/>
                  <a:pt x="16073" y="12410"/>
                  <a:pt x="16098" y="12402"/>
                </a:cubicBezTo>
              </a:path>
              <a:path w="3945" h="1687">
                <a:moveTo>
                  <a:pt x="16446" y="11906"/>
                </a:moveTo>
                <a:cubicBezTo>
                  <a:pt x="16455" y="11969"/>
                  <a:pt x="16484" y="12016"/>
                  <a:pt x="16495" y="12080"/>
                </a:cubicBezTo>
                <a:cubicBezTo>
                  <a:pt x="16506" y="12147"/>
                  <a:pt x="16525" y="12220"/>
                  <a:pt x="16570" y="12278"/>
                </a:cubicBezTo>
                <a:cubicBezTo>
                  <a:pt x="16621" y="12344"/>
                  <a:pt x="16656" y="12401"/>
                  <a:pt x="16694" y="12477"/>
                </a:cubicBezTo>
                <a:cubicBezTo>
                  <a:pt x="16734" y="12557"/>
                  <a:pt x="16759" y="12568"/>
                  <a:pt x="16842" y="12601"/>
                </a:cubicBezTo>
              </a:path>
              <a:path w="3945" h="1687">
                <a:moveTo>
                  <a:pt x="16867" y="11832"/>
                </a:moveTo>
                <a:cubicBezTo>
                  <a:pt x="16742" y="11957"/>
                  <a:pt x="16690" y="12066"/>
                  <a:pt x="16594" y="12204"/>
                </a:cubicBezTo>
                <a:cubicBezTo>
                  <a:pt x="16507" y="12330"/>
                  <a:pt x="16458" y="12477"/>
                  <a:pt x="16371" y="12601"/>
                </a:cubicBezTo>
                <a:cubicBezTo>
                  <a:pt x="16354" y="12617"/>
                  <a:pt x="16338" y="12634"/>
                  <a:pt x="16321" y="12650"/>
                </a:cubicBezTo>
              </a:path>
              <a:path w="3945" h="1687">
                <a:moveTo>
                  <a:pt x="12923" y="12328"/>
                </a:moveTo>
                <a:cubicBezTo>
                  <a:pt x="12967" y="12372"/>
                  <a:pt x="13004" y="12397"/>
                  <a:pt x="13072" y="12378"/>
                </a:cubicBezTo>
                <a:cubicBezTo>
                  <a:pt x="13153" y="12355"/>
                  <a:pt x="13238" y="12321"/>
                  <a:pt x="13320" y="12303"/>
                </a:cubicBezTo>
                <a:cubicBezTo>
                  <a:pt x="13360" y="12294"/>
                  <a:pt x="13460" y="12247"/>
                  <a:pt x="13494" y="12303"/>
                </a:cubicBezTo>
                <a:cubicBezTo>
                  <a:pt x="13526" y="12356"/>
                  <a:pt x="13451" y="12473"/>
                  <a:pt x="13444" y="12526"/>
                </a:cubicBezTo>
                <a:cubicBezTo>
                  <a:pt x="13428" y="12650"/>
                  <a:pt x="13406" y="12778"/>
                  <a:pt x="13370" y="12898"/>
                </a:cubicBezTo>
                <a:cubicBezTo>
                  <a:pt x="13341" y="12995"/>
                  <a:pt x="13246" y="13169"/>
                  <a:pt x="13271" y="13271"/>
                </a:cubicBezTo>
                <a:cubicBezTo>
                  <a:pt x="13279" y="13279"/>
                  <a:pt x="13287" y="13287"/>
                  <a:pt x="13295" y="13295"/>
                </a:cubicBezTo>
              </a:path>
              <a:path w="3945" h="1687">
                <a:moveTo>
                  <a:pt x="13643" y="12328"/>
                </a:moveTo>
                <a:cubicBezTo>
                  <a:pt x="13715" y="12292"/>
                  <a:pt x="13840" y="12199"/>
                  <a:pt x="13915" y="12179"/>
                </a:cubicBezTo>
                <a:cubicBezTo>
                  <a:pt x="13977" y="12162"/>
                  <a:pt x="14008" y="12145"/>
                  <a:pt x="14064" y="12179"/>
                </a:cubicBezTo>
                <a:cubicBezTo>
                  <a:pt x="14030" y="12257"/>
                  <a:pt x="14000" y="12346"/>
                  <a:pt x="13990" y="12427"/>
                </a:cubicBezTo>
                <a:cubicBezTo>
                  <a:pt x="13979" y="12511"/>
                  <a:pt x="13988" y="12594"/>
                  <a:pt x="13965" y="12675"/>
                </a:cubicBezTo>
                <a:cubicBezTo>
                  <a:pt x="13949" y="12732"/>
                  <a:pt x="13927" y="12738"/>
                  <a:pt x="13915" y="12849"/>
                </a:cubicBezTo>
                <a:cubicBezTo>
                  <a:pt x="13906" y="12930"/>
                  <a:pt x="13879" y="12995"/>
                  <a:pt x="13866" y="13072"/>
                </a:cubicBezTo>
                <a:cubicBezTo>
                  <a:pt x="13866" y="13122"/>
                  <a:pt x="13866" y="13138"/>
                  <a:pt x="13915" y="13122"/>
                </a:cubicBezTo>
              </a:path>
              <a:path w="3945" h="1687">
                <a:moveTo>
                  <a:pt x="14213" y="12874"/>
                </a:moveTo>
                <a:cubicBezTo>
                  <a:pt x="14188" y="12916"/>
                  <a:pt x="14173" y="12938"/>
                  <a:pt x="14139" y="12973"/>
                </a:cubicBezTo>
              </a:path>
              <a:path w="3945" h="1687">
                <a:moveTo>
                  <a:pt x="14412" y="12129"/>
                </a:moveTo>
                <a:cubicBezTo>
                  <a:pt x="14508" y="12123"/>
                  <a:pt x="14597" y="12119"/>
                  <a:pt x="14684" y="12080"/>
                </a:cubicBezTo>
                <a:cubicBezTo>
                  <a:pt x="14742" y="12054"/>
                  <a:pt x="14844" y="12016"/>
                  <a:pt x="14908" y="12030"/>
                </a:cubicBezTo>
                <a:cubicBezTo>
                  <a:pt x="15015" y="12053"/>
                  <a:pt x="14939" y="12240"/>
                  <a:pt x="14908" y="12303"/>
                </a:cubicBezTo>
                <a:cubicBezTo>
                  <a:pt x="14861" y="12397"/>
                  <a:pt x="14815" y="12473"/>
                  <a:pt x="14784" y="12576"/>
                </a:cubicBezTo>
                <a:cubicBezTo>
                  <a:pt x="14752" y="12684"/>
                  <a:pt x="14747" y="12795"/>
                  <a:pt x="14709" y="12898"/>
                </a:cubicBezTo>
                <a:cubicBezTo>
                  <a:pt x="14685" y="12964"/>
                  <a:pt x="14669" y="13025"/>
                  <a:pt x="14660" y="13097"/>
                </a:cubicBezTo>
              </a:path>
              <a:path w="3945" h="1687">
                <a:moveTo>
                  <a:pt x="15329" y="11609"/>
                </a:moveTo>
                <a:cubicBezTo>
                  <a:pt x="15319" y="11756"/>
                  <a:pt x="15269" y="11846"/>
                  <a:pt x="15205" y="11981"/>
                </a:cubicBezTo>
                <a:cubicBezTo>
                  <a:pt x="15157" y="12078"/>
                  <a:pt x="15142" y="12108"/>
                  <a:pt x="15131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3"/>
          <p:cNvSpPr/>
          <p:nvPr/>
        </p:nvSpPr>
        <p:spPr>
          <a:xfrm>
            <a:off x="5875200" y="3259080"/>
            <a:ext cx="1143000" cy="768240"/>
          </a:xfrm>
          <a:custGeom>
            <a:avLst/>
            <a:gdLst/>
            <a:ahLst/>
            <a:rect l="l" t="t" r="r" b="b"/>
            <a:pathLst>
              <a:path w="3176" h="2134">
                <a:moveTo>
                  <a:pt x="16594" y="10616"/>
                </a:moveTo>
                <a:cubicBezTo>
                  <a:pt x="16608" y="10761"/>
                  <a:pt x="16622" y="10882"/>
                  <a:pt x="16644" y="11013"/>
                </a:cubicBezTo>
                <a:cubicBezTo>
                  <a:pt x="16644" y="11055"/>
                  <a:pt x="16636" y="11071"/>
                  <a:pt x="16669" y="11063"/>
                </a:cubicBezTo>
              </a:path>
              <a:path w="3176" h="2134">
                <a:moveTo>
                  <a:pt x="16991" y="10517"/>
                </a:moveTo>
                <a:cubicBezTo>
                  <a:pt x="16935" y="10660"/>
                  <a:pt x="16881" y="10742"/>
                  <a:pt x="16942" y="10889"/>
                </a:cubicBezTo>
                <a:cubicBezTo>
                  <a:pt x="16965" y="10944"/>
                  <a:pt x="17081" y="11016"/>
                  <a:pt x="17140" y="11013"/>
                </a:cubicBezTo>
                <a:cubicBezTo>
                  <a:pt x="17209" y="11010"/>
                  <a:pt x="17278" y="10927"/>
                  <a:pt x="17289" y="10864"/>
                </a:cubicBezTo>
                <a:cubicBezTo>
                  <a:pt x="17303" y="10781"/>
                  <a:pt x="17310" y="10720"/>
                  <a:pt x="17289" y="10641"/>
                </a:cubicBezTo>
                <a:cubicBezTo>
                  <a:pt x="17255" y="10513"/>
                  <a:pt x="17151" y="10528"/>
                  <a:pt x="17041" y="10492"/>
                </a:cubicBezTo>
                <a:cubicBezTo>
                  <a:pt x="16991" y="10476"/>
                  <a:pt x="16970" y="10468"/>
                  <a:pt x="16917" y="10468"/>
                </a:cubicBezTo>
              </a:path>
              <a:path w="3176" h="2134">
                <a:moveTo>
                  <a:pt x="17289" y="10716"/>
                </a:moveTo>
                <a:cubicBezTo>
                  <a:pt x="17271" y="10834"/>
                  <a:pt x="17243" y="10928"/>
                  <a:pt x="17289" y="11038"/>
                </a:cubicBezTo>
                <a:cubicBezTo>
                  <a:pt x="17323" y="11119"/>
                  <a:pt x="17408" y="11122"/>
                  <a:pt x="17487" y="11112"/>
                </a:cubicBezTo>
                <a:cubicBezTo>
                  <a:pt x="17636" y="11093"/>
                  <a:pt x="17683" y="11063"/>
                  <a:pt x="17711" y="10914"/>
                </a:cubicBezTo>
                <a:cubicBezTo>
                  <a:pt x="17725" y="10842"/>
                  <a:pt x="17675" y="10729"/>
                  <a:pt x="17611" y="10691"/>
                </a:cubicBezTo>
                <a:cubicBezTo>
                  <a:pt x="17530" y="10643"/>
                  <a:pt x="17444" y="10618"/>
                  <a:pt x="17363" y="10567"/>
                </a:cubicBezTo>
              </a:path>
              <a:path w="3176" h="2134">
                <a:moveTo>
                  <a:pt x="17785" y="9897"/>
                </a:moveTo>
                <a:cubicBezTo>
                  <a:pt x="17743" y="9897"/>
                  <a:pt x="17727" y="9889"/>
                  <a:pt x="17735" y="9922"/>
                </a:cubicBezTo>
              </a:path>
              <a:path w="3176" h="2134">
                <a:moveTo>
                  <a:pt x="18182" y="9302"/>
                </a:moveTo>
                <a:cubicBezTo>
                  <a:pt x="18207" y="9445"/>
                  <a:pt x="18199" y="9509"/>
                  <a:pt x="18182" y="9649"/>
                </a:cubicBezTo>
                <a:cubicBezTo>
                  <a:pt x="18171" y="9740"/>
                  <a:pt x="18167" y="9809"/>
                  <a:pt x="18132" y="9897"/>
                </a:cubicBezTo>
              </a:path>
              <a:path w="3176" h="2134">
                <a:moveTo>
                  <a:pt x="18405" y="9475"/>
                </a:moveTo>
                <a:cubicBezTo>
                  <a:pt x="18409" y="9618"/>
                  <a:pt x="18342" y="9833"/>
                  <a:pt x="18479" y="9872"/>
                </a:cubicBezTo>
                <a:cubicBezTo>
                  <a:pt x="18554" y="9893"/>
                  <a:pt x="18609" y="9818"/>
                  <a:pt x="18653" y="9773"/>
                </a:cubicBezTo>
                <a:cubicBezTo>
                  <a:pt x="18714" y="9712"/>
                  <a:pt x="18724" y="9633"/>
                  <a:pt x="18728" y="9550"/>
                </a:cubicBezTo>
                <a:cubicBezTo>
                  <a:pt x="18731" y="9499"/>
                  <a:pt x="18715" y="9394"/>
                  <a:pt x="18653" y="9376"/>
                </a:cubicBezTo>
                <a:cubicBezTo>
                  <a:pt x="18591" y="9358"/>
                  <a:pt x="18460" y="9377"/>
                  <a:pt x="18405" y="9401"/>
                </a:cubicBezTo>
                <a:cubicBezTo>
                  <a:pt x="18380" y="9426"/>
                  <a:pt x="18372" y="9434"/>
                  <a:pt x="18355" y="9451"/>
                </a:cubicBezTo>
              </a:path>
              <a:path w="3176" h="2134">
                <a:moveTo>
                  <a:pt x="18951" y="9327"/>
                </a:moveTo>
                <a:cubicBezTo>
                  <a:pt x="18944" y="9450"/>
                  <a:pt x="18901" y="9537"/>
                  <a:pt x="18876" y="9649"/>
                </a:cubicBezTo>
                <a:cubicBezTo>
                  <a:pt x="18864" y="9704"/>
                  <a:pt x="18916" y="9768"/>
                  <a:pt x="18976" y="9748"/>
                </a:cubicBezTo>
                <a:cubicBezTo>
                  <a:pt x="19033" y="9729"/>
                  <a:pt x="19114" y="9648"/>
                  <a:pt x="19149" y="9599"/>
                </a:cubicBezTo>
                <a:cubicBezTo>
                  <a:pt x="19193" y="9538"/>
                  <a:pt x="19298" y="9464"/>
                  <a:pt x="19298" y="9376"/>
                </a:cubicBezTo>
                <a:cubicBezTo>
                  <a:pt x="19298" y="9328"/>
                  <a:pt x="19149" y="9282"/>
                  <a:pt x="19124" y="9277"/>
                </a:cubicBezTo>
                <a:cubicBezTo>
                  <a:pt x="19058" y="9277"/>
                  <a:pt x="19025" y="9277"/>
                  <a:pt x="18976" y="9277"/>
                </a:cubicBezTo>
              </a:path>
              <a:path w="3176" h="2134">
                <a:moveTo>
                  <a:pt x="16321" y="11187"/>
                </a:moveTo>
                <a:cubicBezTo>
                  <a:pt x="16411" y="11106"/>
                  <a:pt x="16501" y="11046"/>
                  <a:pt x="16594" y="10964"/>
                </a:cubicBezTo>
                <a:cubicBezTo>
                  <a:pt x="16708" y="10864"/>
                  <a:pt x="16818" y="10779"/>
                  <a:pt x="16942" y="10691"/>
                </a:cubicBezTo>
                <a:cubicBezTo>
                  <a:pt x="17078" y="10594"/>
                  <a:pt x="17235" y="10524"/>
                  <a:pt x="17363" y="10418"/>
                </a:cubicBezTo>
                <a:cubicBezTo>
                  <a:pt x="17465" y="10333"/>
                  <a:pt x="17581" y="10292"/>
                  <a:pt x="17686" y="10220"/>
                </a:cubicBezTo>
                <a:cubicBezTo>
                  <a:pt x="17735" y="10170"/>
                  <a:pt x="17752" y="10153"/>
                  <a:pt x="17785" y="10120"/>
                </a:cubicBezTo>
              </a:path>
              <a:path w="3176" h="2134">
                <a:moveTo>
                  <a:pt x="18207" y="9798"/>
                </a:moveTo>
                <a:cubicBezTo>
                  <a:pt x="18271" y="9761"/>
                  <a:pt x="18326" y="9725"/>
                  <a:pt x="18380" y="9674"/>
                </a:cubicBezTo>
                <a:cubicBezTo>
                  <a:pt x="18480" y="9579"/>
                  <a:pt x="18595" y="9551"/>
                  <a:pt x="18703" y="9475"/>
                </a:cubicBezTo>
                <a:cubicBezTo>
                  <a:pt x="18853" y="9371"/>
                  <a:pt x="19011" y="9290"/>
                  <a:pt x="19174" y="9203"/>
                </a:cubicBezTo>
                <a:cubicBezTo>
                  <a:pt x="19279" y="9147"/>
                  <a:pt x="19487" y="8935"/>
                  <a:pt x="19496" y="9054"/>
                </a:cubicBezTo>
                <a:cubicBezTo>
                  <a:pt x="19488" y="9062"/>
                  <a:pt x="19480" y="9071"/>
                  <a:pt x="19472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 A 20-foot ladder is leaning against the side of a building.  The base of the ladder is 12 feet away from the building.  What angle of elevation does the ladder make with the g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5"/>
          <p:cNvSpPr/>
          <p:nvPr/>
        </p:nvSpPr>
        <p:spPr>
          <a:xfrm>
            <a:off x="982800" y="3848040"/>
            <a:ext cx="1017360" cy="1563840"/>
          </a:xfrm>
          <a:custGeom>
            <a:avLst/>
            <a:gdLst/>
            <a:ahLst/>
            <a:rect l="l" t="t" r="r" b="b"/>
            <a:pathLst>
              <a:path w="2828" h="4342">
                <a:moveTo>
                  <a:pt x="2753" y="10691"/>
                </a:moveTo>
                <a:cubicBezTo>
                  <a:pt x="2753" y="10810"/>
                  <a:pt x="2737" y="10922"/>
                  <a:pt x="2729" y="11038"/>
                </a:cubicBezTo>
                <a:cubicBezTo>
                  <a:pt x="2700" y="11448"/>
                  <a:pt x="2734" y="11870"/>
                  <a:pt x="2753" y="12278"/>
                </a:cubicBezTo>
                <a:cubicBezTo>
                  <a:pt x="2764" y="12509"/>
                  <a:pt x="2774" y="12742"/>
                  <a:pt x="2778" y="12973"/>
                </a:cubicBezTo>
                <a:cubicBezTo>
                  <a:pt x="2782" y="13206"/>
                  <a:pt x="2800" y="13435"/>
                  <a:pt x="2803" y="13667"/>
                </a:cubicBezTo>
                <a:cubicBezTo>
                  <a:pt x="2806" y="13919"/>
                  <a:pt x="2828" y="14161"/>
                  <a:pt x="2828" y="14412"/>
                </a:cubicBezTo>
                <a:cubicBezTo>
                  <a:pt x="2828" y="14549"/>
                  <a:pt x="2822" y="14676"/>
                  <a:pt x="2853" y="14808"/>
                </a:cubicBezTo>
                <a:cubicBezTo>
                  <a:pt x="2853" y="14633"/>
                  <a:pt x="2878" y="14560"/>
                  <a:pt x="2902" y="14387"/>
                </a:cubicBezTo>
              </a:path>
              <a:path w="2828" h="4342">
                <a:moveTo>
                  <a:pt x="2952" y="14387"/>
                </a:moveTo>
                <a:cubicBezTo>
                  <a:pt x="2952" y="14370"/>
                  <a:pt x="2952" y="14354"/>
                  <a:pt x="2952" y="14337"/>
                </a:cubicBezTo>
                <a:cubicBezTo>
                  <a:pt x="3022" y="14347"/>
                  <a:pt x="3078" y="14397"/>
                  <a:pt x="3150" y="14412"/>
                </a:cubicBezTo>
                <a:cubicBezTo>
                  <a:pt x="3201" y="14423"/>
                  <a:pt x="3276" y="14439"/>
                  <a:pt x="3324" y="14461"/>
                </a:cubicBezTo>
                <a:cubicBezTo>
                  <a:pt x="3349" y="14486"/>
                  <a:pt x="3357" y="14494"/>
                  <a:pt x="3373" y="14461"/>
                </a:cubicBezTo>
                <a:cubicBezTo>
                  <a:pt x="3373" y="14627"/>
                  <a:pt x="3341" y="14826"/>
                  <a:pt x="3398" y="14982"/>
                </a:cubicBezTo>
                <a:cubicBezTo>
                  <a:pt x="3406" y="14999"/>
                  <a:pt x="3415" y="15015"/>
                  <a:pt x="3423" y="15032"/>
                </a:cubicBezTo>
              </a:path>
              <a:path w="2828" h="4342">
                <a:moveTo>
                  <a:pt x="4638" y="11311"/>
                </a:moveTo>
                <a:cubicBezTo>
                  <a:pt x="4666" y="11339"/>
                  <a:pt x="4675" y="11352"/>
                  <a:pt x="4663" y="11385"/>
                </a:cubicBezTo>
                <a:cubicBezTo>
                  <a:pt x="4682" y="11348"/>
                  <a:pt x="4713" y="11251"/>
                  <a:pt x="4762" y="11237"/>
                </a:cubicBezTo>
                <a:cubicBezTo>
                  <a:pt x="4818" y="11221"/>
                  <a:pt x="4921" y="11243"/>
                  <a:pt x="4961" y="11286"/>
                </a:cubicBezTo>
                <a:cubicBezTo>
                  <a:pt x="5012" y="11341"/>
                  <a:pt x="5069" y="11460"/>
                  <a:pt x="5085" y="11534"/>
                </a:cubicBezTo>
                <a:cubicBezTo>
                  <a:pt x="5101" y="11608"/>
                  <a:pt x="5074" y="11695"/>
                  <a:pt x="5035" y="11757"/>
                </a:cubicBezTo>
                <a:cubicBezTo>
                  <a:pt x="5001" y="11811"/>
                  <a:pt x="4942" y="11852"/>
                  <a:pt x="4887" y="11881"/>
                </a:cubicBezTo>
                <a:cubicBezTo>
                  <a:pt x="4822" y="11915"/>
                  <a:pt x="4753" y="11920"/>
                  <a:pt x="4688" y="11881"/>
                </a:cubicBezTo>
                <a:cubicBezTo>
                  <a:pt x="4663" y="11857"/>
                  <a:pt x="4654" y="11849"/>
                  <a:pt x="4638" y="11832"/>
                </a:cubicBezTo>
                <a:cubicBezTo>
                  <a:pt x="4689" y="11781"/>
                  <a:pt x="4715" y="11737"/>
                  <a:pt x="4787" y="11733"/>
                </a:cubicBezTo>
                <a:cubicBezTo>
                  <a:pt x="4847" y="11730"/>
                  <a:pt x="4918" y="11770"/>
                  <a:pt x="4936" y="11832"/>
                </a:cubicBezTo>
                <a:cubicBezTo>
                  <a:pt x="4952" y="11885"/>
                  <a:pt x="4941" y="11953"/>
                  <a:pt x="4961" y="12005"/>
                </a:cubicBezTo>
                <a:cubicBezTo>
                  <a:pt x="4975" y="12041"/>
                  <a:pt x="4989" y="12065"/>
                  <a:pt x="5011" y="12080"/>
                </a:cubicBezTo>
              </a:path>
              <a:path w="2828" h="4342">
                <a:moveTo>
                  <a:pt x="5283" y="11509"/>
                </a:moveTo>
                <a:cubicBezTo>
                  <a:pt x="5238" y="11555"/>
                  <a:pt x="5181" y="11595"/>
                  <a:pt x="5159" y="11658"/>
                </a:cubicBezTo>
                <a:cubicBezTo>
                  <a:pt x="5132" y="11733"/>
                  <a:pt x="5113" y="11857"/>
                  <a:pt x="5159" y="11931"/>
                </a:cubicBezTo>
                <a:cubicBezTo>
                  <a:pt x="5193" y="11986"/>
                  <a:pt x="5295" y="12087"/>
                  <a:pt x="5358" y="12105"/>
                </a:cubicBezTo>
                <a:cubicBezTo>
                  <a:pt x="5440" y="12128"/>
                  <a:pt x="5493" y="12095"/>
                  <a:pt x="5531" y="12030"/>
                </a:cubicBezTo>
                <a:cubicBezTo>
                  <a:pt x="5578" y="11949"/>
                  <a:pt x="5564" y="11841"/>
                  <a:pt x="5531" y="11757"/>
                </a:cubicBezTo>
                <a:cubicBezTo>
                  <a:pt x="5473" y="11609"/>
                  <a:pt x="5346" y="11492"/>
                  <a:pt x="5259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6"/>
          <p:cNvSpPr/>
          <p:nvPr/>
        </p:nvSpPr>
        <p:spPr>
          <a:xfrm>
            <a:off x="1598760" y="5572080"/>
            <a:ext cx="35712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4589" y="15503"/>
                </a:moveTo>
                <a:cubicBezTo>
                  <a:pt x="4589" y="15606"/>
                  <a:pt x="4589" y="15705"/>
                  <a:pt x="4564" y="15801"/>
                </a:cubicBezTo>
                <a:cubicBezTo>
                  <a:pt x="4543" y="15881"/>
                  <a:pt x="4538" y="15972"/>
                  <a:pt x="4514" y="16049"/>
                </a:cubicBezTo>
                <a:cubicBezTo>
                  <a:pt x="4496" y="16107"/>
                  <a:pt x="4465" y="16166"/>
                  <a:pt x="4440" y="16222"/>
                </a:cubicBezTo>
              </a:path>
              <a:path w="993" h="869">
                <a:moveTo>
                  <a:pt x="4837" y="15577"/>
                </a:moveTo>
                <a:cubicBezTo>
                  <a:pt x="4865" y="15557"/>
                  <a:pt x="4977" y="15471"/>
                  <a:pt x="5011" y="15478"/>
                </a:cubicBezTo>
                <a:cubicBezTo>
                  <a:pt x="5052" y="15486"/>
                  <a:pt x="5119" y="15523"/>
                  <a:pt x="5159" y="15553"/>
                </a:cubicBezTo>
                <a:cubicBezTo>
                  <a:pt x="5219" y="15598"/>
                  <a:pt x="5214" y="15667"/>
                  <a:pt x="5234" y="15726"/>
                </a:cubicBezTo>
                <a:cubicBezTo>
                  <a:pt x="5264" y="15816"/>
                  <a:pt x="5249" y="15837"/>
                  <a:pt x="5234" y="15925"/>
                </a:cubicBezTo>
                <a:cubicBezTo>
                  <a:pt x="5219" y="16016"/>
                  <a:pt x="5238" y="16073"/>
                  <a:pt x="5159" y="16148"/>
                </a:cubicBezTo>
                <a:cubicBezTo>
                  <a:pt x="5116" y="16189"/>
                  <a:pt x="5045" y="16213"/>
                  <a:pt x="4986" y="16197"/>
                </a:cubicBezTo>
                <a:cubicBezTo>
                  <a:pt x="4906" y="16175"/>
                  <a:pt x="4926" y="16081"/>
                  <a:pt x="4961" y="16024"/>
                </a:cubicBezTo>
                <a:cubicBezTo>
                  <a:pt x="4995" y="15970"/>
                  <a:pt x="5079" y="16013"/>
                  <a:pt x="5110" y="16049"/>
                </a:cubicBezTo>
                <a:cubicBezTo>
                  <a:pt x="5152" y="16097"/>
                  <a:pt x="5223" y="16122"/>
                  <a:pt x="5259" y="16173"/>
                </a:cubicBezTo>
                <a:cubicBezTo>
                  <a:pt x="5297" y="16226"/>
                  <a:pt x="5313" y="16317"/>
                  <a:pt x="5383" y="16346"/>
                </a:cubicBezTo>
                <a:cubicBezTo>
                  <a:pt x="5399" y="16346"/>
                  <a:pt x="5416" y="16346"/>
                  <a:pt x="5432" y="163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7"/>
          <p:cNvSpPr/>
          <p:nvPr/>
        </p:nvSpPr>
        <p:spPr>
          <a:xfrm>
            <a:off x="2187720" y="5153040"/>
            <a:ext cx="277560" cy="249120"/>
          </a:xfrm>
          <a:custGeom>
            <a:avLst/>
            <a:gdLst/>
            <a:ahLst/>
            <a:rect l="l" t="t" r="r" b="b"/>
            <a:pathLst>
              <a:path w="770" h="696">
                <a:moveTo>
                  <a:pt x="6077" y="14387"/>
                </a:moveTo>
                <a:cubicBezTo>
                  <a:pt x="6107" y="14465"/>
                  <a:pt x="6129" y="14513"/>
                  <a:pt x="6176" y="14585"/>
                </a:cubicBezTo>
                <a:cubicBezTo>
                  <a:pt x="6245" y="14691"/>
                  <a:pt x="6297" y="14765"/>
                  <a:pt x="6375" y="14858"/>
                </a:cubicBezTo>
                <a:cubicBezTo>
                  <a:pt x="6427" y="14920"/>
                  <a:pt x="6451" y="14965"/>
                  <a:pt x="6524" y="15007"/>
                </a:cubicBezTo>
              </a:path>
              <a:path w="770" h="696">
                <a:moveTo>
                  <a:pt x="6524" y="14412"/>
                </a:moveTo>
                <a:cubicBezTo>
                  <a:pt x="6458" y="14477"/>
                  <a:pt x="6458" y="14491"/>
                  <a:pt x="6424" y="14560"/>
                </a:cubicBezTo>
                <a:cubicBezTo>
                  <a:pt x="6389" y="14631"/>
                  <a:pt x="6336" y="14687"/>
                  <a:pt x="6300" y="14759"/>
                </a:cubicBezTo>
                <a:cubicBezTo>
                  <a:pt x="6267" y="14825"/>
                  <a:pt x="6253" y="14894"/>
                  <a:pt x="6226" y="14957"/>
                </a:cubicBezTo>
                <a:cubicBezTo>
                  <a:pt x="6194" y="15031"/>
                  <a:pt x="6222" y="14948"/>
                  <a:pt x="6226" y="14932"/>
                </a:cubicBezTo>
              </a:path>
              <a:path w="770" h="696">
                <a:moveTo>
                  <a:pt x="6722" y="14337"/>
                </a:moveTo>
                <a:cubicBezTo>
                  <a:pt x="6698" y="14377"/>
                  <a:pt x="6676" y="14461"/>
                  <a:pt x="6747" y="14486"/>
                </a:cubicBezTo>
                <a:cubicBezTo>
                  <a:pt x="6787" y="14501"/>
                  <a:pt x="6885" y="14438"/>
                  <a:pt x="6846" y="14387"/>
                </a:cubicBezTo>
                <a:cubicBezTo>
                  <a:pt x="6830" y="14366"/>
                  <a:pt x="6745" y="14325"/>
                  <a:pt x="6722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8"/>
          <p:cNvSpPr/>
          <p:nvPr/>
        </p:nvSpPr>
        <p:spPr>
          <a:xfrm>
            <a:off x="2776680" y="3946680"/>
            <a:ext cx="1814400" cy="785520"/>
          </a:xfrm>
          <a:custGeom>
            <a:avLst/>
            <a:gdLst/>
            <a:ahLst/>
            <a:rect l="l" t="t" r="r" b="b"/>
            <a:pathLst>
              <a:path w="5037" h="2183">
                <a:moveTo>
                  <a:pt x="8186" y="11237"/>
                </a:moveTo>
                <a:cubicBezTo>
                  <a:pt x="8186" y="11294"/>
                  <a:pt x="8184" y="11315"/>
                  <a:pt x="8210" y="11361"/>
                </a:cubicBezTo>
                <a:cubicBezTo>
                  <a:pt x="8250" y="11294"/>
                  <a:pt x="8222" y="11274"/>
                  <a:pt x="8210" y="11212"/>
                </a:cubicBezTo>
                <a:cubicBezTo>
                  <a:pt x="8198" y="11153"/>
                  <a:pt x="8189" y="11115"/>
                  <a:pt x="8161" y="11063"/>
                </a:cubicBezTo>
                <a:cubicBezTo>
                  <a:pt x="8130" y="11005"/>
                  <a:pt x="8062" y="10948"/>
                  <a:pt x="7987" y="10964"/>
                </a:cubicBezTo>
                <a:cubicBezTo>
                  <a:pt x="7924" y="10978"/>
                  <a:pt x="7824" y="11068"/>
                  <a:pt x="7789" y="11112"/>
                </a:cubicBezTo>
                <a:cubicBezTo>
                  <a:pt x="7737" y="11177"/>
                  <a:pt x="7759" y="11287"/>
                  <a:pt x="7739" y="11361"/>
                </a:cubicBezTo>
                <a:cubicBezTo>
                  <a:pt x="7714" y="11451"/>
                  <a:pt x="7699" y="11560"/>
                  <a:pt x="7714" y="11658"/>
                </a:cubicBezTo>
                <a:cubicBezTo>
                  <a:pt x="7731" y="11768"/>
                  <a:pt x="7781" y="11887"/>
                  <a:pt x="7838" y="11981"/>
                </a:cubicBezTo>
                <a:cubicBezTo>
                  <a:pt x="7916" y="12110"/>
                  <a:pt x="7979" y="12177"/>
                  <a:pt x="8111" y="12254"/>
                </a:cubicBezTo>
                <a:cubicBezTo>
                  <a:pt x="8164" y="12285"/>
                  <a:pt x="8202" y="12296"/>
                  <a:pt x="8260" y="12303"/>
                </a:cubicBezTo>
              </a:path>
              <a:path w="5037" h="2183">
                <a:moveTo>
                  <a:pt x="8458" y="11633"/>
                </a:moveTo>
                <a:cubicBezTo>
                  <a:pt x="8419" y="11683"/>
                  <a:pt x="8394" y="11745"/>
                  <a:pt x="8384" y="11807"/>
                </a:cubicBezTo>
                <a:cubicBezTo>
                  <a:pt x="8366" y="11912"/>
                  <a:pt x="8391" y="11990"/>
                  <a:pt x="8434" y="12080"/>
                </a:cubicBezTo>
                <a:cubicBezTo>
                  <a:pt x="8457" y="12128"/>
                  <a:pt x="8525" y="12191"/>
                  <a:pt x="8582" y="12204"/>
                </a:cubicBezTo>
                <a:cubicBezTo>
                  <a:pt x="8658" y="12222"/>
                  <a:pt x="8677" y="12234"/>
                  <a:pt x="8731" y="12179"/>
                </a:cubicBezTo>
                <a:cubicBezTo>
                  <a:pt x="8786" y="12124"/>
                  <a:pt x="8802" y="12056"/>
                  <a:pt x="8806" y="11981"/>
                </a:cubicBezTo>
                <a:cubicBezTo>
                  <a:pt x="8811" y="11889"/>
                  <a:pt x="8797" y="11837"/>
                  <a:pt x="8756" y="11757"/>
                </a:cubicBezTo>
                <a:cubicBezTo>
                  <a:pt x="8712" y="11670"/>
                  <a:pt x="8711" y="11656"/>
                  <a:pt x="8632" y="11584"/>
                </a:cubicBezTo>
                <a:cubicBezTo>
                  <a:pt x="8577" y="11534"/>
                  <a:pt x="8552" y="11566"/>
                  <a:pt x="8508" y="11609"/>
                </a:cubicBezTo>
                <a:cubicBezTo>
                  <a:pt x="8449" y="11666"/>
                  <a:pt x="8460" y="11737"/>
                  <a:pt x="8483" y="11807"/>
                </a:cubicBezTo>
                <a:cubicBezTo>
                  <a:pt x="8508" y="11857"/>
                  <a:pt x="8516" y="11873"/>
                  <a:pt x="8533" y="11906"/>
                </a:cubicBezTo>
              </a:path>
              <a:path w="5037" h="2183">
                <a:moveTo>
                  <a:pt x="9178" y="11658"/>
                </a:moveTo>
                <a:cubicBezTo>
                  <a:pt x="9140" y="11614"/>
                  <a:pt x="9068" y="11569"/>
                  <a:pt x="9004" y="11633"/>
                </a:cubicBezTo>
                <a:cubicBezTo>
                  <a:pt x="8947" y="11690"/>
                  <a:pt x="8992" y="11758"/>
                  <a:pt x="9029" y="11807"/>
                </a:cubicBezTo>
                <a:cubicBezTo>
                  <a:pt x="9082" y="11878"/>
                  <a:pt x="9158" y="11930"/>
                  <a:pt x="9227" y="11981"/>
                </a:cubicBezTo>
                <a:cubicBezTo>
                  <a:pt x="9265" y="12009"/>
                  <a:pt x="9339" y="12115"/>
                  <a:pt x="9351" y="12154"/>
                </a:cubicBezTo>
                <a:cubicBezTo>
                  <a:pt x="9388" y="12275"/>
                  <a:pt x="9289" y="12260"/>
                  <a:pt x="9227" y="12254"/>
                </a:cubicBezTo>
                <a:cubicBezTo>
                  <a:pt x="9173" y="12249"/>
                  <a:pt x="9098" y="12226"/>
                  <a:pt x="9054" y="12204"/>
                </a:cubicBezTo>
                <a:cubicBezTo>
                  <a:pt x="9029" y="12179"/>
                  <a:pt x="9021" y="12171"/>
                  <a:pt x="9004" y="12154"/>
                </a:cubicBezTo>
              </a:path>
              <a:path w="5037" h="2183">
                <a:moveTo>
                  <a:pt x="9525" y="11361"/>
                </a:moveTo>
                <a:cubicBezTo>
                  <a:pt x="9570" y="11449"/>
                  <a:pt x="9581" y="11523"/>
                  <a:pt x="9624" y="11609"/>
                </a:cubicBezTo>
                <a:cubicBezTo>
                  <a:pt x="9671" y="11703"/>
                  <a:pt x="9698" y="11779"/>
                  <a:pt x="9773" y="11857"/>
                </a:cubicBezTo>
                <a:cubicBezTo>
                  <a:pt x="9860" y="11948"/>
                  <a:pt x="9938" y="12038"/>
                  <a:pt x="10021" y="12129"/>
                </a:cubicBezTo>
                <a:cubicBezTo>
                  <a:pt x="10101" y="12217"/>
                  <a:pt x="10105" y="12196"/>
                  <a:pt x="10220" y="12179"/>
                </a:cubicBezTo>
              </a:path>
              <a:path w="5037" h="2183">
                <a:moveTo>
                  <a:pt x="10071" y="11286"/>
                </a:moveTo>
                <a:cubicBezTo>
                  <a:pt x="9972" y="11311"/>
                  <a:pt x="9917" y="11384"/>
                  <a:pt x="9872" y="11485"/>
                </a:cubicBezTo>
                <a:cubicBezTo>
                  <a:pt x="9832" y="11575"/>
                  <a:pt x="9814" y="11666"/>
                  <a:pt x="9773" y="11757"/>
                </a:cubicBezTo>
                <a:cubicBezTo>
                  <a:pt x="9737" y="11839"/>
                  <a:pt x="9712" y="11924"/>
                  <a:pt x="9674" y="12005"/>
                </a:cubicBezTo>
                <a:cubicBezTo>
                  <a:pt x="9643" y="12071"/>
                  <a:pt x="9628" y="12151"/>
                  <a:pt x="9649" y="12204"/>
                </a:cubicBezTo>
              </a:path>
              <a:path w="5037" h="2183">
                <a:moveTo>
                  <a:pt x="10418" y="11658"/>
                </a:moveTo>
                <a:cubicBezTo>
                  <a:pt x="10497" y="11634"/>
                  <a:pt x="10539" y="11609"/>
                  <a:pt x="10616" y="11609"/>
                </a:cubicBezTo>
              </a:path>
              <a:path w="5037" h="2183">
                <a:moveTo>
                  <a:pt x="10319" y="11708"/>
                </a:moveTo>
                <a:cubicBezTo>
                  <a:pt x="10373" y="11783"/>
                  <a:pt x="10426" y="11801"/>
                  <a:pt x="10517" y="11832"/>
                </a:cubicBezTo>
                <a:cubicBezTo>
                  <a:pt x="10582" y="11854"/>
                  <a:pt x="10597" y="11862"/>
                  <a:pt x="10641" y="11857"/>
                </a:cubicBezTo>
              </a:path>
              <a:path w="5037" h="2183">
                <a:moveTo>
                  <a:pt x="11286" y="11063"/>
                </a:moveTo>
                <a:cubicBezTo>
                  <a:pt x="11308" y="11144"/>
                  <a:pt x="11311" y="11203"/>
                  <a:pt x="11311" y="11286"/>
                </a:cubicBezTo>
                <a:cubicBezTo>
                  <a:pt x="11311" y="11399"/>
                  <a:pt x="11314" y="11546"/>
                  <a:pt x="11336" y="11658"/>
                </a:cubicBezTo>
                <a:cubicBezTo>
                  <a:pt x="11353" y="11743"/>
                  <a:pt x="11379" y="11821"/>
                  <a:pt x="11385" y="11906"/>
                </a:cubicBezTo>
                <a:cubicBezTo>
                  <a:pt x="11385" y="11914"/>
                  <a:pt x="11385" y="11923"/>
                  <a:pt x="11385" y="11931"/>
                </a:cubicBezTo>
              </a:path>
              <a:path w="5037" h="2183">
                <a:moveTo>
                  <a:pt x="11733" y="11237"/>
                </a:moveTo>
                <a:cubicBezTo>
                  <a:pt x="11774" y="11195"/>
                  <a:pt x="11782" y="11187"/>
                  <a:pt x="11807" y="11162"/>
                </a:cubicBezTo>
                <a:cubicBezTo>
                  <a:pt x="11843" y="11191"/>
                  <a:pt x="11970" y="11198"/>
                  <a:pt x="11981" y="11212"/>
                </a:cubicBezTo>
                <a:cubicBezTo>
                  <a:pt x="12006" y="11242"/>
                  <a:pt x="12014" y="11371"/>
                  <a:pt x="12005" y="11410"/>
                </a:cubicBezTo>
                <a:cubicBezTo>
                  <a:pt x="11984" y="11500"/>
                  <a:pt x="11939" y="11590"/>
                  <a:pt x="11881" y="11658"/>
                </a:cubicBezTo>
                <a:cubicBezTo>
                  <a:pt x="11806" y="11746"/>
                  <a:pt x="11795" y="11767"/>
                  <a:pt x="11708" y="11757"/>
                </a:cubicBezTo>
                <a:cubicBezTo>
                  <a:pt x="11629" y="11748"/>
                  <a:pt x="11642" y="11733"/>
                  <a:pt x="11633" y="11658"/>
                </a:cubicBezTo>
                <a:cubicBezTo>
                  <a:pt x="11695" y="11621"/>
                  <a:pt x="11738" y="11627"/>
                  <a:pt x="11807" y="11658"/>
                </a:cubicBezTo>
                <a:cubicBezTo>
                  <a:pt x="11882" y="11691"/>
                  <a:pt x="11932" y="11750"/>
                  <a:pt x="12005" y="11782"/>
                </a:cubicBezTo>
                <a:cubicBezTo>
                  <a:pt x="12089" y="11819"/>
                  <a:pt x="12149" y="11815"/>
                  <a:pt x="12229" y="11857"/>
                </a:cubicBezTo>
                <a:cubicBezTo>
                  <a:pt x="12284" y="11886"/>
                  <a:pt x="12318" y="11898"/>
                  <a:pt x="12378" y="11906"/>
                </a:cubicBezTo>
              </a:path>
              <a:path w="5037" h="2183">
                <a:moveTo>
                  <a:pt x="12353" y="11956"/>
                </a:moveTo>
                <a:cubicBezTo>
                  <a:pt x="12276" y="11977"/>
                  <a:pt x="12183" y="12020"/>
                  <a:pt x="12105" y="12030"/>
                </a:cubicBezTo>
                <a:cubicBezTo>
                  <a:pt x="11995" y="12044"/>
                  <a:pt x="11889" y="12042"/>
                  <a:pt x="11782" y="12080"/>
                </a:cubicBezTo>
                <a:cubicBezTo>
                  <a:pt x="11700" y="12109"/>
                  <a:pt x="11621" y="12141"/>
                  <a:pt x="11534" y="12154"/>
                </a:cubicBezTo>
                <a:cubicBezTo>
                  <a:pt x="11471" y="12163"/>
                  <a:pt x="11422" y="12191"/>
                  <a:pt x="11361" y="12204"/>
                </a:cubicBezTo>
              </a:path>
              <a:path w="5037" h="2183">
                <a:moveTo>
                  <a:pt x="11708" y="12254"/>
                </a:moveTo>
                <a:cubicBezTo>
                  <a:pt x="11803" y="12206"/>
                  <a:pt x="11851" y="12190"/>
                  <a:pt x="11956" y="12229"/>
                </a:cubicBezTo>
                <a:cubicBezTo>
                  <a:pt x="12045" y="12262"/>
                  <a:pt x="12087" y="12305"/>
                  <a:pt x="12105" y="12402"/>
                </a:cubicBezTo>
                <a:cubicBezTo>
                  <a:pt x="12122" y="12493"/>
                  <a:pt x="12086" y="12547"/>
                  <a:pt x="12055" y="12626"/>
                </a:cubicBezTo>
                <a:cubicBezTo>
                  <a:pt x="12022" y="12710"/>
                  <a:pt x="11964" y="12765"/>
                  <a:pt x="11931" y="12849"/>
                </a:cubicBezTo>
                <a:cubicBezTo>
                  <a:pt x="11893" y="12946"/>
                  <a:pt x="11855" y="12934"/>
                  <a:pt x="11782" y="12998"/>
                </a:cubicBezTo>
                <a:cubicBezTo>
                  <a:pt x="11774" y="13006"/>
                  <a:pt x="11765" y="13014"/>
                  <a:pt x="11757" y="13022"/>
                </a:cubicBezTo>
                <a:cubicBezTo>
                  <a:pt x="11712" y="13007"/>
                  <a:pt x="11670" y="12970"/>
                  <a:pt x="11683" y="12898"/>
                </a:cubicBezTo>
                <a:cubicBezTo>
                  <a:pt x="11696" y="12825"/>
                  <a:pt x="11713" y="12759"/>
                  <a:pt x="11757" y="12700"/>
                </a:cubicBezTo>
                <a:cubicBezTo>
                  <a:pt x="11811" y="12627"/>
                  <a:pt x="11882" y="12721"/>
                  <a:pt x="11931" y="12750"/>
                </a:cubicBezTo>
                <a:cubicBezTo>
                  <a:pt x="11982" y="12780"/>
                  <a:pt x="12033" y="12814"/>
                  <a:pt x="12080" y="12849"/>
                </a:cubicBezTo>
                <a:cubicBezTo>
                  <a:pt x="12102" y="12871"/>
                  <a:pt x="12107" y="12880"/>
                  <a:pt x="12129" y="12874"/>
                </a:cubicBezTo>
              </a:path>
              <a:path w="5037" h="2183">
                <a:moveTo>
                  <a:pt x="12402" y="12502"/>
                </a:moveTo>
                <a:cubicBezTo>
                  <a:pt x="12369" y="12561"/>
                  <a:pt x="12334" y="12614"/>
                  <a:pt x="12303" y="12675"/>
                </a:cubicBezTo>
                <a:cubicBezTo>
                  <a:pt x="12260" y="12761"/>
                  <a:pt x="12289" y="12813"/>
                  <a:pt x="12303" y="12898"/>
                </a:cubicBezTo>
                <a:cubicBezTo>
                  <a:pt x="12315" y="12973"/>
                  <a:pt x="12334" y="13116"/>
                  <a:pt x="12427" y="13146"/>
                </a:cubicBezTo>
                <a:cubicBezTo>
                  <a:pt x="12502" y="13170"/>
                  <a:pt x="12575" y="13143"/>
                  <a:pt x="12626" y="13097"/>
                </a:cubicBezTo>
                <a:cubicBezTo>
                  <a:pt x="12719" y="13014"/>
                  <a:pt x="12702" y="12959"/>
                  <a:pt x="12725" y="12849"/>
                </a:cubicBezTo>
                <a:cubicBezTo>
                  <a:pt x="12751" y="12725"/>
                  <a:pt x="12743" y="12555"/>
                  <a:pt x="12650" y="12452"/>
                </a:cubicBezTo>
                <a:cubicBezTo>
                  <a:pt x="12594" y="12390"/>
                  <a:pt x="12516" y="12317"/>
                  <a:pt x="12427" y="12303"/>
                </a:cubicBezTo>
                <a:cubicBezTo>
                  <a:pt x="12402" y="12303"/>
                  <a:pt x="12378" y="12303"/>
                  <a:pt x="12353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9"/>
          <p:cNvSpPr/>
          <p:nvPr/>
        </p:nvSpPr>
        <p:spPr>
          <a:xfrm>
            <a:off x="3606840" y="4830840"/>
            <a:ext cx="341280" cy="403200"/>
          </a:xfrm>
          <a:custGeom>
            <a:avLst/>
            <a:gdLst/>
            <a:ahLst/>
            <a:rect l="l" t="t" r="r" b="b"/>
            <a:pathLst>
              <a:path w="944" h="1118">
                <a:moveTo>
                  <a:pt x="10021" y="13419"/>
                </a:moveTo>
                <a:cubicBezTo>
                  <a:pt x="10056" y="13533"/>
                  <a:pt x="10087" y="13619"/>
                  <a:pt x="10145" y="13717"/>
                </a:cubicBezTo>
                <a:cubicBezTo>
                  <a:pt x="10228" y="13858"/>
                  <a:pt x="10307" y="13998"/>
                  <a:pt x="10393" y="14139"/>
                </a:cubicBezTo>
                <a:cubicBezTo>
                  <a:pt x="10459" y="14248"/>
                  <a:pt x="10531" y="14340"/>
                  <a:pt x="10616" y="14436"/>
                </a:cubicBezTo>
              </a:path>
              <a:path w="944" h="1118">
                <a:moveTo>
                  <a:pt x="10517" y="13444"/>
                </a:moveTo>
                <a:cubicBezTo>
                  <a:pt x="10445" y="13531"/>
                  <a:pt x="10385" y="13634"/>
                  <a:pt x="10344" y="13742"/>
                </a:cubicBezTo>
                <a:cubicBezTo>
                  <a:pt x="10292" y="13881"/>
                  <a:pt x="10236" y="14016"/>
                  <a:pt x="10195" y="14163"/>
                </a:cubicBezTo>
                <a:cubicBezTo>
                  <a:pt x="10167" y="14264"/>
                  <a:pt x="10129" y="14350"/>
                  <a:pt x="10096" y="14436"/>
                </a:cubicBezTo>
                <a:cubicBezTo>
                  <a:pt x="10072" y="14484"/>
                  <a:pt x="10064" y="14499"/>
                  <a:pt x="10071" y="14536"/>
                </a:cubicBezTo>
              </a:path>
              <a:path w="944" h="1118">
                <a:moveTo>
                  <a:pt x="10691" y="13866"/>
                </a:moveTo>
                <a:cubicBezTo>
                  <a:pt x="10801" y="13866"/>
                  <a:pt x="10840" y="13868"/>
                  <a:pt x="10939" y="13841"/>
                </a:cubicBezTo>
              </a:path>
              <a:path w="944" h="1118">
                <a:moveTo>
                  <a:pt x="10641" y="13990"/>
                </a:moveTo>
                <a:cubicBezTo>
                  <a:pt x="10719" y="14050"/>
                  <a:pt x="10794" y="14081"/>
                  <a:pt x="10889" y="14114"/>
                </a:cubicBezTo>
                <a:cubicBezTo>
                  <a:pt x="10914" y="14122"/>
                  <a:pt x="10939" y="14131"/>
                  <a:pt x="10964" y="141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10"/>
          <p:cNvSpPr/>
          <p:nvPr/>
        </p:nvSpPr>
        <p:spPr>
          <a:xfrm>
            <a:off x="4106880" y="4724280"/>
            <a:ext cx="1724040" cy="579600"/>
          </a:xfrm>
          <a:custGeom>
            <a:avLst/>
            <a:gdLst/>
            <a:ahLst/>
            <a:rect l="l" t="t" r="r" b="b"/>
            <a:pathLst>
              <a:path w="4788" h="1613">
                <a:moveTo>
                  <a:pt x="11683" y="13866"/>
                </a:moveTo>
                <a:cubicBezTo>
                  <a:pt x="11733" y="13891"/>
                  <a:pt x="11749" y="13899"/>
                  <a:pt x="11782" y="13866"/>
                </a:cubicBezTo>
                <a:cubicBezTo>
                  <a:pt x="11758" y="13801"/>
                  <a:pt x="11757" y="13766"/>
                  <a:pt x="11708" y="13717"/>
                </a:cubicBezTo>
                <a:cubicBezTo>
                  <a:pt x="11666" y="13675"/>
                  <a:pt x="11576" y="13703"/>
                  <a:pt x="11534" y="13742"/>
                </a:cubicBezTo>
                <a:cubicBezTo>
                  <a:pt x="11481" y="13791"/>
                  <a:pt x="11413" y="13868"/>
                  <a:pt x="11410" y="13940"/>
                </a:cubicBezTo>
                <a:cubicBezTo>
                  <a:pt x="11406" y="14030"/>
                  <a:pt x="11409" y="14103"/>
                  <a:pt x="11435" y="14188"/>
                </a:cubicBezTo>
                <a:cubicBezTo>
                  <a:pt x="11462" y="14276"/>
                  <a:pt x="11522" y="14345"/>
                  <a:pt x="11584" y="14412"/>
                </a:cubicBezTo>
                <a:cubicBezTo>
                  <a:pt x="11592" y="14420"/>
                  <a:pt x="11601" y="14428"/>
                  <a:pt x="11609" y="14436"/>
                </a:cubicBezTo>
              </a:path>
              <a:path w="4788" h="1613">
                <a:moveTo>
                  <a:pt x="11906" y="13866"/>
                </a:moveTo>
                <a:cubicBezTo>
                  <a:pt x="11873" y="13939"/>
                  <a:pt x="11836" y="14010"/>
                  <a:pt x="11832" y="14089"/>
                </a:cubicBezTo>
                <a:cubicBezTo>
                  <a:pt x="11827" y="14183"/>
                  <a:pt x="11849" y="14228"/>
                  <a:pt x="11881" y="14312"/>
                </a:cubicBezTo>
                <a:cubicBezTo>
                  <a:pt x="11920" y="14413"/>
                  <a:pt x="11930" y="14417"/>
                  <a:pt x="12005" y="14461"/>
                </a:cubicBezTo>
                <a:cubicBezTo>
                  <a:pt x="12068" y="14498"/>
                  <a:pt x="12096" y="14487"/>
                  <a:pt x="12154" y="14436"/>
                </a:cubicBezTo>
                <a:cubicBezTo>
                  <a:pt x="12208" y="14388"/>
                  <a:pt x="12267" y="14264"/>
                  <a:pt x="12278" y="14188"/>
                </a:cubicBezTo>
                <a:cubicBezTo>
                  <a:pt x="12291" y="14103"/>
                  <a:pt x="12286" y="13956"/>
                  <a:pt x="12229" y="13891"/>
                </a:cubicBezTo>
                <a:cubicBezTo>
                  <a:pt x="12180" y="13835"/>
                  <a:pt x="12138" y="13819"/>
                  <a:pt x="12080" y="13791"/>
                </a:cubicBezTo>
                <a:cubicBezTo>
                  <a:pt x="12034" y="13769"/>
                  <a:pt x="11941" y="13790"/>
                  <a:pt x="11931" y="13866"/>
                </a:cubicBezTo>
                <a:cubicBezTo>
                  <a:pt x="11917" y="13968"/>
                  <a:pt x="11924" y="14029"/>
                  <a:pt x="11956" y="14114"/>
                </a:cubicBezTo>
              </a:path>
              <a:path w="4788" h="1613">
                <a:moveTo>
                  <a:pt x="12526" y="13841"/>
                </a:moveTo>
                <a:cubicBezTo>
                  <a:pt x="12444" y="13865"/>
                  <a:pt x="12410" y="13920"/>
                  <a:pt x="12452" y="14015"/>
                </a:cubicBezTo>
                <a:cubicBezTo>
                  <a:pt x="12477" y="14072"/>
                  <a:pt x="12544" y="14128"/>
                  <a:pt x="12576" y="14188"/>
                </a:cubicBezTo>
                <a:cubicBezTo>
                  <a:pt x="12612" y="14256"/>
                  <a:pt x="12682" y="14309"/>
                  <a:pt x="12700" y="14387"/>
                </a:cubicBezTo>
                <a:cubicBezTo>
                  <a:pt x="12710" y="14430"/>
                  <a:pt x="12674" y="14522"/>
                  <a:pt x="12626" y="14536"/>
                </a:cubicBezTo>
                <a:cubicBezTo>
                  <a:pt x="12564" y="14554"/>
                  <a:pt x="12486" y="14513"/>
                  <a:pt x="12452" y="14461"/>
                </a:cubicBezTo>
                <a:cubicBezTo>
                  <a:pt x="12428" y="14413"/>
                  <a:pt x="12419" y="14399"/>
                  <a:pt x="12427" y="14362"/>
                </a:cubicBezTo>
              </a:path>
              <a:path w="4788" h="1613">
                <a:moveTo>
                  <a:pt x="12824" y="13717"/>
                </a:moveTo>
                <a:cubicBezTo>
                  <a:pt x="12916" y="13694"/>
                  <a:pt x="12941" y="13688"/>
                  <a:pt x="12998" y="13667"/>
                </a:cubicBezTo>
              </a:path>
              <a:path w="4788" h="1613">
                <a:moveTo>
                  <a:pt x="13097" y="13370"/>
                </a:moveTo>
                <a:cubicBezTo>
                  <a:pt x="13097" y="13510"/>
                  <a:pt x="13096" y="13632"/>
                  <a:pt x="13122" y="13767"/>
                </a:cubicBezTo>
                <a:cubicBezTo>
                  <a:pt x="13122" y="13775"/>
                  <a:pt x="13122" y="13783"/>
                  <a:pt x="13122" y="13791"/>
                </a:cubicBezTo>
              </a:path>
              <a:path w="4788" h="1613">
                <a:moveTo>
                  <a:pt x="13692" y="13122"/>
                </a:moveTo>
                <a:cubicBezTo>
                  <a:pt x="13655" y="13195"/>
                  <a:pt x="13612" y="13253"/>
                  <a:pt x="13568" y="13320"/>
                </a:cubicBezTo>
                <a:cubicBezTo>
                  <a:pt x="13459" y="13488"/>
                  <a:pt x="13429" y="13703"/>
                  <a:pt x="13395" y="13891"/>
                </a:cubicBezTo>
                <a:cubicBezTo>
                  <a:pt x="13368" y="14041"/>
                  <a:pt x="13373" y="14185"/>
                  <a:pt x="13395" y="14337"/>
                </a:cubicBezTo>
                <a:cubicBezTo>
                  <a:pt x="13412" y="14454"/>
                  <a:pt x="13444" y="14592"/>
                  <a:pt x="13519" y="14684"/>
                </a:cubicBezTo>
              </a:path>
              <a:path w="4788" h="1613">
                <a:moveTo>
                  <a:pt x="13841" y="13494"/>
                </a:moveTo>
                <a:cubicBezTo>
                  <a:pt x="13841" y="13613"/>
                  <a:pt x="13855" y="13725"/>
                  <a:pt x="13866" y="13841"/>
                </a:cubicBezTo>
                <a:cubicBezTo>
                  <a:pt x="13885" y="14046"/>
                  <a:pt x="13866" y="14618"/>
                  <a:pt x="13866" y="14412"/>
                </a:cubicBezTo>
              </a:path>
              <a:path w="4788" h="1613">
                <a:moveTo>
                  <a:pt x="14139" y="13717"/>
                </a:moveTo>
                <a:cubicBezTo>
                  <a:pt x="14209" y="13679"/>
                  <a:pt x="14269" y="13613"/>
                  <a:pt x="14337" y="13667"/>
                </a:cubicBezTo>
                <a:cubicBezTo>
                  <a:pt x="14436" y="13746"/>
                  <a:pt x="14389" y="13887"/>
                  <a:pt x="14362" y="13990"/>
                </a:cubicBezTo>
                <a:cubicBezTo>
                  <a:pt x="14338" y="14083"/>
                  <a:pt x="14271" y="14212"/>
                  <a:pt x="14213" y="14288"/>
                </a:cubicBezTo>
                <a:cubicBezTo>
                  <a:pt x="14180" y="14332"/>
                  <a:pt x="14128" y="14373"/>
                  <a:pt x="14089" y="14412"/>
                </a:cubicBezTo>
                <a:cubicBezTo>
                  <a:pt x="14070" y="14345"/>
                  <a:pt x="14061" y="14233"/>
                  <a:pt x="14163" y="14288"/>
                </a:cubicBezTo>
                <a:cubicBezTo>
                  <a:pt x="14254" y="14337"/>
                  <a:pt x="14257" y="14403"/>
                  <a:pt x="14337" y="14436"/>
                </a:cubicBezTo>
                <a:cubicBezTo>
                  <a:pt x="14354" y="14444"/>
                  <a:pt x="14370" y="14453"/>
                  <a:pt x="14387" y="14461"/>
                </a:cubicBezTo>
              </a:path>
              <a:path w="4788" h="1613">
                <a:moveTo>
                  <a:pt x="14858" y="13444"/>
                </a:moveTo>
                <a:cubicBezTo>
                  <a:pt x="14849" y="13517"/>
                  <a:pt x="14816" y="13625"/>
                  <a:pt x="14784" y="13692"/>
                </a:cubicBezTo>
                <a:cubicBezTo>
                  <a:pt x="14686" y="13895"/>
                  <a:pt x="14680" y="14053"/>
                  <a:pt x="14635" y="14288"/>
                </a:cubicBezTo>
                <a:cubicBezTo>
                  <a:pt x="14614" y="14401"/>
                  <a:pt x="14586" y="14526"/>
                  <a:pt x="14560" y="14635"/>
                </a:cubicBezTo>
                <a:cubicBezTo>
                  <a:pt x="14536" y="14684"/>
                  <a:pt x="14528" y="14701"/>
                  <a:pt x="14511" y="14734"/>
                </a:cubicBezTo>
              </a:path>
              <a:path w="4788" h="1613">
                <a:moveTo>
                  <a:pt x="15032" y="13915"/>
                </a:moveTo>
                <a:cubicBezTo>
                  <a:pt x="15134" y="13877"/>
                  <a:pt x="15261" y="13784"/>
                  <a:pt x="15354" y="13891"/>
                </a:cubicBezTo>
                <a:cubicBezTo>
                  <a:pt x="15410" y="13956"/>
                  <a:pt x="15373" y="14047"/>
                  <a:pt x="15354" y="14114"/>
                </a:cubicBezTo>
                <a:cubicBezTo>
                  <a:pt x="15320" y="14237"/>
                  <a:pt x="15263" y="14334"/>
                  <a:pt x="15156" y="14412"/>
                </a:cubicBezTo>
                <a:cubicBezTo>
                  <a:pt x="15109" y="14447"/>
                  <a:pt x="15085" y="14453"/>
                  <a:pt x="15032" y="14461"/>
                </a:cubicBezTo>
                <a:cubicBezTo>
                  <a:pt x="15041" y="14373"/>
                  <a:pt x="15058" y="14302"/>
                  <a:pt x="15156" y="14263"/>
                </a:cubicBezTo>
                <a:cubicBezTo>
                  <a:pt x="15233" y="14232"/>
                  <a:pt x="15243" y="14330"/>
                  <a:pt x="15280" y="14362"/>
                </a:cubicBezTo>
                <a:cubicBezTo>
                  <a:pt x="15341" y="14415"/>
                  <a:pt x="15383" y="14453"/>
                  <a:pt x="15453" y="14412"/>
                </a:cubicBezTo>
              </a:path>
              <a:path w="4788" h="1613">
                <a:moveTo>
                  <a:pt x="15652" y="13915"/>
                </a:moveTo>
                <a:cubicBezTo>
                  <a:pt x="15569" y="13975"/>
                  <a:pt x="15496" y="14030"/>
                  <a:pt x="15478" y="14139"/>
                </a:cubicBezTo>
                <a:cubicBezTo>
                  <a:pt x="15461" y="14241"/>
                  <a:pt x="15490" y="14343"/>
                  <a:pt x="15528" y="14436"/>
                </a:cubicBezTo>
                <a:cubicBezTo>
                  <a:pt x="15556" y="14504"/>
                  <a:pt x="15594" y="14569"/>
                  <a:pt x="15627" y="14635"/>
                </a:cubicBezTo>
                <a:cubicBezTo>
                  <a:pt x="15694" y="14618"/>
                  <a:pt x="15782" y="14570"/>
                  <a:pt x="15801" y="14486"/>
                </a:cubicBezTo>
                <a:cubicBezTo>
                  <a:pt x="15832" y="14343"/>
                  <a:pt x="15840" y="14232"/>
                  <a:pt x="15825" y="14089"/>
                </a:cubicBezTo>
                <a:cubicBezTo>
                  <a:pt x="15812" y="13969"/>
                  <a:pt x="15790" y="13937"/>
                  <a:pt x="15726" y="13841"/>
                </a:cubicBezTo>
                <a:cubicBezTo>
                  <a:pt x="15677" y="13768"/>
                  <a:pt x="15666" y="13753"/>
                  <a:pt x="15602" y="13816"/>
                </a:cubicBezTo>
              </a:path>
              <a:path w="4788" h="1613">
                <a:moveTo>
                  <a:pt x="15974" y="13171"/>
                </a:moveTo>
                <a:cubicBezTo>
                  <a:pt x="16058" y="13265"/>
                  <a:pt x="16112" y="13372"/>
                  <a:pt x="16148" y="13494"/>
                </a:cubicBezTo>
                <a:cubicBezTo>
                  <a:pt x="16204" y="13682"/>
                  <a:pt x="16197" y="13870"/>
                  <a:pt x="16197" y="14064"/>
                </a:cubicBezTo>
                <a:cubicBezTo>
                  <a:pt x="16197" y="14255"/>
                  <a:pt x="16218" y="14472"/>
                  <a:pt x="16098" y="14635"/>
                </a:cubicBezTo>
                <a:cubicBezTo>
                  <a:pt x="16052" y="14698"/>
                  <a:pt x="16015" y="14717"/>
                  <a:pt x="15949" y="147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11"/>
          <p:cNvSpPr/>
          <p:nvPr/>
        </p:nvSpPr>
        <p:spPr>
          <a:xfrm>
            <a:off x="2419200" y="5241960"/>
            <a:ext cx="1125720" cy="482400"/>
          </a:xfrm>
          <a:custGeom>
            <a:avLst/>
            <a:gdLst/>
            <a:ahLst/>
            <a:rect l="l" t="t" r="r" b="b"/>
            <a:pathLst>
              <a:path w="3126" h="1341">
                <a:moveTo>
                  <a:pt x="6945" y="14808"/>
                </a:moveTo>
                <a:cubicBezTo>
                  <a:pt x="7068" y="14836"/>
                  <a:pt x="7192" y="14870"/>
                  <a:pt x="7317" y="14883"/>
                </a:cubicBezTo>
                <a:cubicBezTo>
                  <a:pt x="7432" y="14895"/>
                  <a:pt x="7550" y="14925"/>
                  <a:pt x="7665" y="14932"/>
                </a:cubicBezTo>
                <a:cubicBezTo>
                  <a:pt x="7793" y="14940"/>
                  <a:pt x="7914" y="14951"/>
                  <a:pt x="8037" y="14957"/>
                </a:cubicBezTo>
                <a:cubicBezTo>
                  <a:pt x="8097" y="14960"/>
                  <a:pt x="8182" y="14956"/>
                  <a:pt x="8235" y="14932"/>
                </a:cubicBezTo>
                <a:cubicBezTo>
                  <a:pt x="8260" y="14908"/>
                  <a:pt x="8268" y="14900"/>
                  <a:pt x="8235" y="14883"/>
                </a:cubicBezTo>
              </a:path>
              <a:path w="3126" h="1341">
                <a:moveTo>
                  <a:pt x="7045" y="14560"/>
                </a:moveTo>
                <a:cubicBezTo>
                  <a:pt x="6967" y="14606"/>
                  <a:pt x="6863" y="14629"/>
                  <a:pt x="6796" y="14684"/>
                </a:cubicBezTo>
                <a:cubicBezTo>
                  <a:pt x="6770" y="14706"/>
                  <a:pt x="6746" y="14735"/>
                  <a:pt x="6722" y="14759"/>
                </a:cubicBezTo>
                <a:cubicBezTo>
                  <a:pt x="6785" y="14837"/>
                  <a:pt x="6805" y="14930"/>
                  <a:pt x="6871" y="15007"/>
                </a:cubicBezTo>
                <a:cubicBezTo>
                  <a:pt x="6909" y="15051"/>
                  <a:pt x="6954" y="15090"/>
                  <a:pt x="6995" y="15131"/>
                </a:cubicBezTo>
              </a:path>
              <a:path w="3126" h="1341">
                <a:moveTo>
                  <a:pt x="8508" y="14957"/>
                </a:moveTo>
                <a:cubicBezTo>
                  <a:pt x="8609" y="14975"/>
                  <a:pt x="8753" y="15026"/>
                  <a:pt x="8855" y="15007"/>
                </a:cubicBezTo>
                <a:cubicBezTo>
                  <a:pt x="8863" y="14999"/>
                  <a:pt x="8872" y="14990"/>
                  <a:pt x="8880" y="14982"/>
                </a:cubicBezTo>
              </a:path>
              <a:path w="3126" h="1341">
                <a:moveTo>
                  <a:pt x="8582" y="14833"/>
                </a:moveTo>
                <a:cubicBezTo>
                  <a:pt x="8568" y="14851"/>
                  <a:pt x="8420" y="14994"/>
                  <a:pt x="8409" y="15032"/>
                </a:cubicBezTo>
                <a:cubicBezTo>
                  <a:pt x="8390" y="15099"/>
                  <a:pt x="8415" y="15137"/>
                  <a:pt x="8458" y="15180"/>
                </a:cubicBezTo>
                <a:cubicBezTo>
                  <a:pt x="8512" y="15234"/>
                  <a:pt x="8588" y="15188"/>
                  <a:pt x="8657" y="15205"/>
                </a:cubicBezTo>
                <a:cubicBezTo>
                  <a:pt x="8726" y="15222"/>
                  <a:pt x="8744" y="15280"/>
                  <a:pt x="8781" y="15329"/>
                </a:cubicBezTo>
                <a:cubicBezTo>
                  <a:pt x="8828" y="15391"/>
                  <a:pt x="8853" y="15471"/>
                  <a:pt x="8830" y="15553"/>
                </a:cubicBezTo>
                <a:cubicBezTo>
                  <a:pt x="8817" y="15599"/>
                  <a:pt x="8732" y="15730"/>
                  <a:pt x="8682" y="15751"/>
                </a:cubicBezTo>
                <a:cubicBezTo>
                  <a:pt x="8621" y="15776"/>
                  <a:pt x="8561" y="15779"/>
                  <a:pt x="8508" y="15751"/>
                </a:cubicBezTo>
                <a:cubicBezTo>
                  <a:pt x="8442" y="15716"/>
                  <a:pt x="8403" y="15728"/>
                  <a:pt x="8434" y="15652"/>
                </a:cubicBezTo>
              </a:path>
              <a:path w="3126" h="1341">
                <a:moveTo>
                  <a:pt x="9153" y="15081"/>
                </a:moveTo>
                <a:cubicBezTo>
                  <a:pt x="9231" y="15052"/>
                  <a:pt x="9262" y="15046"/>
                  <a:pt x="9327" y="15106"/>
                </a:cubicBezTo>
                <a:cubicBezTo>
                  <a:pt x="9381" y="15156"/>
                  <a:pt x="9394" y="15226"/>
                  <a:pt x="9351" y="15280"/>
                </a:cubicBezTo>
                <a:cubicBezTo>
                  <a:pt x="9312" y="15329"/>
                  <a:pt x="9287" y="15349"/>
                  <a:pt x="9227" y="15354"/>
                </a:cubicBezTo>
                <a:cubicBezTo>
                  <a:pt x="9179" y="15358"/>
                  <a:pt x="9167" y="15356"/>
                  <a:pt x="9128" y="15379"/>
                </a:cubicBezTo>
                <a:cubicBezTo>
                  <a:pt x="9204" y="15379"/>
                  <a:pt x="9243" y="15377"/>
                  <a:pt x="9302" y="15429"/>
                </a:cubicBezTo>
                <a:cubicBezTo>
                  <a:pt x="9338" y="15461"/>
                  <a:pt x="9389" y="15504"/>
                  <a:pt x="9401" y="15553"/>
                </a:cubicBezTo>
                <a:cubicBezTo>
                  <a:pt x="9416" y="15617"/>
                  <a:pt x="9411" y="15720"/>
                  <a:pt x="9376" y="15776"/>
                </a:cubicBezTo>
                <a:cubicBezTo>
                  <a:pt x="9330" y="15851"/>
                  <a:pt x="9257" y="15892"/>
                  <a:pt x="9178" y="15900"/>
                </a:cubicBezTo>
                <a:cubicBezTo>
                  <a:pt x="9116" y="15906"/>
                  <a:pt x="9066" y="15907"/>
                  <a:pt x="9029" y="15850"/>
                </a:cubicBezTo>
                <a:cubicBezTo>
                  <a:pt x="8997" y="15787"/>
                  <a:pt x="8992" y="15755"/>
                  <a:pt x="9029" y="15701"/>
                </a:cubicBezTo>
              </a:path>
              <a:path w="3126" h="1341">
                <a:moveTo>
                  <a:pt x="9674" y="15081"/>
                </a:moveTo>
                <a:cubicBezTo>
                  <a:pt x="9623" y="15174"/>
                  <a:pt x="9601" y="15182"/>
                  <a:pt x="9674" y="15255"/>
                </a:cubicBezTo>
                <a:cubicBezTo>
                  <a:pt x="9719" y="15300"/>
                  <a:pt x="9741" y="15325"/>
                  <a:pt x="9798" y="15280"/>
                </a:cubicBezTo>
                <a:cubicBezTo>
                  <a:pt x="9863" y="15229"/>
                  <a:pt x="9857" y="15149"/>
                  <a:pt x="9823" y="15081"/>
                </a:cubicBezTo>
                <a:cubicBezTo>
                  <a:pt x="9798" y="15031"/>
                  <a:pt x="9746" y="15011"/>
                  <a:pt x="9699" y="15007"/>
                </a:cubicBezTo>
                <a:cubicBezTo>
                  <a:pt x="9691" y="15007"/>
                  <a:pt x="9682" y="15007"/>
                  <a:pt x="9674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12"/>
          <p:cNvSpPr/>
          <p:nvPr/>
        </p:nvSpPr>
        <p:spPr>
          <a:xfrm>
            <a:off x="1027080" y="3803760"/>
            <a:ext cx="1731960" cy="1697040"/>
          </a:xfrm>
          <a:custGeom>
            <a:avLst/>
            <a:gdLst/>
            <a:ahLst/>
            <a:rect l="l" t="t" r="r" b="b"/>
            <a:pathLst>
              <a:path w="4813" h="4714">
                <a:moveTo>
                  <a:pt x="2853" y="10666"/>
                </a:moveTo>
                <a:cubicBezTo>
                  <a:pt x="2879" y="10624"/>
                  <a:pt x="2899" y="10605"/>
                  <a:pt x="2927" y="10567"/>
                </a:cubicBezTo>
                <a:cubicBezTo>
                  <a:pt x="2979" y="10605"/>
                  <a:pt x="3029" y="10620"/>
                  <a:pt x="3076" y="10666"/>
                </a:cubicBezTo>
                <a:cubicBezTo>
                  <a:pt x="3123" y="10712"/>
                  <a:pt x="3157" y="10765"/>
                  <a:pt x="3200" y="10815"/>
                </a:cubicBezTo>
                <a:cubicBezTo>
                  <a:pt x="3265" y="10891"/>
                  <a:pt x="3327" y="10945"/>
                  <a:pt x="3398" y="11013"/>
                </a:cubicBezTo>
                <a:cubicBezTo>
                  <a:pt x="3526" y="11136"/>
                  <a:pt x="3660" y="11262"/>
                  <a:pt x="3795" y="11385"/>
                </a:cubicBezTo>
                <a:cubicBezTo>
                  <a:pt x="3954" y="11531"/>
                  <a:pt x="4105" y="11688"/>
                  <a:pt x="4266" y="11832"/>
                </a:cubicBezTo>
                <a:cubicBezTo>
                  <a:pt x="4425" y="11975"/>
                  <a:pt x="4585" y="12106"/>
                  <a:pt x="4738" y="12254"/>
                </a:cubicBezTo>
                <a:cubicBezTo>
                  <a:pt x="5019" y="12527"/>
                  <a:pt x="5297" y="12807"/>
                  <a:pt x="5581" y="13072"/>
                </a:cubicBezTo>
                <a:cubicBezTo>
                  <a:pt x="5782" y="13259"/>
                  <a:pt x="5985" y="13445"/>
                  <a:pt x="6176" y="13643"/>
                </a:cubicBezTo>
                <a:cubicBezTo>
                  <a:pt x="6338" y="13811"/>
                  <a:pt x="6496" y="14013"/>
                  <a:pt x="6672" y="14163"/>
                </a:cubicBezTo>
                <a:cubicBezTo>
                  <a:pt x="6803" y="14275"/>
                  <a:pt x="6921" y="14394"/>
                  <a:pt x="7045" y="14511"/>
                </a:cubicBezTo>
                <a:cubicBezTo>
                  <a:pt x="7192" y="14648"/>
                  <a:pt x="7330" y="14786"/>
                  <a:pt x="7466" y="14932"/>
                </a:cubicBezTo>
                <a:cubicBezTo>
                  <a:pt x="7517" y="14987"/>
                  <a:pt x="7564" y="15028"/>
                  <a:pt x="7615" y="15081"/>
                </a:cubicBezTo>
                <a:cubicBezTo>
                  <a:pt x="7632" y="15098"/>
                  <a:pt x="7648" y="15114"/>
                  <a:pt x="7665" y="15131"/>
                </a:cubicBezTo>
                <a:cubicBezTo>
                  <a:pt x="7595" y="15149"/>
                  <a:pt x="7519" y="15191"/>
                  <a:pt x="7441" y="15205"/>
                </a:cubicBezTo>
                <a:cubicBezTo>
                  <a:pt x="7360" y="15220"/>
                  <a:pt x="7274" y="15216"/>
                  <a:pt x="7193" y="15230"/>
                </a:cubicBezTo>
                <a:cubicBezTo>
                  <a:pt x="7085" y="15248"/>
                  <a:pt x="6980" y="15244"/>
                  <a:pt x="6871" y="15255"/>
                </a:cubicBezTo>
                <a:cubicBezTo>
                  <a:pt x="6713" y="15270"/>
                  <a:pt x="6564" y="15280"/>
                  <a:pt x="6400" y="15280"/>
                </a:cubicBezTo>
                <a:cubicBezTo>
                  <a:pt x="6191" y="15280"/>
                  <a:pt x="5986" y="15273"/>
                  <a:pt x="5779" y="15255"/>
                </a:cubicBezTo>
                <a:cubicBezTo>
                  <a:pt x="5598" y="15239"/>
                  <a:pt x="5415" y="15217"/>
                  <a:pt x="5234" y="15205"/>
                </a:cubicBezTo>
                <a:cubicBezTo>
                  <a:pt x="5052" y="15193"/>
                  <a:pt x="4871" y="15191"/>
                  <a:pt x="4688" y="15180"/>
                </a:cubicBezTo>
                <a:cubicBezTo>
                  <a:pt x="4468" y="15167"/>
                  <a:pt x="4258" y="15127"/>
                  <a:pt x="4043" y="15106"/>
                </a:cubicBezTo>
                <a:cubicBezTo>
                  <a:pt x="3890" y="15091"/>
                  <a:pt x="3725" y="15062"/>
                  <a:pt x="3572" y="15056"/>
                </a:cubicBezTo>
                <a:cubicBezTo>
                  <a:pt x="3407" y="15049"/>
                  <a:pt x="3161" y="15106"/>
                  <a:pt x="3001" y="15081"/>
                </a:cubicBezTo>
                <a:cubicBezTo>
                  <a:pt x="2952" y="15081"/>
                  <a:pt x="2936" y="15081"/>
                  <a:pt x="2952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plane’s pilot is flying at an altitude of 10km.  He sees a tower directly in front of him on the ground below.  The angle of depression is 28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.  How far is the tower from the point on the ground directly below the plane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5"/>
          <p:cNvSpPr/>
          <p:nvPr/>
        </p:nvSpPr>
        <p:spPr>
          <a:xfrm>
            <a:off x="527040" y="3679920"/>
            <a:ext cx="635040" cy="1963800"/>
          </a:xfrm>
          <a:custGeom>
            <a:avLst/>
            <a:gdLst/>
            <a:ahLst/>
            <a:rect l="l" t="t" r="r" b="b"/>
            <a:pathLst>
              <a:path w="1763" h="5458">
                <a:moveTo>
                  <a:pt x="2480" y="10939"/>
                </a:moveTo>
                <a:cubicBezTo>
                  <a:pt x="2367" y="10905"/>
                  <a:pt x="2272" y="10868"/>
                  <a:pt x="2158" y="10864"/>
                </a:cubicBezTo>
                <a:cubicBezTo>
                  <a:pt x="2029" y="10859"/>
                  <a:pt x="1885" y="10847"/>
                  <a:pt x="1761" y="10889"/>
                </a:cubicBezTo>
                <a:cubicBezTo>
                  <a:pt x="1685" y="10915"/>
                  <a:pt x="1608" y="10955"/>
                  <a:pt x="1538" y="10988"/>
                </a:cubicBezTo>
                <a:cubicBezTo>
                  <a:pt x="1454" y="11028"/>
                  <a:pt x="1430" y="11146"/>
                  <a:pt x="1513" y="11212"/>
                </a:cubicBezTo>
                <a:cubicBezTo>
                  <a:pt x="1624" y="11300"/>
                  <a:pt x="1748" y="11352"/>
                  <a:pt x="1885" y="11385"/>
                </a:cubicBezTo>
                <a:cubicBezTo>
                  <a:pt x="2052" y="11426"/>
                  <a:pt x="2206" y="11494"/>
                  <a:pt x="2381" y="11509"/>
                </a:cubicBezTo>
                <a:cubicBezTo>
                  <a:pt x="2541" y="11523"/>
                  <a:pt x="2800" y="11549"/>
                  <a:pt x="2952" y="11485"/>
                </a:cubicBezTo>
                <a:cubicBezTo>
                  <a:pt x="3009" y="11461"/>
                  <a:pt x="3168" y="11362"/>
                  <a:pt x="3200" y="11311"/>
                </a:cubicBezTo>
                <a:cubicBezTo>
                  <a:pt x="3235" y="11256"/>
                  <a:pt x="3237" y="11126"/>
                  <a:pt x="3225" y="11063"/>
                </a:cubicBezTo>
                <a:cubicBezTo>
                  <a:pt x="3208" y="10977"/>
                  <a:pt x="3118" y="10871"/>
                  <a:pt x="3051" y="10815"/>
                </a:cubicBezTo>
                <a:cubicBezTo>
                  <a:pt x="2927" y="10713"/>
                  <a:pt x="2765" y="10634"/>
                  <a:pt x="2604" y="10616"/>
                </a:cubicBezTo>
                <a:cubicBezTo>
                  <a:pt x="2470" y="10601"/>
                  <a:pt x="2333" y="10625"/>
                  <a:pt x="2208" y="10641"/>
                </a:cubicBezTo>
                <a:cubicBezTo>
                  <a:pt x="2090" y="10656"/>
                  <a:pt x="2144" y="10655"/>
                  <a:pt x="2084" y="10716"/>
                </a:cubicBezTo>
              </a:path>
              <a:path w="1763" h="5458">
                <a:moveTo>
                  <a:pt x="2332" y="10368"/>
                </a:moveTo>
                <a:cubicBezTo>
                  <a:pt x="2283" y="10417"/>
                  <a:pt x="2280" y="10452"/>
                  <a:pt x="2257" y="10517"/>
                </a:cubicBezTo>
                <a:cubicBezTo>
                  <a:pt x="2222" y="10617"/>
                  <a:pt x="2211" y="10734"/>
                  <a:pt x="2208" y="10840"/>
                </a:cubicBezTo>
                <a:cubicBezTo>
                  <a:pt x="2203" y="11037"/>
                  <a:pt x="2236" y="11191"/>
                  <a:pt x="2282" y="11385"/>
                </a:cubicBezTo>
                <a:cubicBezTo>
                  <a:pt x="2313" y="11517"/>
                  <a:pt x="2384" y="11576"/>
                  <a:pt x="2456" y="11683"/>
                </a:cubicBezTo>
                <a:cubicBezTo>
                  <a:pt x="2495" y="11740"/>
                  <a:pt x="2548" y="11787"/>
                  <a:pt x="2629" y="11757"/>
                </a:cubicBezTo>
                <a:cubicBezTo>
                  <a:pt x="2674" y="11740"/>
                  <a:pt x="2723" y="11600"/>
                  <a:pt x="2729" y="11559"/>
                </a:cubicBezTo>
                <a:cubicBezTo>
                  <a:pt x="2748" y="11422"/>
                  <a:pt x="2730" y="11270"/>
                  <a:pt x="2704" y="11137"/>
                </a:cubicBezTo>
                <a:cubicBezTo>
                  <a:pt x="2666" y="10939"/>
                  <a:pt x="2625" y="10747"/>
                  <a:pt x="2530" y="10567"/>
                </a:cubicBezTo>
                <a:cubicBezTo>
                  <a:pt x="2465" y="10445"/>
                  <a:pt x="2392" y="10343"/>
                  <a:pt x="2307" y="10244"/>
                </a:cubicBezTo>
                <a:cubicBezTo>
                  <a:pt x="2255" y="10183"/>
                  <a:pt x="2240" y="10230"/>
                  <a:pt x="2208" y="10269"/>
                </a:cubicBezTo>
              </a:path>
              <a:path w="1763" h="5458">
                <a:moveTo>
                  <a:pt x="2654" y="11559"/>
                </a:moveTo>
                <a:cubicBezTo>
                  <a:pt x="2669" y="11630"/>
                  <a:pt x="2676" y="11676"/>
                  <a:pt x="2679" y="11757"/>
                </a:cubicBezTo>
                <a:cubicBezTo>
                  <a:pt x="2687" y="11982"/>
                  <a:pt x="2686" y="12204"/>
                  <a:pt x="2704" y="12427"/>
                </a:cubicBezTo>
                <a:cubicBezTo>
                  <a:pt x="2717" y="12584"/>
                  <a:pt x="2711" y="12742"/>
                  <a:pt x="2729" y="12898"/>
                </a:cubicBezTo>
                <a:cubicBezTo>
                  <a:pt x="2757" y="13135"/>
                  <a:pt x="2768" y="13379"/>
                  <a:pt x="2778" y="13618"/>
                </a:cubicBezTo>
                <a:cubicBezTo>
                  <a:pt x="2790" y="13891"/>
                  <a:pt x="2815" y="14191"/>
                  <a:pt x="2803" y="14461"/>
                </a:cubicBezTo>
                <a:cubicBezTo>
                  <a:pt x="2796" y="14626"/>
                  <a:pt x="2778" y="14789"/>
                  <a:pt x="2778" y="14957"/>
                </a:cubicBezTo>
                <a:cubicBezTo>
                  <a:pt x="2778" y="15121"/>
                  <a:pt x="2778" y="15684"/>
                  <a:pt x="2778" y="15602"/>
                </a:cubicBezTo>
              </a:path>
              <a:path w="1763" h="5458">
                <a:moveTo>
                  <a:pt x="1662" y="12923"/>
                </a:moveTo>
                <a:cubicBezTo>
                  <a:pt x="1662" y="13045"/>
                  <a:pt x="1672" y="13157"/>
                  <a:pt x="1687" y="13271"/>
                </a:cubicBezTo>
                <a:cubicBezTo>
                  <a:pt x="1706" y="13414"/>
                  <a:pt x="1687" y="13573"/>
                  <a:pt x="1687" y="13717"/>
                </a:cubicBezTo>
              </a:path>
              <a:path w="1763" h="5458">
                <a:moveTo>
                  <a:pt x="1910" y="13097"/>
                </a:moveTo>
                <a:cubicBezTo>
                  <a:pt x="1883" y="13144"/>
                  <a:pt x="1845" y="13199"/>
                  <a:pt x="1836" y="13246"/>
                </a:cubicBezTo>
                <a:cubicBezTo>
                  <a:pt x="1821" y="13323"/>
                  <a:pt x="1829" y="13402"/>
                  <a:pt x="1836" y="13469"/>
                </a:cubicBezTo>
                <a:cubicBezTo>
                  <a:pt x="1842" y="13528"/>
                  <a:pt x="1855" y="13604"/>
                  <a:pt x="1910" y="13643"/>
                </a:cubicBezTo>
                <a:cubicBezTo>
                  <a:pt x="1975" y="13689"/>
                  <a:pt x="1998" y="13700"/>
                  <a:pt x="2059" y="13643"/>
                </a:cubicBezTo>
                <a:cubicBezTo>
                  <a:pt x="2128" y="13578"/>
                  <a:pt x="2154" y="13488"/>
                  <a:pt x="2158" y="13395"/>
                </a:cubicBezTo>
                <a:cubicBezTo>
                  <a:pt x="2162" y="13296"/>
                  <a:pt x="2186" y="13218"/>
                  <a:pt x="2158" y="13122"/>
                </a:cubicBezTo>
                <a:cubicBezTo>
                  <a:pt x="2142" y="13066"/>
                  <a:pt x="2094" y="12994"/>
                  <a:pt x="2059" y="12948"/>
                </a:cubicBezTo>
                <a:cubicBezTo>
                  <a:pt x="2051" y="12940"/>
                  <a:pt x="2042" y="12931"/>
                  <a:pt x="2034" y="12923"/>
                </a:cubicBezTo>
                <a:cubicBezTo>
                  <a:pt x="1988" y="12949"/>
                  <a:pt x="1925" y="12992"/>
                  <a:pt x="1910" y="13047"/>
                </a:cubicBezTo>
                <a:cubicBezTo>
                  <a:pt x="1883" y="13148"/>
                  <a:pt x="1914" y="13244"/>
                  <a:pt x="1960" y="13320"/>
                </a:cubicBezTo>
              </a:path>
              <a:path w="1763" h="5458">
                <a:moveTo>
                  <a:pt x="2406" y="13072"/>
                </a:moveTo>
                <a:cubicBezTo>
                  <a:pt x="2382" y="13161"/>
                  <a:pt x="2381" y="13227"/>
                  <a:pt x="2381" y="13320"/>
                </a:cubicBezTo>
                <a:cubicBezTo>
                  <a:pt x="2381" y="13434"/>
                  <a:pt x="2391" y="13533"/>
                  <a:pt x="2406" y="13643"/>
                </a:cubicBezTo>
                <a:cubicBezTo>
                  <a:pt x="2406" y="13684"/>
                  <a:pt x="2406" y="13692"/>
                  <a:pt x="2406" y="13717"/>
                </a:cubicBezTo>
              </a:path>
              <a:path w="1763" h="5458">
                <a:moveTo>
                  <a:pt x="2555" y="13221"/>
                </a:moveTo>
                <a:cubicBezTo>
                  <a:pt x="2471" y="13312"/>
                  <a:pt x="2456" y="13326"/>
                  <a:pt x="2456" y="13444"/>
                </a:cubicBezTo>
                <a:cubicBezTo>
                  <a:pt x="2456" y="13491"/>
                  <a:pt x="2470" y="13608"/>
                  <a:pt x="2505" y="13643"/>
                </a:cubicBezTo>
                <a:cubicBezTo>
                  <a:pt x="2541" y="13679"/>
                  <a:pt x="2570" y="13698"/>
                  <a:pt x="2604" y="13742"/>
                </a:cubicBezTo>
              </a:path>
              <a:path w="1763" h="5458">
                <a:moveTo>
                  <a:pt x="2629" y="13494"/>
                </a:moveTo>
                <a:cubicBezTo>
                  <a:pt x="2629" y="13579"/>
                  <a:pt x="2623" y="13599"/>
                  <a:pt x="2654" y="13643"/>
                </a:cubicBezTo>
                <a:cubicBezTo>
                  <a:pt x="2654" y="13584"/>
                  <a:pt x="2657" y="13558"/>
                  <a:pt x="2679" y="13519"/>
                </a:cubicBezTo>
                <a:cubicBezTo>
                  <a:pt x="2683" y="13526"/>
                  <a:pt x="2742" y="13671"/>
                  <a:pt x="2753" y="13667"/>
                </a:cubicBezTo>
                <a:cubicBezTo>
                  <a:pt x="2796" y="13653"/>
                  <a:pt x="2778" y="13518"/>
                  <a:pt x="2778" y="13494"/>
                </a:cubicBezTo>
                <a:cubicBezTo>
                  <a:pt x="2808" y="13554"/>
                  <a:pt x="2833" y="13618"/>
                  <a:pt x="2877" y="13667"/>
                </a:cubicBezTo>
                <a:cubicBezTo>
                  <a:pt x="2902" y="13692"/>
                  <a:pt x="2910" y="13700"/>
                  <a:pt x="2927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6"/>
          <p:cNvSpPr/>
          <p:nvPr/>
        </p:nvSpPr>
        <p:spPr>
          <a:xfrm>
            <a:off x="2419200" y="4054320"/>
            <a:ext cx="1930680" cy="509760"/>
          </a:xfrm>
          <a:custGeom>
            <a:avLst/>
            <a:gdLst/>
            <a:ahLst/>
            <a:rect l="l" t="t" r="r" b="b"/>
            <a:pathLst>
              <a:path w="5359" h="1415">
                <a:moveTo>
                  <a:pt x="8706" y="11410"/>
                </a:moveTo>
                <a:cubicBezTo>
                  <a:pt x="8756" y="11485"/>
                  <a:pt x="8738" y="11529"/>
                  <a:pt x="8756" y="11609"/>
                </a:cubicBezTo>
                <a:cubicBezTo>
                  <a:pt x="8777" y="11703"/>
                  <a:pt x="8789" y="11789"/>
                  <a:pt x="8806" y="11881"/>
                </a:cubicBezTo>
                <a:cubicBezTo>
                  <a:pt x="8831" y="12013"/>
                  <a:pt x="8865" y="12144"/>
                  <a:pt x="8880" y="12278"/>
                </a:cubicBezTo>
                <a:cubicBezTo>
                  <a:pt x="8890" y="12365"/>
                  <a:pt x="8870" y="12470"/>
                  <a:pt x="8905" y="12551"/>
                </a:cubicBezTo>
                <a:cubicBezTo>
                  <a:pt x="8933" y="12579"/>
                  <a:pt x="8942" y="12593"/>
                  <a:pt x="8930" y="12626"/>
                </a:cubicBezTo>
              </a:path>
              <a:path w="5359" h="1415">
                <a:moveTo>
                  <a:pt x="8334" y="11410"/>
                </a:moveTo>
                <a:cubicBezTo>
                  <a:pt x="8426" y="11392"/>
                  <a:pt x="8536" y="11366"/>
                  <a:pt x="8632" y="11385"/>
                </a:cubicBezTo>
                <a:cubicBezTo>
                  <a:pt x="8725" y="11403"/>
                  <a:pt x="8810" y="11398"/>
                  <a:pt x="8905" y="11410"/>
                </a:cubicBezTo>
                <a:cubicBezTo>
                  <a:pt x="9013" y="11424"/>
                  <a:pt x="9096" y="11435"/>
                  <a:pt x="9203" y="11435"/>
                </a:cubicBezTo>
              </a:path>
              <a:path w="5359" h="1415">
                <a:moveTo>
                  <a:pt x="9351" y="12229"/>
                </a:moveTo>
                <a:cubicBezTo>
                  <a:pt x="9371" y="12289"/>
                  <a:pt x="9370" y="12304"/>
                  <a:pt x="9401" y="12328"/>
                </a:cubicBezTo>
                <a:cubicBezTo>
                  <a:pt x="9434" y="12241"/>
                  <a:pt x="9415" y="12186"/>
                  <a:pt x="9401" y="12105"/>
                </a:cubicBezTo>
                <a:cubicBezTo>
                  <a:pt x="9394" y="12067"/>
                  <a:pt x="9380" y="11996"/>
                  <a:pt x="9327" y="11981"/>
                </a:cubicBezTo>
                <a:cubicBezTo>
                  <a:pt x="9253" y="11960"/>
                  <a:pt x="9189" y="12015"/>
                  <a:pt x="9153" y="12055"/>
                </a:cubicBezTo>
                <a:cubicBezTo>
                  <a:pt x="9119" y="12093"/>
                  <a:pt x="9090" y="12201"/>
                  <a:pt x="9103" y="12254"/>
                </a:cubicBezTo>
                <a:cubicBezTo>
                  <a:pt x="9112" y="12291"/>
                  <a:pt x="9187" y="12465"/>
                  <a:pt x="9227" y="12502"/>
                </a:cubicBezTo>
                <a:cubicBezTo>
                  <a:pt x="9266" y="12538"/>
                  <a:pt x="9347" y="12572"/>
                  <a:pt x="9401" y="12551"/>
                </a:cubicBezTo>
                <a:cubicBezTo>
                  <a:pt x="9477" y="12522"/>
                  <a:pt x="9432" y="12429"/>
                  <a:pt x="9451" y="12378"/>
                </a:cubicBezTo>
                <a:cubicBezTo>
                  <a:pt x="9468" y="12332"/>
                  <a:pt x="9475" y="12311"/>
                  <a:pt x="9475" y="12254"/>
                </a:cubicBezTo>
                <a:cubicBezTo>
                  <a:pt x="9475" y="12342"/>
                  <a:pt x="9464" y="12422"/>
                  <a:pt x="9500" y="12502"/>
                </a:cubicBezTo>
                <a:cubicBezTo>
                  <a:pt x="9530" y="12569"/>
                  <a:pt x="9572" y="12580"/>
                  <a:pt x="9624" y="12626"/>
                </a:cubicBezTo>
                <a:cubicBezTo>
                  <a:pt x="9647" y="12648"/>
                  <a:pt x="9652" y="12656"/>
                  <a:pt x="9674" y="12650"/>
                </a:cubicBezTo>
              </a:path>
              <a:path w="5359" h="1415">
                <a:moveTo>
                  <a:pt x="9699" y="12229"/>
                </a:moveTo>
                <a:cubicBezTo>
                  <a:pt x="9699" y="12346"/>
                  <a:pt x="9684" y="12467"/>
                  <a:pt x="9723" y="12576"/>
                </a:cubicBezTo>
                <a:cubicBezTo>
                  <a:pt x="9723" y="12500"/>
                  <a:pt x="9725" y="12422"/>
                  <a:pt x="9748" y="12353"/>
                </a:cubicBezTo>
                <a:cubicBezTo>
                  <a:pt x="9772" y="12282"/>
                  <a:pt x="9787" y="12219"/>
                  <a:pt x="9823" y="12154"/>
                </a:cubicBezTo>
                <a:cubicBezTo>
                  <a:pt x="9844" y="12111"/>
                  <a:pt x="9848" y="12099"/>
                  <a:pt x="9872" y="12080"/>
                </a:cubicBezTo>
                <a:cubicBezTo>
                  <a:pt x="9941" y="12099"/>
                  <a:pt x="9955" y="12136"/>
                  <a:pt x="9996" y="12204"/>
                </a:cubicBezTo>
                <a:cubicBezTo>
                  <a:pt x="10044" y="12284"/>
                  <a:pt x="10021" y="12391"/>
                  <a:pt x="10046" y="12477"/>
                </a:cubicBezTo>
                <a:cubicBezTo>
                  <a:pt x="10070" y="12525"/>
                  <a:pt x="10079" y="12539"/>
                  <a:pt x="10071" y="12576"/>
                </a:cubicBezTo>
              </a:path>
              <a:path w="5359" h="1415">
                <a:moveTo>
                  <a:pt x="10443" y="11881"/>
                </a:moveTo>
                <a:cubicBezTo>
                  <a:pt x="10467" y="11822"/>
                  <a:pt x="10485" y="11769"/>
                  <a:pt x="10542" y="11733"/>
                </a:cubicBezTo>
                <a:cubicBezTo>
                  <a:pt x="10603" y="11694"/>
                  <a:pt x="10654" y="11666"/>
                  <a:pt x="10716" y="11733"/>
                </a:cubicBezTo>
                <a:cubicBezTo>
                  <a:pt x="10776" y="11797"/>
                  <a:pt x="10784" y="11977"/>
                  <a:pt x="10790" y="12055"/>
                </a:cubicBezTo>
                <a:cubicBezTo>
                  <a:pt x="10797" y="12146"/>
                  <a:pt x="10789" y="12267"/>
                  <a:pt x="10765" y="12353"/>
                </a:cubicBezTo>
                <a:cubicBezTo>
                  <a:pt x="10747" y="12417"/>
                  <a:pt x="10717" y="12520"/>
                  <a:pt x="10691" y="12576"/>
                </a:cubicBezTo>
                <a:cubicBezTo>
                  <a:pt x="10661" y="12606"/>
                  <a:pt x="10647" y="12617"/>
                  <a:pt x="10616" y="12626"/>
                </a:cubicBezTo>
                <a:cubicBezTo>
                  <a:pt x="10540" y="12571"/>
                  <a:pt x="10542" y="12546"/>
                  <a:pt x="10542" y="12452"/>
                </a:cubicBezTo>
                <a:cubicBezTo>
                  <a:pt x="10542" y="12401"/>
                  <a:pt x="10571" y="12330"/>
                  <a:pt x="10641" y="12353"/>
                </a:cubicBezTo>
                <a:cubicBezTo>
                  <a:pt x="10708" y="12376"/>
                  <a:pt x="10736" y="12479"/>
                  <a:pt x="10765" y="12526"/>
                </a:cubicBezTo>
                <a:cubicBezTo>
                  <a:pt x="10787" y="12562"/>
                  <a:pt x="10829" y="12592"/>
                  <a:pt x="10864" y="12601"/>
                </a:cubicBezTo>
              </a:path>
              <a:path w="5359" h="1415">
                <a:moveTo>
                  <a:pt x="11137" y="11832"/>
                </a:moveTo>
                <a:cubicBezTo>
                  <a:pt x="11075" y="11777"/>
                  <a:pt x="11068" y="11767"/>
                  <a:pt x="10988" y="11757"/>
                </a:cubicBezTo>
                <a:cubicBezTo>
                  <a:pt x="10958" y="11820"/>
                  <a:pt x="10961" y="11910"/>
                  <a:pt x="10988" y="11981"/>
                </a:cubicBezTo>
                <a:cubicBezTo>
                  <a:pt x="11027" y="12084"/>
                  <a:pt x="11089" y="12163"/>
                  <a:pt x="11137" y="12254"/>
                </a:cubicBezTo>
                <a:cubicBezTo>
                  <a:pt x="11174" y="12325"/>
                  <a:pt x="11201" y="12424"/>
                  <a:pt x="11212" y="12502"/>
                </a:cubicBezTo>
                <a:cubicBezTo>
                  <a:pt x="11219" y="12549"/>
                  <a:pt x="11212" y="12603"/>
                  <a:pt x="11212" y="12650"/>
                </a:cubicBezTo>
                <a:cubicBezTo>
                  <a:pt x="11196" y="12650"/>
                  <a:pt x="11059" y="12609"/>
                  <a:pt x="11038" y="12551"/>
                </a:cubicBezTo>
                <a:cubicBezTo>
                  <a:pt x="11006" y="12462"/>
                  <a:pt x="11024" y="12388"/>
                  <a:pt x="11038" y="12303"/>
                </a:cubicBezTo>
                <a:cubicBezTo>
                  <a:pt x="11048" y="12243"/>
                  <a:pt x="11067" y="12202"/>
                  <a:pt x="11112" y="12154"/>
                </a:cubicBezTo>
                <a:cubicBezTo>
                  <a:pt x="11173" y="12089"/>
                  <a:pt x="11195" y="12041"/>
                  <a:pt x="11212" y="11956"/>
                </a:cubicBezTo>
              </a:path>
              <a:path w="5359" h="1415">
                <a:moveTo>
                  <a:pt x="11361" y="11584"/>
                </a:moveTo>
                <a:cubicBezTo>
                  <a:pt x="11334" y="11655"/>
                  <a:pt x="11309" y="11692"/>
                  <a:pt x="11336" y="11757"/>
                </a:cubicBezTo>
                <a:cubicBezTo>
                  <a:pt x="11362" y="11820"/>
                  <a:pt x="11411" y="11861"/>
                  <a:pt x="11485" y="11832"/>
                </a:cubicBezTo>
                <a:cubicBezTo>
                  <a:pt x="11545" y="11809"/>
                  <a:pt x="11552" y="11707"/>
                  <a:pt x="11534" y="11658"/>
                </a:cubicBezTo>
                <a:cubicBezTo>
                  <a:pt x="11524" y="11631"/>
                  <a:pt x="11452" y="11557"/>
                  <a:pt x="11435" y="11534"/>
                </a:cubicBezTo>
                <a:cubicBezTo>
                  <a:pt x="11407" y="11506"/>
                  <a:pt x="11394" y="11497"/>
                  <a:pt x="11361" y="11509"/>
                </a:cubicBezTo>
              </a:path>
              <a:path w="5359" h="1415">
                <a:moveTo>
                  <a:pt x="11733" y="12229"/>
                </a:moveTo>
                <a:cubicBezTo>
                  <a:pt x="11831" y="12194"/>
                  <a:pt x="11907" y="12166"/>
                  <a:pt x="12005" y="12154"/>
                </a:cubicBezTo>
              </a:path>
              <a:path w="5359" h="1415">
                <a:moveTo>
                  <a:pt x="11807" y="12353"/>
                </a:moveTo>
                <a:cubicBezTo>
                  <a:pt x="11852" y="12389"/>
                  <a:pt x="11930" y="12439"/>
                  <a:pt x="11981" y="12452"/>
                </a:cubicBezTo>
                <a:cubicBezTo>
                  <a:pt x="12030" y="12452"/>
                  <a:pt x="12047" y="12452"/>
                  <a:pt x="12080" y="12452"/>
                </a:cubicBezTo>
              </a:path>
              <a:path w="5359" h="1415">
                <a:moveTo>
                  <a:pt x="7962" y="11807"/>
                </a:moveTo>
                <a:cubicBezTo>
                  <a:pt x="7954" y="11799"/>
                  <a:pt x="7946" y="11790"/>
                  <a:pt x="7938" y="11782"/>
                </a:cubicBezTo>
              </a:path>
              <a:path w="5359" h="1415">
                <a:moveTo>
                  <a:pt x="6871" y="11261"/>
                </a:moveTo>
                <a:cubicBezTo>
                  <a:pt x="6871" y="11335"/>
                  <a:pt x="6873" y="11376"/>
                  <a:pt x="6921" y="11435"/>
                </a:cubicBezTo>
                <a:cubicBezTo>
                  <a:pt x="6981" y="11509"/>
                  <a:pt x="7003" y="11588"/>
                  <a:pt x="7069" y="11658"/>
                </a:cubicBezTo>
                <a:cubicBezTo>
                  <a:pt x="7138" y="11731"/>
                  <a:pt x="7196" y="11809"/>
                  <a:pt x="7268" y="11881"/>
                </a:cubicBezTo>
                <a:cubicBezTo>
                  <a:pt x="7329" y="11943"/>
                  <a:pt x="7359" y="11994"/>
                  <a:pt x="7441" y="12005"/>
                </a:cubicBezTo>
              </a:path>
              <a:path w="5359" h="1415">
                <a:moveTo>
                  <a:pt x="7342" y="11336"/>
                </a:moveTo>
                <a:cubicBezTo>
                  <a:pt x="7295" y="11383"/>
                  <a:pt x="7255" y="11406"/>
                  <a:pt x="7218" y="11460"/>
                </a:cubicBezTo>
                <a:cubicBezTo>
                  <a:pt x="7138" y="11578"/>
                  <a:pt x="7055" y="11693"/>
                  <a:pt x="6970" y="11807"/>
                </a:cubicBezTo>
                <a:cubicBezTo>
                  <a:pt x="6890" y="11914"/>
                  <a:pt x="6835" y="12017"/>
                  <a:pt x="6772" y="12129"/>
                </a:cubicBezTo>
                <a:cubicBezTo>
                  <a:pt x="6745" y="12177"/>
                  <a:pt x="6715" y="12172"/>
                  <a:pt x="6747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7"/>
          <p:cNvSpPr/>
          <p:nvPr/>
        </p:nvSpPr>
        <p:spPr>
          <a:xfrm>
            <a:off x="4572000" y="4170240"/>
            <a:ext cx="911160" cy="741600"/>
          </a:xfrm>
          <a:custGeom>
            <a:avLst/>
            <a:gdLst/>
            <a:ahLst/>
            <a:rect l="l" t="t" r="r" b="b"/>
            <a:pathLst>
              <a:path w="2531" h="2060">
                <a:moveTo>
                  <a:pt x="12725" y="11733"/>
                </a:moveTo>
                <a:cubicBezTo>
                  <a:pt x="12717" y="11826"/>
                  <a:pt x="12700" y="11910"/>
                  <a:pt x="12700" y="12005"/>
                </a:cubicBezTo>
                <a:cubicBezTo>
                  <a:pt x="12700" y="12099"/>
                  <a:pt x="12663" y="12435"/>
                  <a:pt x="12725" y="12477"/>
                </a:cubicBezTo>
              </a:path>
              <a:path w="2531" h="2060">
                <a:moveTo>
                  <a:pt x="13047" y="11757"/>
                </a:moveTo>
                <a:cubicBezTo>
                  <a:pt x="13038" y="11823"/>
                  <a:pt x="13024" y="11888"/>
                  <a:pt x="12998" y="11956"/>
                </a:cubicBezTo>
                <a:cubicBezTo>
                  <a:pt x="12948" y="12087"/>
                  <a:pt x="12959" y="12104"/>
                  <a:pt x="12973" y="12254"/>
                </a:cubicBezTo>
                <a:cubicBezTo>
                  <a:pt x="12981" y="12338"/>
                  <a:pt x="13004" y="12418"/>
                  <a:pt x="13072" y="12477"/>
                </a:cubicBezTo>
                <a:cubicBezTo>
                  <a:pt x="13127" y="12525"/>
                  <a:pt x="13180" y="12542"/>
                  <a:pt x="13246" y="12502"/>
                </a:cubicBezTo>
                <a:cubicBezTo>
                  <a:pt x="13288" y="12477"/>
                  <a:pt x="13337" y="12399"/>
                  <a:pt x="13345" y="12353"/>
                </a:cubicBezTo>
                <a:cubicBezTo>
                  <a:pt x="13359" y="12273"/>
                  <a:pt x="13390" y="12163"/>
                  <a:pt x="13370" y="12080"/>
                </a:cubicBezTo>
                <a:cubicBezTo>
                  <a:pt x="13349" y="11993"/>
                  <a:pt x="13312" y="11852"/>
                  <a:pt x="13246" y="11782"/>
                </a:cubicBezTo>
                <a:cubicBezTo>
                  <a:pt x="13186" y="11718"/>
                  <a:pt x="13157" y="11682"/>
                  <a:pt x="13072" y="11733"/>
                </a:cubicBezTo>
                <a:cubicBezTo>
                  <a:pt x="13064" y="11741"/>
                  <a:pt x="13055" y="11749"/>
                  <a:pt x="13047" y="11757"/>
                </a:cubicBezTo>
              </a:path>
              <a:path w="2531" h="2060">
                <a:moveTo>
                  <a:pt x="12700" y="12576"/>
                </a:moveTo>
                <a:cubicBezTo>
                  <a:pt x="12803" y="12558"/>
                  <a:pt x="12897" y="12530"/>
                  <a:pt x="12998" y="12526"/>
                </a:cubicBezTo>
                <a:cubicBezTo>
                  <a:pt x="13107" y="12522"/>
                  <a:pt x="13208" y="12502"/>
                  <a:pt x="13320" y="12502"/>
                </a:cubicBezTo>
                <a:cubicBezTo>
                  <a:pt x="13443" y="12502"/>
                  <a:pt x="13552" y="12502"/>
                  <a:pt x="13667" y="12477"/>
                </a:cubicBezTo>
                <a:cubicBezTo>
                  <a:pt x="13675" y="12477"/>
                  <a:pt x="13684" y="12477"/>
                  <a:pt x="13692" y="12477"/>
                </a:cubicBezTo>
              </a:path>
              <a:path w="2531" h="2060">
                <a:moveTo>
                  <a:pt x="13072" y="12898"/>
                </a:moveTo>
                <a:cubicBezTo>
                  <a:pt x="13131" y="13002"/>
                  <a:pt x="13201" y="13076"/>
                  <a:pt x="13271" y="13171"/>
                </a:cubicBezTo>
                <a:cubicBezTo>
                  <a:pt x="13356" y="13285"/>
                  <a:pt x="13459" y="13459"/>
                  <a:pt x="13568" y="13543"/>
                </a:cubicBezTo>
                <a:cubicBezTo>
                  <a:pt x="13619" y="13582"/>
                  <a:pt x="13667" y="13593"/>
                  <a:pt x="13717" y="13643"/>
                </a:cubicBezTo>
              </a:path>
              <a:path w="2531" h="2060">
                <a:moveTo>
                  <a:pt x="13345" y="12824"/>
                </a:moveTo>
                <a:cubicBezTo>
                  <a:pt x="13269" y="13029"/>
                  <a:pt x="13180" y="13235"/>
                  <a:pt x="13122" y="13444"/>
                </a:cubicBezTo>
                <a:cubicBezTo>
                  <a:pt x="13114" y="13477"/>
                  <a:pt x="13105" y="13510"/>
                  <a:pt x="13097" y="13543"/>
                </a:cubicBezTo>
              </a:path>
              <a:path w="2531" h="2060">
                <a:moveTo>
                  <a:pt x="14163" y="12452"/>
                </a:moveTo>
                <a:cubicBezTo>
                  <a:pt x="14163" y="12469"/>
                  <a:pt x="14163" y="12485"/>
                  <a:pt x="14163" y="12502"/>
                </a:cubicBezTo>
                <a:cubicBezTo>
                  <a:pt x="14194" y="12471"/>
                  <a:pt x="14274" y="12365"/>
                  <a:pt x="14163" y="12427"/>
                </a:cubicBezTo>
                <a:cubicBezTo>
                  <a:pt x="14141" y="12449"/>
                  <a:pt x="14130" y="12458"/>
                  <a:pt x="14163" y="12452"/>
                </a:cubicBezTo>
              </a:path>
              <a:path w="2531" h="2060">
                <a:moveTo>
                  <a:pt x="14511" y="11658"/>
                </a:moveTo>
                <a:cubicBezTo>
                  <a:pt x="14552" y="11699"/>
                  <a:pt x="14576" y="11737"/>
                  <a:pt x="14610" y="11782"/>
                </a:cubicBezTo>
                <a:cubicBezTo>
                  <a:pt x="14673" y="11866"/>
                  <a:pt x="14737" y="11950"/>
                  <a:pt x="14808" y="12030"/>
                </a:cubicBezTo>
                <a:cubicBezTo>
                  <a:pt x="14876" y="12106"/>
                  <a:pt x="14951" y="12174"/>
                  <a:pt x="15007" y="12254"/>
                </a:cubicBezTo>
                <a:cubicBezTo>
                  <a:pt x="15029" y="12286"/>
                  <a:pt x="15117" y="12414"/>
                  <a:pt x="15180" y="12378"/>
                </a:cubicBezTo>
                <a:cubicBezTo>
                  <a:pt x="15180" y="12370"/>
                  <a:pt x="15180" y="12361"/>
                  <a:pt x="15180" y="12353"/>
                </a:cubicBezTo>
              </a:path>
              <a:path w="2531" h="2060">
                <a:moveTo>
                  <a:pt x="14982" y="11658"/>
                </a:moveTo>
                <a:cubicBezTo>
                  <a:pt x="14866" y="11774"/>
                  <a:pt x="14713" y="11887"/>
                  <a:pt x="14610" y="12005"/>
                </a:cubicBezTo>
                <a:cubicBezTo>
                  <a:pt x="14558" y="12065"/>
                  <a:pt x="14486" y="12123"/>
                  <a:pt x="14436" y="12179"/>
                </a:cubicBezTo>
                <a:cubicBezTo>
                  <a:pt x="14397" y="12239"/>
                  <a:pt x="14394" y="12251"/>
                  <a:pt x="14362" y="12278"/>
                </a:cubicBezTo>
              </a:path>
              <a:path w="2531" h="2060">
                <a:moveTo>
                  <a:pt x="12824" y="13246"/>
                </a:moveTo>
                <a:cubicBezTo>
                  <a:pt x="12931" y="13231"/>
                  <a:pt x="13042" y="13201"/>
                  <a:pt x="13146" y="13196"/>
                </a:cubicBezTo>
                <a:cubicBezTo>
                  <a:pt x="13258" y="13191"/>
                  <a:pt x="13364" y="13163"/>
                  <a:pt x="13469" y="13146"/>
                </a:cubicBezTo>
                <a:cubicBezTo>
                  <a:pt x="13544" y="13134"/>
                  <a:pt x="13603" y="13115"/>
                  <a:pt x="13667" y="13072"/>
                </a:cubicBezTo>
              </a:path>
              <a:path w="2531" h="2060">
                <a:moveTo>
                  <a:pt x="14238" y="12179"/>
                </a:moveTo>
                <a:cubicBezTo>
                  <a:pt x="14413" y="12056"/>
                  <a:pt x="14493" y="12043"/>
                  <a:pt x="14660" y="11956"/>
                </a:cubicBezTo>
                <a:cubicBezTo>
                  <a:pt x="14759" y="11904"/>
                  <a:pt x="14855" y="11854"/>
                  <a:pt x="14957" y="11807"/>
                </a:cubicBezTo>
                <a:cubicBezTo>
                  <a:pt x="15033" y="11773"/>
                  <a:pt x="15096" y="11739"/>
                  <a:pt x="15156" y="11683"/>
                </a:cubicBezTo>
                <a:cubicBezTo>
                  <a:pt x="15200" y="11641"/>
                  <a:pt x="15269" y="11626"/>
                  <a:pt x="15205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990720" y="4116240"/>
            <a:ext cx="4778280" cy="2036880"/>
          </a:xfrm>
          <a:custGeom>
            <a:avLst/>
            <a:gdLst/>
            <a:ahLst/>
            <a:rect l="l" t="t" r="r" b="b"/>
            <a:pathLst>
              <a:path w="13272" h="5656">
                <a:moveTo>
                  <a:pt x="2778" y="11509"/>
                </a:moveTo>
                <a:cubicBezTo>
                  <a:pt x="2778" y="11509"/>
                  <a:pt x="2785" y="11487"/>
                  <a:pt x="2803" y="11435"/>
                </a:cubicBezTo>
                <a:cubicBezTo>
                  <a:pt x="2848" y="11476"/>
                  <a:pt x="2927" y="11533"/>
                  <a:pt x="2952" y="11559"/>
                </a:cubicBezTo>
                <a:cubicBezTo>
                  <a:pt x="3031" y="11641"/>
                  <a:pt x="3087" y="11687"/>
                  <a:pt x="3175" y="11757"/>
                </a:cubicBezTo>
                <a:cubicBezTo>
                  <a:pt x="3235" y="11805"/>
                  <a:pt x="3290" y="11857"/>
                  <a:pt x="3349" y="11906"/>
                </a:cubicBezTo>
                <a:cubicBezTo>
                  <a:pt x="3438" y="11980"/>
                  <a:pt x="3529" y="12058"/>
                  <a:pt x="3621" y="12129"/>
                </a:cubicBezTo>
                <a:cubicBezTo>
                  <a:pt x="3696" y="12186"/>
                  <a:pt x="3770" y="12244"/>
                  <a:pt x="3845" y="12303"/>
                </a:cubicBezTo>
                <a:cubicBezTo>
                  <a:pt x="3932" y="12372"/>
                  <a:pt x="4054" y="12426"/>
                  <a:pt x="4142" y="12502"/>
                </a:cubicBezTo>
                <a:cubicBezTo>
                  <a:pt x="4204" y="12555"/>
                  <a:pt x="4273" y="12620"/>
                  <a:pt x="4341" y="12675"/>
                </a:cubicBezTo>
                <a:cubicBezTo>
                  <a:pt x="4419" y="12738"/>
                  <a:pt x="4488" y="12809"/>
                  <a:pt x="4564" y="12874"/>
                </a:cubicBezTo>
                <a:cubicBezTo>
                  <a:pt x="4667" y="12962"/>
                  <a:pt x="4782" y="13036"/>
                  <a:pt x="4887" y="13122"/>
                </a:cubicBezTo>
                <a:cubicBezTo>
                  <a:pt x="5023" y="13233"/>
                  <a:pt x="5150" y="13357"/>
                  <a:pt x="5283" y="13469"/>
                </a:cubicBezTo>
                <a:cubicBezTo>
                  <a:pt x="5382" y="13553"/>
                  <a:pt x="5485" y="13629"/>
                  <a:pt x="5581" y="13717"/>
                </a:cubicBezTo>
                <a:cubicBezTo>
                  <a:pt x="5668" y="13797"/>
                  <a:pt x="5762" y="13901"/>
                  <a:pt x="5854" y="13965"/>
                </a:cubicBezTo>
                <a:cubicBezTo>
                  <a:pt x="5967" y="14043"/>
                  <a:pt x="6072" y="14105"/>
                  <a:pt x="6176" y="14188"/>
                </a:cubicBezTo>
                <a:cubicBezTo>
                  <a:pt x="6356" y="14332"/>
                  <a:pt x="6571" y="14443"/>
                  <a:pt x="6747" y="14585"/>
                </a:cubicBezTo>
                <a:cubicBezTo>
                  <a:pt x="6900" y="14709"/>
                  <a:pt x="7032" y="14836"/>
                  <a:pt x="7193" y="14957"/>
                </a:cubicBezTo>
                <a:cubicBezTo>
                  <a:pt x="7303" y="15039"/>
                  <a:pt x="7428" y="15098"/>
                  <a:pt x="7541" y="15180"/>
                </a:cubicBezTo>
                <a:cubicBezTo>
                  <a:pt x="7728" y="15316"/>
                  <a:pt x="7923" y="15443"/>
                  <a:pt x="8111" y="15577"/>
                </a:cubicBezTo>
                <a:cubicBezTo>
                  <a:pt x="8183" y="15628"/>
                  <a:pt x="8257" y="15694"/>
                  <a:pt x="8334" y="15751"/>
                </a:cubicBezTo>
                <a:cubicBezTo>
                  <a:pt x="8407" y="15805"/>
                  <a:pt x="8468" y="15843"/>
                  <a:pt x="8533" y="15900"/>
                </a:cubicBezTo>
                <a:cubicBezTo>
                  <a:pt x="8574" y="15936"/>
                  <a:pt x="8618" y="15963"/>
                  <a:pt x="8657" y="15999"/>
                </a:cubicBezTo>
                <a:cubicBezTo>
                  <a:pt x="8665" y="16016"/>
                  <a:pt x="8674" y="16032"/>
                  <a:pt x="8682" y="16049"/>
                </a:cubicBezTo>
                <a:cubicBezTo>
                  <a:pt x="8630" y="16070"/>
                  <a:pt x="8587" y="16109"/>
                  <a:pt x="8533" y="16123"/>
                </a:cubicBezTo>
                <a:cubicBezTo>
                  <a:pt x="8443" y="16147"/>
                  <a:pt x="8352" y="16159"/>
                  <a:pt x="8260" y="16173"/>
                </a:cubicBezTo>
                <a:cubicBezTo>
                  <a:pt x="8176" y="16186"/>
                  <a:pt x="8095" y="16186"/>
                  <a:pt x="8012" y="16197"/>
                </a:cubicBezTo>
                <a:cubicBezTo>
                  <a:pt x="7933" y="16207"/>
                  <a:pt x="7842" y="16205"/>
                  <a:pt x="7764" y="16222"/>
                </a:cubicBezTo>
                <a:cubicBezTo>
                  <a:pt x="7689" y="16238"/>
                  <a:pt x="7618" y="16262"/>
                  <a:pt x="7541" y="16272"/>
                </a:cubicBezTo>
                <a:cubicBezTo>
                  <a:pt x="7426" y="16287"/>
                  <a:pt x="7311" y="16306"/>
                  <a:pt x="7193" y="16321"/>
                </a:cubicBezTo>
                <a:cubicBezTo>
                  <a:pt x="7076" y="16336"/>
                  <a:pt x="6963" y="16333"/>
                  <a:pt x="6846" y="16346"/>
                </a:cubicBezTo>
                <a:cubicBezTo>
                  <a:pt x="6715" y="16360"/>
                  <a:pt x="6583" y="16398"/>
                  <a:pt x="6449" y="16396"/>
                </a:cubicBezTo>
                <a:cubicBezTo>
                  <a:pt x="6345" y="16395"/>
                  <a:pt x="6254" y="16375"/>
                  <a:pt x="6152" y="16371"/>
                </a:cubicBezTo>
                <a:cubicBezTo>
                  <a:pt x="5714" y="16352"/>
                  <a:pt x="5272" y="16366"/>
                  <a:pt x="4837" y="16346"/>
                </a:cubicBezTo>
                <a:cubicBezTo>
                  <a:pt x="4693" y="16339"/>
                  <a:pt x="4556" y="16334"/>
                  <a:pt x="4415" y="16321"/>
                </a:cubicBezTo>
                <a:cubicBezTo>
                  <a:pt x="4306" y="16311"/>
                  <a:pt x="4204" y="16307"/>
                  <a:pt x="4093" y="16297"/>
                </a:cubicBezTo>
                <a:cubicBezTo>
                  <a:pt x="3978" y="16287"/>
                  <a:pt x="3861" y="16284"/>
                  <a:pt x="3746" y="16272"/>
                </a:cubicBezTo>
                <a:cubicBezTo>
                  <a:pt x="3649" y="16262"/>
                  <a:pt x="3552" y="16249"/>
                  <a:pt x="3448" y="16247"/>
                </a:cubicBezTo>
                <a:cubicBezTo>
                  <a:pt x="3322" y="16245"/>
                  <a:pt x="3192" y="16267"/>
                  <a:pt x="3076" y="16272"/>
                </a:cubicBezTo>
                <a:cubicBezTo>
                  <a:pt x="3004" y="16275"/>
                  <a:pt x="2822" y="16304"/>
                  <a:pt x="2778" y="16247"/>
                </a:cubicBezTo>
                <a:cubicBezTo>
                  <a:pt x="2701" y="16147"/>
                  <a:pt x="2798" y="15767"/>
                  <a:pt x="2803" y="15652"/>
                </a:cubicBezTo>
                <a:cubicBezTo>
                  <a:pt x="2807" y="15544"/>
                  <a:pt x="2818" y="15423"/>
                  <a:pt x="2828" y="15329"/>
                </a:cubicBezTo>
                <a:cubicBezTo>
                  <a:pt x="2887" y="15347"/>
                  <a:pt x="2996" y="15347"/>
                  <a:pt x="3051" y="15379"/>
                </a:cubicBezTo>
                <a:cubicBezTo>
                  <a:pt x="3131" y="15426"/>
                  <a:pt x="3143" y="15403"/>
                  <a:pt x="3175" y="15503"/>
                </a:cubicBezTo>
                <a:cubicBezTo>
                  <a:pt x="3196" y="15570"/>
                  <a:pt x="3153" y="15637"/>
                  <a:pt x="3150" y="15701"/>
                </a:cubicBezTo>
                <a:cubicBezTo>
                  <a:pt x="3146" y="15777"/>
                  <a:pt x="3130" y="15848"/>
                  <a:pt x="3125" y="15925"/>
                </a:cubicBezTo>
                <a:cubicBezTo>
                  <a:pt x="3119" y="16013"/>
                  <a:pt x="3143" y="16101"/>
                  <a:pt x="3150" y="16173"/>
                </a:cubicBezTo>
                <a:cubicBezTo>
                  <a:pt x="3150" y="16181"/>
                  <a:pt x="3150" y="16189"/>
                  <a:pt x="3150" y="16197"/>
                </a:cubicBezTo>
              </a:path>
              <a:path w="13272" h="5656">
                <a:moveTo>
                  <a:pt x="6896" y="15354"/>
                </a:moveTo>
                <a:cubicBezTo>
                  <a:pt x="6896" y="15371"/>
                  <a:pt x="6896" y="15387"/>
                  <a:pt x="6896" y="15404"/>
                </a:cubicBezTo>
                <a:cubicBezTo>
                  <a:pt x="6933" y="15366"/>
                  <a:pt x="6983" y="15283"/>
                  <a:pt x="7045" y="15304"/>
                </a:cubicBezTo>
                <a:cubicBezTo>
                  <a:pt x="7080" y="15316"/>
                  <a:pt x="7134" y="15398"/>
                  <a:pt x="7144" y="15429"/>
                </a:cubicBezTo>
                <a:cubicBezTo>
                  <a:pt x="7181" y="15538"/>
                  <a:pt x="7181" y="15654"/>
                  <a:pt x="7144" y="15751"/>
                </a:cubicBezTo>
                <a:cubicBezTo>
                  <a:pt x="7130" y="15787"/>
                  <a:pt x="7096" y="15885"/>
                  <a:pt x="7045" y="15900"/>
                </a:cubicBezTo>
                <a:cubicBezTo>
                  <a:pt x="6965" y="15923"/>
                  <a:pt x="6925" y="15900"/>
                  <a:pt x="6921" y="15825"/>
                </a:cubicBezTo>
                <a:cubicBezTo>
                  <a:pt x="6919" y="15795"/>
                  <a:pt x="6944" y="15674"/>
                  <a:pt x="6995" y="15677"/>
                </a:cubicBezTo>
                <a:cubicBezTo>
                  <a:pt x="7085" y="15683"/>
                  <a:pt x="7074" y="15791"/>
                  <a:pt x="7094" y="15850"/>
                </a:cubicBezTo>
                <a:cubicBezTo>
                  <a:pt x="7116" y="15917"/>
                  <a:pt x="7121" y="15935"/>
                  <a:pt x="7144" y="15974"/>
                </a:cubicBezTo>
              </a:path>
              <a:path w="13272" h="5656">
                <a:moveTo>
                  <a:pt x="7491" y="15478"/>
                </a:moveTo>
                <a:cubicBezTo>
                  <a:pt x="7480" y="15392"/>
                  <a:pt x="7477" y="15366"/>
                  <a:pt x="7392" y="15354"/>
                </a:cubicBezTo>
                <a:cubicBezTo>
                  <a:pt x="7366" y="15424"/>
                  <a:pt x="7368" y="15461"/>
                  <a:pt x="7392" y="15528"/>
                </a:cubicBezTo>
                <a:cubicBezTo>
                  <a:pt x="7421" y="15608"/>
                  <a:pt x="7460" y="15675"/>
                  <a:pt x="7491" y="15751"/>
                </a:cubicBezTo>
                <a:cubicBezTo>
                  <a:pt x="7518" y="15816"/>
                  <a:pt x="7516" y="15858"/>
                  <a:pt x="7516" y="15925"/>
                </a:cubicBezTo>
                <a:cubicBezTo>
                  <a:pt x="7469" y="15925"/>
                  <a:pt x="7385" y="15939"/>
                  <a:pt x="7367" y="15875"/>
                </a:cubicBezTo>
                <a:cubicBezTo>
                  <a:pt x="7352" y="15823"/>
                  <a:pt x="7361" y="15739"/>
                  <a:pt x="7392" y="15701"/>
                </a:cubicBezTo>
                <a:cubicBezTo>
                  <a:pt x="7427" y="15658"/>
                  <a:pt x="7485" y="15645"/>
                  <a:pt x="7516" y="15602"/>
                </a:cubicBezTo>
                <a:cubicBezTo>
                  <a:pt x="7524" y="15586"/>
                  <a:pt x="7533" y="15569"/>
                  <a:pt x="7541" y="15553"/>
                </a:cubicBezTo>
              </a:path>
              <a:path w="13272" h="5656">
                <a:moveTo>
                  <a:pt x="7640" y="15404"/>
                </a:moveTo>
                <a:cubicBezTo>
                  <a:pt x="7610" y="15483"/>
                  <a:pt x="7606" y="15494"/>
                  <a:pt x="7665" y="15553"/>
                </a:cubicBezTo>
                <a:cubicBezTo>
                  <a:pt x="7712" y="15600"/>
                  <a:pt x="7759" y="15529"/>
                  <a:pt x="7764" y="15478"/>
                </a:cubicBezTo>
                <a:cubicBezTo>
                  <a:pt x="7769" y="15422"/>
                  <a:pt x="7787" y="15279"/>
                  <a:pt x="7689" y="15304"/>
                </a:cubicBezTo>
                <a:cubicBezTo>
                  <a:pt x="7681" y="15312"/>
                  <a:pt x="7673" y="15321"/>
                  <a:pt x="7665" y="15329"/>
                </a:cubicBezTo>
              </a:path>
              <a:path w="13272" h="5656">
                <a:moveTo>
                  <a:pt x="4911" y="16470"/>
                </a:moveTo>
                <a:cubicBezTo>
                  <a:pt x="5014" y="16480"/>
                  <a:pt x="5011" y="16497"/>
                  <a:pt x="5085" y="16570"/>
                </a:cubicBezTo>
                <a:cubicBezTo>
                  <a:pt x="5162" y="16646"/>
                  <a:pt x="5213" y="16708"/>
                  <a:pt x="5283" y="16793"/>
                </a:cubicBezTo>
                <a:cubicBezTo>
                  <a:pt x="5355" y="16881"/>
                  <a:pt x="5423" y="16995"/>
                  <a:pt x="5507" y="17066"/>
                </a:cubicBezTo>
                <a:cubicBezTo>
                  <a:pt x="5523" y="17074"/>
                  <a:pt x="5540" y="17082"/>
                  <a:pt x="5556" y="17090"/>
                </a:cubicBezTo>
              </a:path>
              <a:path w="13272" h="5656">
                <a:moveTo>
                  <a:pt x="5432" y="16594"/>
                </a:moveTo>
                <a:cubicBezTo>
                  <a:pt x="5379" y="16623"/>
                  <a:pt x="5276" y="16646"/>
                  <a:pt x="5234" y="16694"/>
                </a:cubicBezTo>
                <a:cubicBezTo>
                  <a:pt x="5178" y="16760"/>
                  <a:pt x="5152" y="16805"/>
                  <a:pt x="5085" y="16867"/>
                </a:cubicBezTo>
                <a:cubicBezTo>
                  <a:pt x="5051" y="16898"/>
                  <a:pt x="5048" y="16971"/>
                  <a:pt x="5035" y="17016"/>
                </a:cubicBezTo>
              </a:path>
              <a:path w="13272" h="5656">
                <a:moveTo>
                  <a:pt x="12526" y="15032"/>
                </a:moveTo>
                <a:cubicBezTo>
                  <a:pt x="12346" y="14991"/>
                  <a:pt x="12165" y="14945"/>
                  <a:pt x="11981" y="14932"/>
                </a:cubicBezTo>
                <a:cubicBezTo>
                  <a:pt x="11588" y="14905"/>
                  <a:pt x="11184" y="14923"/>
                  <a:pt x="10790" y="14908"/>
                </a:cubicBezTo>
                <a:cubicBezTo>
                  <a:pt x="10604" y="14901"/>
                  <a:pt x="10428" y="14928"/>
                  <a:pt x="10244" y="14932"/>
                </a:cubicBezTo>
                <a:cubicBezTo>
                  <a:pt x="10098" y="14935"/>
                  <a:pt x="9964" y="14969"/>
                  <a:pt x="9823" y="14982"/>
                </a:cubicBezTo>
                <a:cubicBezTo>
                  <a:pt x="9725" y="14991"/>
                  <a:pt x="9642" y="15017"/>
                  <a:pt x="9550" y="15032"/>
                </a:cubicBezTo>
                <a:cubicBezTo>
                  <a:pt x="9449" y="15049"/>
                  <a:pt x="9494" y="15061"/>
                  <a:pt x="9475" y="15106"/>
                </a:cubicBezTo>
              </a:path>
              <a:path w="13272" h="5656">
                <a:moveTo>
                  <a:pt x="10666" y="15453"/>
                </a:moveTo>
                <a:cubicBezTo>
                  <a:pt x="10666" y="15569"/>
                  <a:pt x="10645" y="15664"/>
                  <a:pt x="10641" y="15776"/>
                </a:cubicBezTo>
                <a:cubicBezTo>
                  <a:pt x="10636" y="15934"/>
                  <a:pt x="10666" y="16089"/>
                  <a:pt x="10666" y="16247"/>
                </a:cubicBezTo>
                <a:cubicBezTo>
                  <a:pt x="10666" y="16353"/>
                  <a:pt x="10695" y="16507"/>
                  <a:pt x="10641" y="16594"/>
                </a:cubicBezTo>
              </a:path>
              <a:path w="13272" h="5656">
                <a:moveTo>
                  <a:pt x="10443" y="15404"/>
                </a:moveTo>
                <a:cubicBezTo>
                  <a:pt x="10533" y="15358"/>
                  <a:pt x="10609" y="15337"/>
                  <a:pt x="10716" y="15354"/>
                </a:cubicBezTo>
                <a:cubicBezTo>
                  <a:pt x="10836" y="15373"/>
                  <a:pt x="10940" y="15379"/>
                  <a:pt x="11063" y="15379"/>
                </a:cubicBezTo>
              </a:path>
              <a:path w="13272" h="5656">
                <a:moveTo>
                  <a:pt x="11212" y="15925"/>
                </a:moveTo>
                <a:cubicBezTo>
                  <a:pt x="11146" y="15872"/>
                  <a:pt x="11093" y="15854"/>
                  <a:pt x="11013" y="15900"/>
                </a:cubicBezTo>
                <a:cubicBezTo>
                  <a:pt x="10938" y="15943"/>
                  <a:pt x="10964" y="16053"/>
                  <a:pt x="10964" y="16123"/>
                </a:cubicBezTo>
                <a:cubicBezTo>
                  <a:pt x="10964" y="16177"/>
                  <a:pt x="11007" y="16274"/>
                  <a:pt x="11063" y="16297"/>
                </a:cubicBezTo>
                <a:cubicBezTo>
                  <a:pt x="11144" y="16330"/>
                  <a:pt x="11178" y="16241"/>
                  <a:pt x="11212" y="16197"/>
                </a:cubicBezTo>
                <a:cubicBezTo>
                  <a:pt x="11243" y="16156"/>
                  <a:pt x="11270" y="16024"/>
                  <a:pt x="11286" y="16073"/>
                </a:cubicBezTo>
                <a:cubicBezTo>
                  <a:pt x="11305" y="16131"/>
                  <a:pt x="11322" y="16212"/>
                  <a:pt x="11336" y="16272"/>
                </a:cubicBezTo>
                <a:cubicBezTo>
                  <a:pt x="11336" y="16313"/>
                  <a:pt x="11328" y="16329"/>
                  <a:pt x="11361" y="16321"/>
                </a:cubicBezTo>
              </a:path>
              <a:path w="13272" h="5656">
                <a:moveTo>
                  <a:pt x="11410" y="15925"/>
                </a:moveTo>
                <a:cubicBezTo>
                  <a:pt x="11394" y="16002"/>
                  <a:pt x="11390" y="16069"/>
                  <a:pt x="11435" y="16148"/>
                </a:cubicBezTo>
                <a:cubicBezTo>
                  <a:pt x="11467" y="16205"/>
                  <a:pt x="11479" y="16206"/>
                  <a:pt x="11534" y="16222"/>
                </a:cubicBezTo>
                <a:cubicBezTo>
                  <a:pt x="11552" y="16133"/>
                  <a:pt x="11574" y="16034"/>
                  <a:pt x="11609" y="15949"/>
                </a:cubicBezTo>
                <a:cubicBezTo>
                  <a:pt x="11637" y="15881"/>
                  <a:pt x="11656" y="15828"/>
                  <a:pt x="11708" y="15776"/>
                </a:cubicBezTo>
                <a:cubicBezTo>
                  <a:pt x="11750" y="15870"/>
                  <a:pt x="11771" y="16012"/>
                  <a:pt x="11782" y="16123"/>
                </a:cubicBezTo>
                <a:cubicBezTo>
                  <a:pt x="11792" y="16225"/>
                  <a:pt x="11800" y="16325"/>
                  <a:pt x="11832" y="16421"/>
                </a:cubicBezTo>
                <a:cubicBezTo>
                  <a:pt x="11851" y="16478"/>
                  <a:pt x="11860" y="16485"/>
                  <a:pt x="11857" y="16520"/>
                </a:cubicBezTo>
              </a:path>
              <a:path w="13272" h="5656">
                <a:moveTo>
                  <a:pt x="12005" y="15751"/>
                </a:moveTo>
                <a:cubicBezTo>
                  <a:pt x="12109" y="15627"/>
                  <a:pt x="12165" y="15523"/>
                  <a:pt x="12303" y="15652"/>
                </a:cubicBezTo>
                <a:cubicBezTo>
                  <a:pt x="12362" y="15707"/>
                  <a:pt x="12385" y="15817"/>
                  <a:pt x="12378" y="15900"/>
                </a:cubicBezTo>
                <a:cubicBezTo>
                  <a:pt x="12369" y="16001"/>
                  <a:pt x="12371" y="16158"/>
                  <a:pt x="12303" y="16247"/>
                </a:cubicBezTo>
                <a:cubicBezTo>
                  <a:pt x="12271" y="16289"/>
                  <a:pt x="12189" y="16368"/>
                  <a:pt x="12154" y="16272"/>
                </a:cubicBezTo>
                <a:cubicBezTo>
                  <a:pt x="12124" y="16188"/>
                  <a:pt x="12128" y="16108"/>
                  <a:pt x="12154" y="16024"/>
                </a:cubicBezTo>
                <a:cubicBezTo>
                  <a:pt x="12222" y="15990"/>
                  <a:pt x="12252" y="16064"/>
                  <a:pt x="12303" y="16123"/>
                </a:cubicBezTo>
                <a:cubicBezTo>
                  <a:pt x="12351" y="16171"/>
                  <a:pt x="12390" y="16191"/>
                  <a:pt x="12452" y="16197"/>
                </a:cubicBezTo>
              </a:path>
              <a:path w="13272" h="5656">
                <a:moveTo>
                  <a:pt x="12725" y="15726"/>
                </a:moveTo>
                <a:cubicBezTo>
                  <a:pt x="12668" y="15651"/>
                  <a:pt x="12664" y="15639"/>
                  <a:pt x="12626" y="15602"/>
                </a:cubicBezTo>
                <a:cubicBezTo>
                  <a:pt x="12626" y="15727"/>
                  <a:pt x="12666" y="15826"/>
                  <a:pt x="12675" y="15949"/>
                </a:cubicBezTo>
                <a:cubicBezTo>
                  <a:pt x="12680" y="16018"/>
                  <a:pt x="12707" y="16280"/>
                  <a:pt x="12650" y="16346"/>
                </a:cubicBezTo>
                <a:cubicBezTo>
                  <a:pt x="12618" y="16383"/>
                  <a:pt x="12521" y="16421"/>
                  <a:pt x="12502" y="16346"/>
                </a:cubicBezTo>
                <a:cubicBezTo>
                  <a:pt x="12475" y="16242"/>
                  <a:pt x="12523" y="16186"/>
                  <a:pt x="12601" y="16123"/>
                </a:cubicBezTo>
                <a:cubicBezTo>
                  <a:pt x="12685" y="16055"/>
                  <a:pt x="12790" y="16018"/>
                  <a:pt x="12874" y="15949"/>
                </a:cubicBezTo>
                <a:cubicBezTo>
                  <a:pt x="12890" y="15933"/>
                  <a:pt x="12907" y="15916"/>
                  <a:pt x="12923" y="15900"/>
                </a:cubicBezTo>
              </a:path>
              <a:path w="13272" h="5656">
                <a:moveTo>
                  <a:pt x="13320" y="15081"/>
                </a:moveTo>
                <a:cubicBezTo>
                  <a:pt x="13492" y="15031"/>
                  <a:pt x="13641" y="14997"/>
                  <a:pt x="13816" y="14982"/>
                </a:cubicBezTo>
                <a:cubicBezTo>
                  <a:pt x="14052" y="14962"/>
                  <a:pt x="14241" y="14977"/>
                  <a:pt x="14486" y="14932"/>
                </a:cubicBezTo>
                <a:cubicBezTo>
                  <a:pt x="14633" y="14905"/>
                  <a:pt x="14789" y="14890"/>
                  <a:pt x="14932" y="14858"/>
                </a:cubicBezTo>
                <a:cubicBezTo>
                  <a:pt x="15013" y="14840"/>
                  <a:pt x="15073" y="14842"/>
                  <a:pt x="15131" y="14784"/>
                </a:cubicBezTo>
                <a:cubicBezTo>
                  <a:pt x="15139" y="14776"/>
                  <a:pt x="15148" y="14767"/>
                  <a:pt x="15156" y="14759"/>
                </a:cubicBezTo>
              </a:path>
              <a:path w="13272" h="5656">
                <a:moveTo>
                  <a:pt x="14089" y="15677"/>
                </a:moveTo>
                <a:cubicBezTo>
                  <a:pt x="14048" y="15891"/>
                  <a:pt x="14003" y="16105"/>
                  <a:pt x="13990" y="16321"/>
                </a:cubicBezTo>
                <a:cubicBezTo>
                  <a:pt x="13981" y="16478"/>
                  <a:pt x="13969" y="16637"/>
                  <a:pt x="13965" y="16793"/>
                </a:cubicBezTo>
                <a:cubicBezTo>
                  <a:pt x="13965" y="16887"/>
                  <a:pt x="13986" y="16908"/>
                  <a:pt x="13940" y="16942"/>
                </a:cubicBezTo>
              </a:path>
              <a:path w="13272" h="5656">
                <a:moveTo>
                  <a:pt x="13767" y="15503"/>
                </a:moveTo>
                <a:cubicBezTo>
                  <a:pt x="13869" y="15447"/>
                  <a:pt x="13922" y="15452"/>
                  <a:pt x="14039" y="15478"/>
                </a:cubicBezTo>
                <a:cubicBezTo>
                  <a:pt x="14135" y="15499"/>
                  <a:pt x="14235" y="15552"/>
                  <a:pt x="14337" y="15528"/>
                </a:cubicBezTo>
                <a:cubicBezTo>
                  <a:pt x="14385" y="15504"/>
                  <a:pt x="14399" y="15496"/>
                  <a:pt x="14436" y="15503"/>
                </a:cubicBezTo>
              </a:path>
              <a:path w="13272" h="5656">
                <a:moveTo>
                  <a:pt x="14585" y="16098"/>
                </a:moveTo>
                <a:cubicBezTo>
                  <a:pt x="14616" y="16046"/>
                  <a:pt x="14620" y="16013"/>
                  <a:pt x="14560" y="15974"/>
                </a:cubicBezTo>
                <a:cubicBezTo>
                  <a:pt x="14490" y="15929"/>
                  <a:pt x="14357" y="15950"/>
                  <a:pt x="14312" y="16024"/>
                </a:cubicBezTo>
                <a:cubicBezTo>
                  <a:pt x="14267" y="16098"/>
                  <a:pt x="14309" y="16223"/>
                  <a:pt x="14337" y="16297"/>
                </a:cubicBezTo>
                <a:cubicBezTo>
                  <a:pt x="14364" y="16370"/>
                  <a:pt x="14417" y="16400"/>
                  <a:pt x="14486" y="16346"/>
                </a:cubicBezTo>
                <a:cubicBezTo>
                  <a:pt x="14558" y="16290"/>
                  <a:pt x="14567" y="16180"/>
                  <a:pt x="14560" y="16222"/>
                </a:cubicBezTo>
                <a:cubicBezTo>
                  <a:pt x="14553" y="16261"/>
                  <a:pt x="14577" y="16375"/>
                  <a:pt x="14610" y="16396"/>
                </a:cubicBezTo>
                <a:cubicBezTo>
                  <a:pt x="14618" y="16396"/>
                  <a:pt x="14627" y="16396"/>
                  <a:pt x="14635" y="16396"/>
                </a:cubicBezTo>
              </a:path>
              <a:path w="13272" h="5656">
                <a:moveTo>
                  <a:pt x="14759" y="15999"/>
                </a:moveTo>
                <a:cubicBezTo>
                  <a:pt x="14731" y="16083"/>
                  <a:pt x="14722" y="16140"/>
                  <a:pt x="14759" y="16222"/>
                </a:cubicBezTo>
                <a:cubicBezTo>
                  <a:pt x="14767" y="16239"/>
                  <a:pt x="14776" y="16255"/>
                  <a:pt x="14784" y="16272"/>
                </a:cubicBezTo>
                <a:cubicBezTo>
                  <a:pt x="14828" y="16227"/>
                  <a:pt x="14859" y="16183"/>
                  <a:pt x="14883" y="16123"/>
                </a:cubicBezTo>
                <a:cubicBezTo>
                  <a:pt x="14919" y="16031"/>
                  <a:pt x="14918" y="15974"/>
                  <a:pt x="15007" y="15949"/>
                </a:cubicBezTo>
                <a:cubicBezTo>
                  <a:pt x="15070" y="16029"/>
                  <a:pt x="15038" y="16078"/>
                  <a:pt x="15056" y="16173"/>
                </a:cubicBezTo>
                <a:cubicBezTo>
                  <a:pt x="15063" y="16210"/>
                  <a:pt x="15075" y="16421"/>
                  <a:pt x="15081" y="16421"/>
                </a:cubicBezTo>
                <a:cubicBezTo>
                  <a:pt x="15081" y="16413"/>
                  <a:pt x="15081" y="16404"/>
                  <a:pt x="15081" y="16396"/>
                </a:cubicBezTo>
              </a:path>
              <a:path w="13272" h="5656">
                <a:moveTo>
                  <a:pt x="15230" y="15652"/>
                </a:moveTo>
                <a:cubicBezTo>
                  <a:pt x="15261" y="15613"/>
                  <a:pt x="15332" y="15499"/>
                  <a:pt x="15404" y="15528"/>
                </a:cubicBezTo>
                <a:cubicBezTo>
                  <a:pt x="15504" y="15568"/>
                  <a:pt x="15565" y="15629"/>
                  <a:pt x="15602" y="15726"/>
                </a:cubicBezTo>
                <a:cubicBezTo>
                  <a:pt x="15643" y="15833"/>
                  <a:pt x="15618" y="15918"/>
                  <a:pt x="15577" y="16024"/>
                </a:cubicBezTo>
                <a:cubicBezTo>
                  <a:pt x="15548" y="16100"/>
                  <a:pt x="15524" y="16174"/>
                  <a:pt x="15453" y="16222"/>
                </a:cubicBezTo>
                <a:cubicBezTo>
                  <a:pt x="15377" y="16273"/>
                  <a:pt x="15308" y="16251"/>
                  <a:pt x="15329" y="16148"/>
                </a:cubicBezTo>
                <a:cubicBezTo>
                  <a:pt x="15351" y="16104"/>
                  <a:pt x="15354" y="16092"/>
                  <a:pt x="15379" y="16073"/>
                </a:cubicBezTo>
                <a:cubicBezTo>
                  <a:pt x="15458" y="16096"/>
                  <a:pt x="15454" y="16144"/>
                  <a:pt x="15528" y="16197"/>
                </a:cubicBezTo>
                <a:cubicBezTo>
                  <a:pt x="15568" y="16226"/>
                  <a:pt x="15592" y="16255"/>
                  <a:pt x="15627" y="16272"/>
                </a:cubicBezTo>
              </a:path>
              <a:path w="13272" h="5656">
                <a:moveTo>
                  <a:pt x="16024" y="15776"/>
                </a:moveTo>
                <a:cubicBezTo>
                  <a:pt x="16007" y="15751"/>
                  <a:pt x="15991" y="15726"/>
                  <a:pt x="15974" y="15701"/>
                </a:cubicBezTo>
                <a:cubicBezTo>
                  <a:pt x="15962" y="15810"/>
                  <a:pt x="15949" y="15910"/>
                  <a:pt x="15949" y="16024"/>
                </a:cubicBezTo>
                <a:cubicBezTo>
                  <a:pt x="15949" y="16150"/>
                  <a:pt x="15967" y="16307"/>
                  <a:pt x="15900" y="16421"/>
                </a:cubicBezTo>
                <a:cubicBezTo>
                  <a:pt x="15851" y="16504"/>
                  <a:pt x="15788" y="16519"/>
                  <a:pt x="15726" y="16446"/>
                </a:cubicBezTo>
                <a:cubicBezTo>
                  <a:pt x="15673" y="16384"/>
                  <a:pt x="15621" y="16281"/>
                  <a:pt x="15652" y="16197"/>
                </a:cubicBezTo>
                <a:cubicBezTo>
                  <a:pt x="15670" y="16149"/>
                  <a:pt x="15731" y="16051"/>
                  <a:pt x="15776" y="16024"/>
                </a:cubicBezTo>
                <a:cubicBezTo>
                  <a:pt x="15865" y="15971"/>
                  <a:pt x="15861" y="16021"/>
                  <a:pt x="15875" y="159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9"/>
          <p:cNvSpPr/>
          <p:nvPr/>
        </p:nvSpPr>
        <p:spPr>
          <a:xfrm>
            <a:off x="3367080" y="4867200"/>
            <a:ext cx="1704960" cy="490680"/>
          </a:xfrm>
          <a:custGeom>
            <a:avLst/>
            <a:gdLst/>
            <a:ahLst/>
            <a:rect l="l" t="t" r="r" b="b"/>
            <a:pathLst>
              <a:path w="4739" h="1365">
                <a:moveTo>
                  <a:pt x="9351" y="13940"/>
                </a:moveTo>
                <a:cubicBezTo>
                  <a:pt x="9384" y="14005"/>
                  <a:pt x="9409" y="14051"/>
                  <a:pt x="9426" y="14114"/>
                </a:cubicBezTo>
                <a:cubicBezTo>
                  <a:pt x="9467" y="14263"/>
                  <a:pt x="9540" y="14329"/>
                  <a:pt x="9624" y="14461"/>
                </a:cubicBezTo>
                <a:cubicBezTo>
                  <a:pt x="9698" y="14578"/>
                  <a:pt x="9781" y="14659"/>
                  <a:pt x="9872" y="14759"/>
                </a:cubicBezTo>
                <a:cubicBezTo>
                  <a:pt x="9920" y="14812"/>
                  <a:pt x="9952" y="14821"/>
                  <a:pt x="10021" y="14833"/>
                </a:cubicBezTo>
              </a:path>
              <a:path w="4739" h="1365">
                <a:moveTo>
                  <a:pt x="9674" y="13866"/>
                </a:moveTo>
                <a:cubicBezTo>
                  <a:pt x="9618" y="13994"/>
                  <a:pt x="9557" y="14121"/>
                  <a:pt x="9500" y="14238"/>
                </a:cubicBezTo>
                <a:cubicBezTo>
                  <a:pt x="9451" y="14340"/>
                  <a:pt x="9459" y="14455"/>
                  <a:pt x="9401" y="14560"/>
                </a:cubicBezTo>
                <a:cubicBezTo>
                  <a:pt x="9378" y="14583"/>
                  <a:pt x="9370" y="14587"/>
                  <a:pt x="9376" y="14610"/>
                </a:cubicBezTo>
              </a:path>
              <a:path w="4739" h="1365">
                <a:moveTo>
                  <a:pt x="9897" y="14436"/>
                </a:moveTo>
                <a:cubicBezTo>
                  <a:pt x="9931" y="14404"/>
                  <a:pt x="9947" y="14387"/>
                  <a:pt x="9971" y="14362"/>
                </a:cubicBezTo>
              </a:path>
              <a:path w="4739" h="1365">
                <a:moveTo>
                  <a:pt x="10418" y="13866"/>
                </a:moveTo>
                <a:cubicBezTo>
                  <a:pt x="10418" y="14012"/>
                  <a:pt x="10432" y="14144"/>
                  <a:pt x="10443" y="14288"/>
                </a:cubicBezTo>
                <a:cubicBezTo>
                  <a:pt x="10452" y="14414"/>
                  <a:pt x="10453" y="14540"/>
                  <a:pt x="10468" y="14660"/>
                </a:cubicBezTo>
                <a:cubicBezTo>
                  <a:pt x="10468" y="14726"/>
                  <a:pt x="10468" y="14743"/>
                  <a:pt x="10468" y="14784"/>
                </a:cubicBezTo>
              </a:path>
              <a:path w="4739" h="1365">
                <a:moveTo>
                  <a:pt x="10120" y="13543"/>
                </a:moveTo>
                <a:cubicBezTo>
                  <a:pt x="10263" y="13526"/>
                  <a:pt x="10325" y="13539"/>
                  <a:pt x="10443" y="13593"/>
                </a:cubicBezTo>
                <a:cubicBezTo>
                  <a:pt x="10506" y="13622"/>
                  <a:pt x="10577" y="13639"/>
                  <a:pt x="10641" y="13667"/>
                </a:cubicBezTo>
              </a:path>
              <a:path w="4739" h="1365">
                <a:moveTo>
                  <a:pt x="10964" y="14362"/>
                </a:moveTo>
                <a:cubicBezTo>
                  <a:pt x="10923" y="14291"/>
                  <a:pt x="10898" y="14261"/>
                  <a:pt x="10815" y="14312"/>
                </a:cubicBezTo>
                <a:cubicBezTo>
                  <a:pt x="10767" y="14341"/>
                  <a:pt x="10747" y="14395"/>
                  <a:pt x="10716" y="14436"/>
                </a:cubicBezTo>
                <a:cubicBezTo>
                  <a:pt x="10662" y="14509"/>
                  <a:pt x="10651" y="14551"/>
                  <a:pt x="10691" y="14635"/>
                </a:cubicBezTo>
                <a:cubicBezTo>
                  <a:pt x="10711" y="14677"/>
                  <a:pt x="10769" y="14743"/>
                  <a:pt x="10815" y="14734"/>
                </a:cubicBezTo>
                <a:cubicBezTo>
                  <a:pt x="10828" y="14731"/>
                  <a:pt x="10910" y="14648"/>
                  <a:pt x="10914" y="14635"/>
                </a:cubicBezTo>
                <a:cubicBezTo>
                  <a:pt x="10928" y="14585"/>
                  <a:pt x="10914" y="14514"/>
                  <a:pt x="10914" y="14461"/>
                </a:cubicBezTo>
                <a:cubicBezTo>
                  <a:pt x="10946" y="14525"/>
                  <a:pt x="10972" y="14602"/>
                  <a:pt x="11013" y="14660"/>
                </a:cubicBezTo>
                <a:cubicBezTo>
                  <a:pt x="11047" y="14709"/>
                  <a:pt x="11112" y="14731"/>
                  <a:pt x="11162" y="14759"/>
                </a:cubicBezTo>
              </a:path>
              <a:path w="4739" h="1365">
                <a:moveTo>
                  <a:pt x="11212" y="14362"/>
                </a:moveTo>
                <a:cubicBezTo>
                  <a:pt x="11184" y="14474"/>
                  <a:pt x="11201" y="14546"/>
                  <a:pt x="11212" y="14660"/>
                </a:cubicBezTo>
                <a:cubicBezTo>
                  <a:pt x="11241" y="14584"/>
                  <a:pt x="11250" y="14494"/>
                  <a:pt x="11261" y="14412"/>
                </a:cubicBezTo>
                <a:cubicBezTo>
                  <a:pt x="11270" y="14345"/>
                  <a:pt x="11287" y="14335"/>
                  <a:pt x="11336" y="14288"/>
                </a:cubicBezTo>
                <a:cubicBezTo>
                  <a:pt x="11397" y="14349"/>
                  <a:pt x="11417" y="14425"/>
                  <a:pt x="11460" y="14511"/>
                </a:cubicBezTo>
                <a:cubicBezTo>
                  <a:pt x="11498" y="14585"/>
                  <a:pt x="11514" y="14658"/>
                  <a:pt x="11534" y="14734"/>
                </a:cubicBezTo>
                <a:cubicBezTo>
                  <a:pt x="11542" y="14759"/>
                  <a:pt x="11551" y="14783"/>
                  <a:pt x="11559" y="14808"/>
                </a:cubicBezTo>
              </a:path>
              <a:path w="4739" h="1365">
                <a:moveTo>
                  <a:pt x="11733" y="14064"/>
                </a:moveTo>
                <a:cubicBezTo>
                  <a:pt x="11742" y="13996"/>
                  <a:pt x="11771" y="13950"/>
                  <a:pt x="11857" y="13965"/>
                </a:cubicBezTo>
                <a:cubicBezTo>
                  <a:pt x="11938" y="13979"/>
                  <a:pt x="11999" y="14040"/>
                  <a:pt x="12030" y="14114"/>
                </a:cubicBezTo>
                <a:cubicBezTo>
                  <a:pt x="12074" y="14220"/>
                  <a:pt x="12080" y="14299"/>
                  <a:pt x="12080" y="14412"/>
                </a:cubicBezTo>
                <a:cubicBezTo>
                  <a:pt x="12080" y="14495"/>
                  <a:pt x="12064" y="14593"/>
                  <a:pt x="12030" y="14660"/>
                </a:cubicBezTo>
                <a:cubicBezTo>
                  <a:pt x="11995" y="14729"/>
                  <a:pt x="12002" y="14724"/>
                  <a:pt x="11931" y="14734"/>
                </a:cubicBezTo>
                <a:cubicBezTo>
                  <a:pt x="11915" y="14708"/>
                  <a:pt x="11863" y="14639"/>
                  <a:pt x="11857" y="14610"/>
                </a:cubicBezTo>
                <a:cubicBezTo>
                  <a:pt x="11841" y="14533"/>
                  <a:pt x="11861" y="14471"/>
                  <a:pt x="11906" y="14412"/>
                </a:cubicBezTo>
                <a:cubicBezTo>
                  <a:pt x="11914" y="14404"/>
                  <a:pt x="11923" y="14395"/>
                  <a:pt x="11931" y="14387"/>
                </a:cubicBezTo>
                <a:cubicBezTo>
                  <a:pt x="11982" y="14416"/>
                  <a:pt x="12093" y="14477"/>
                  <a:pt x="12129" y="14511"/>
                </a:cubicBezTo>
                <a:cubicBezTo>
                  <a:pt x="12173" y="14552"/>
                  <a:pt x="12172" y="14624"/>
                  <a:pt x="12229" y="14660"/>
                </a:cubicBezTo>
                <a:cubicBezTo>
                  <a:pt x="12245" y="14668"/>
                  <a:pt x="12262" y="14676"/>
                  <a:pt x="12278" y="14684"/>
                </a:cubicBezTo>
              </a:path>
              <a:path w="4739" h="1365">
                <a:moveTo>
                  <a:pt x="12502" y="14163"/>
                </a:moveTo>
                <a:cubicBezTo>
                  <a:pt x="12501" y="14162"/>
                  <a:pt x="12378" y="13959"/>
                  <a:pt x="12328" y="13965"/>
                </a:cubicBezTo>
                <a:cubicBezTo>
                  <a:pt x="12320" y="13973"/>
                  <a:pt x="12311" y="13982"/>
                  <a:pt x="12303" y="13990"/>
                </a:cubicBezTo>
                <a:cubicBezTo>
                  <a:pt x="12314" y="14097"/>
                  <a:pt x="12357" y="14207"/>
                  <a:pt x="12402" y="14312"/>
                </a:cubicBezTo>
                <a:cubicBezTo>
                  <a:pt x="12450" y="14424"/>
                  <a:pt x="12496" y="14487"/>
                  <a:pt x="12502" y="14610"/>
                </a:cubicBezTo>
                <a:cubicBezTo>
                  <a:pt x="12506" y="14696"/>
                  <a:pt x="12535" y="14711"/>
                  <a:pt x="12477" y="14784"/>
                </a:cubicBezTo>
                <a:cubicBezTo>
                  <a:pt x="12376" y="14759"/>
                  <a:pt x="12391" y="14735"/>
                  <a:pt x="12353" y="14660"/>
                </a:cubicBezTo>
                <a:cubicBezTo>
                  <a:pt x="12312" y="14579"/>
                  <a:pt x="12368" y="14516"/>
                  <a:pt x="12427" y="14461"/>
                </a:cubicBezTo>
                <a:cubicBezTo>
                  <a:pt x="12491" y="14402"/>
                  <a:pt x="12539" y="14339"/>
                  <a:pt x="12601" y="14288"/>
                </a:cubicBezTo>
                <a:cubicBezTo>
                  <a:pt x="12634" y="14261"/>
                  <a:pt x="12667" y="14240"/>
                  <a:pt x="12700" y="14213"/>
                </a:cubicBezTo>
              </a:path>
              <a:path w="4739" h="1365">
                <a:moveTo>
                  <a:pt x="12799" y="14312"/>
                </a:moveTo>
                <a:cubicBezTo>
                  <a:pt x="12873" y="14337"/>
                  <a:pt x="12948" y="14362"/>
                  <a:pt x="13022" y="14387"/>
                </a:cubicBezTo>
              </a:path>
              <a:path w="4739" h="1365">
                <a:moveTo>
                  <a:pt x="12824" y="14461"/>
                </a:moveTo>
                <a:cubicBezTo>
                  <a:pt x="12964" y="14501"/>
                  <a:pt x="12986" y="14518"/>
                  <a:pt x="13072" y="14511"/>
                </a:cubicBezTo>
              </a:path>
              <a:path w="4739" h="1365">
                <a:moveTo>
                  <a:pt x="13370" y="14089"/>
                </a:moveTo>
                <a:cubicBezTo>
                  <a:pt x="13370" y="14266"/>
                  <a:pt x="13371" y="14438"/>
                  <a:pt x="13395" y="14610"/>
                </a:cubicBezTo>
                <a:cubicBezTo>
                  <a:pt x="13405" y="14681"/>
                  <a:pt x="13389" y="14768"/>
                  <a:pt x="13419" y="14833"/>
                </a:cubicBezTo>
                <a:cubicBezTo>
                  <a:pt x="13442" y="14856"/>
                  <a:pt x="13446" y="14864"/>
                  <a:pt x="13469" y="14858"/>
                </a:cubicBezTo>
              </a:path>
              <a:path w="4739" h="1365">
                <a:moveTo>
                  <a:pt x="13717" y="14238"/>
                </a:moveTo>
                <a:cubicBezTo>
                  <a:pt x="13646" y="14309"/>
                  <a:pt x="13647" y="14386"/>
                  <a:pt x="13643" y="14486"/>
                </a:cubicBezTo>
                <a:cubicBezTo>
                  <a:pt x="13639" y="14574"/>
                  <a:pt x="13666" y="14708"/>
                  <a:pt x="13717" y="14784"/>
                </a:cubicBezTo>
                <a:cubicBezTo>
                  <a:pt x="13761" y="14849"/>
                  <a:pt x="13843" y="14879"/>
                  <a:pt x="13915" y="14883"/>
                </a:cubicBezTo>
                <a:cubicBezTo>
                  <a:pt x="14006" y="14888"/>
                  <a:pt x="14033" y="14837"/>
                  <a:pt x="14064" y="14759"/>
                </a:cubicBezTo>
                <a:cubicBezTo>
                  <a:pt x="14096" y="14678"/>
                  <a:pt x="14105" y="14545"/>
                  <a:pt x="14089" y="14461"/>
                </a:cubicBezTo>
                <a:cubicBezTo>
                  <a:pt x="14074" y="14380"/>
                  <a:pt x="14006" y="14324"/>
                  <a:pt x="13940" y="14288"/>
                </a:cubicBezTo>
                <a:cubicBezTo>
                  <a:pt x="13887" y="14258"/>
                  <a:pt x="13826" y="14254"/>
                  <a:pt x="13767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10"/>
          <p:cNvSpPr/>
          <p:nvPr/>
        </p:nvSpPr>
        <p:spPr>
          <a:xfrm>
            <a:off x="3751200" y="5010120"/>
            <a:ext cx="793800" cy="347760"/>
          </a:xfrm>
          <a:custGeom>
            <a:avLst/>
            <a:gdLst/>
            <a:ahLst/>
            <a:rect l="l" t="t" r="r" b="b"/>
            <a:pathLst>
              <a:path w="2209" h="969">
                <a:moveTo>
                  <a:pt x="12626" y="13915"/>
                </a:moveTo>
                <a:cubicBezTo>
                  <a:pt x="12463" y="13997"/>
                  <a:pt x="12299" y="14053"/>
                  <a:pt x="12129" y="14114"/>
                </a:cubicBezTo>
                <a:cubicBezTo>
                  <a:pt x="11947" y="14179"/>
                  <a:pt x="11785" y="14266"/>
                  <a:pt x="11609" y="14337"/>
                </a:cubicBezTo>
                <a:cubicBezTo>
                  <a:pt x="11424" y="14411"/>
                  <a:pt x="11232" y="14452"/>
                  <a:pt x="11063" y="14560"/>
                </a:cubicBezTo>
                <a:cubicBezTo>
                  <a:pt x="10936" y="14641"/>
                  <a:pt x="10780" y="14721"/>
                  <a:pt x="10641" y="14784"/>
                </a:cubicBezTo>
                <a:cubicBezTo>
                  <a:pt x="10552" y="14824"/>
                  <a:pt x="10495" y="14842"/>
                  <a:pt x="10418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1"/>
          <p:cNvSpPr/>
          <p:nvPr/>
        </p:nvSpPr>
        <p:spPr>
          <a:xfrm>
            <a:off x="3963960" y="5589720"/>
            <a:ext cx="1206360" cy="1046160"/>
          </a:xfrm>
          <a:custGeom>
            <a:avLst/>
            <a:gdLst/>
            <a:ahLst/>
            <a:rect l="l" t="t" r="r" b="b"/>
            <a:pathLst>
              <a:path w="3350" h="2903">
                <a:moveTo>
                  <a:pt x="12650" y="15528"/>
                </a:moveTo>
                <a:cubicBezTo>
                  <a:pt x="12466" y="15594"/>
                  <a:pt x="12277" y="15657"/>
                  <a:pt x="12105" y="15751"/>
                </a:cubicBezTo>
                <a:cubicBezTo>
                  <a:pt x="11942" y="15840"/>
                  <a:pt x="11783" y="15940"/>
                  <a:pt x="11633" y="16049"/>
                </a:cubicBezTo>
                <a:cubicBezTo>
                  <a:pt x="11497" y="16148"/>
                  <a:pt x="11332" y="16214"/>
                  <a:pt x="11212" y="16321"/>
                </a:cubicBezTo>
                <a:cubicBezTo>
                  <a:pt x="11141" y="16385"/>
                  <a:pt x="11073" y="16495"/>
                  <a:pt x="11013" y="16570"/>
                </a:cubicBezTo>
              </a:path>
              <a:path w="3350" h="2903">
                <a:moveTo>
                  <a:pt x="11435" y="16842"/>
                </a:moveTo>
                <a:cubicBezTo>
                  <a:pt x="11475" y="16995"/>
                  <a:pt x="11542" y="17136"/>
                  <a:pt x="11584" y="17289"/>
                </a:cubicBezTo>
                <a:cubicBezTo>
                  <a:pt x="11633" y="17466"/>
                  <a:pt x="11668" y="17647"/>
                  <a:pt x="11757" y="17810"/>
                </a:cubicBezTo>
                <a:cubicBezTo>
                  <a:pt x="11774" y="17835"/>
                  <a:pt x="11790" y="17859"/>
                  <a:pt x="11807" y="17884"/>
                </a:cubicBezTo>
              </a:path>
              <a:path w="3350" h="2903">
                <a:moveTo>
                  <a:pt x="12030" y="16991"/>
                </a:moveTo>
                <a:cubicBezTo>
                  <a:pt x="11850" y="17105"/>
                  <a:pt x="11742" y="17187"/>
                  <a:pt x="11609" y="17338"/>
                </a:cubicBezTo>
                <a:cubicBezTo>
                  <a:pt x="11505" y="17456"/>
                  <a:pt x="11432" y="17587"/>
                  <a:pt x="11336" y="17711"/>
                </a:cubicBezTo>
                <a:cubicBezTo>
                  <a:pt x="11248" y="17816"/>
                  <a:pt x="11263" y="17865"/>
                  <a:pt x="11187" y="17859"/>
                </a:cubicBezTo>
              </a:path>
              <a:path w="3350" h="2903">
                <a:moveTo>
                  <a:pt x="12129" y="17289"/>
                </a:moveTo>
                <a:cubicBezTo>
                  <a:pt x="12312" y="17309"/>
                  <a:pt x="12347" y="17328"/>
                  <a:pt x="12452" y="17289"/>
                </a:cubicBezTo>
              </a:path>
              <a:path w="3350" h="2903">
                <a:moveTo>
                  <a:pt x="12204" y="17487"/>
                </a:moveTo>
                <a:cubicBezTo>
                  <a:pt x="12285" y="17568"/>
                  <a:pt x="12333" y="17638"/>
                  <a:pt x="12427" y="17686"/>
                </a:cubicBezTo>
              </a:path>
              <a:path w="3350" h="2903">
                <a:moveTo>
                  <a:pt x="12874" y="17190"/>
                </a:moveTo>
                <a:cubicBezTo>
                  <a:pt x="12874" y="17392"/>
                  <a:pt x="12868" y="17587"/>
                  <a:pt x="12849" y="17785"/>
                </a:cubicBezTo>
                <a:cubicBezTo>
                  <a:pt x="12838" y="17900"/>
                  <a:pt x="12834" y="18020"/>
                  <a:pt x="12824" y="18132"/>
                </a:cubicBezTo>
                <a:cubicBezTo>
                  <a:pt x="12816" y="18215"/>
                  <a:pt x="12806" y="18274"/>
                  <a:pt x="12799" y="18355"/>
                </a:cubicBezTo>
              </a:path>
              <a:path w="3350" h="2903">
                <a:moveTo>
                  <a:pt x="13370" y="17338"/>
                </a:moveTo>
                <a:cubicBezTo>
                  <a:pt x="13344" y="17275"/>
                  <a:pt x="13324" y="17208"/>
                  <a:pt x="13246" y="17190"/>
                </a:cubicBezTo>
                <a:cubicBezTo>
                  <a:pt x="13167" y="17172"/>
                  <a:pt x="13129" y="17252"/>
                  <a:pt x="13122" y="17314"/>
                </a:cubicBezTo>
                <a:cubicBezTo>
                  <a:pt x="13112" y="17408"/>
                  <a:pt x="13124" y="17497"/>
                  <a:pt x="13146" y="17587"/>
                </a:cubicBezTo>
                <a:cubicBezTo>
                  <a:pt x="13174" y="17700"/>
                  <a:pt x="13192" y="17825"/>
                  <a:pt x="13221" y="17934"/>
                </a:cubicBezTo>
                <a:cubicBezTo>
                  <a:pt x="13244" y="18020"/>
                  <a:pt x="13267" y="18138"/>
                  <a:pt x="13246" y="18231"/>
                </a:cubicBezTo>
                <a:cubicBezTo>
                  <a:pt x="13238" y="18239"/>
                  <a:pt x="13229" y="18248"/>
                  <a:pt x="13221" y="18256"/>
                </a:cubicBezTo>
                <a:cubicBezTo>
                  <a:pt x="13144" y="18212"/>
                  <a:pt x="13143" y="18210"/>
                  <a:pt x="13122" y="18132"/>
                </a:cubicBezTo>
                <a:cubicBezTo>
                  <a:pt x="13090" y="18016"/>
                  <a:pt x="13104" y="17949"/>
                  <a:pt x="13146" y="17835"/>
                </a:cubicBezTo>
                <a:cubicBezTo>
                  <a:pt x="13175" y="17758"/>
                  <a:pt x="13224" y="17719"/>
                  <a:pt x="13271" y="17661"/>
                </a:cubicBezTo>
                <a:cubicBezTo>
                  <a:pt x="13318" y="17603"/>
                  <a:pt x="13366" y="17557"/>
                  <a:pt x="13419" y="17512"/>
                </a:cubicBezTo>
                <a:cubicBezTo>
                  <a:pt x="13454" y="17482"/>
                  <a:pt x="13486" y="17446"/>
                  <a:pt x="13519" y="17413"/>
                </a:cubicBezTo>
              </a:path>
              <a:path w="3350" h="2903">
                <a:moveTo>
                  <a:pt x="13494" y="18256"/>
                </a:moveTo>
                <a:cubicBezTo>
                  <a:pt x="13494" y="18205"/>
                  <a:pt x="13495" y="18186"/>
                  <a:pt x="13519" y="18157"/>
                </a:cubicBezTo>
              </a:path>
              <a:path w="3350" h="2903">
                <a:moveTo>
                  <a:pt x="13965" y="17661"/>
                </a:moveTo>
                <a:cubicBezTo>
                  <a:pt x="14034" y="17543"/>
                  <a:pt x="14093" y="17492"/>
                  <a:pt x="14039" y="17363"/>
                </a:cubicBezTo>
                <a:cubicBezTo>
                  <a:pt x="14008" y="17288"/>
                  <a:pt x="13948" y="17304"/>
                  <a:pt x="13891" y="17338"/>
                </a:cubicBezTo>
                <a:cubicBezTo>
                  <a:pt x="13903" y="17480"/>
                  <a:pt x="13930" y="17621"/>
                  <a:pt x="13965" y="17760"/>
                </a:cubicBezTo>
                <a:cubicBezTo>
                  <a:pt x="13999" y="17895"/>
                  <a:pt x="14035" y="18017"/>
                  <a:pt x="14039" y="18157"/>
                </a:cubicBezTo>
                <a:cubicBezTo>
                  <a:pt x="14041" y="18233"/>
                  <a:pt x="14056" y="18337"/>
                  <a:pt x="14015" y="18405"/>
                </a:cubicBezTo>
                <a:cubicBezTo>
                  <a:pt x="14007" y="18413"/>
                  <a:pt x="13998" y="18422"/>
                  <a:pt x="13990" y="18430"/>
                </a:cubicBezTo>
                <a:cubicBezTo>
                  <a:pt x="13933" y="18365"/>
                  <a:pt x="13895" y="18320"/>
                  <a:pt x="13891" y="18231"/>
                </a:cubicBezTo>
                <a:cubicBezTo>
                  <a:pt x="13888" y="18149"/>
                  <a:pt x="13890" y="18058"/>
                  <a:pt x="13915" y="17983"/>
                </a:cubicBezTo>
                <a:cubicBezTo>
                  <a:pt x="13944" y="17896"/>
                  <a:pt x="13996" y="17905"/>
                  <a:pt x="14039" y="17859"/>
                </a:cubicBezTo>
                <a:cubicBezTo>
                  <a:pt x="14071" y="17824"/>
                  <a:pt x="14090" y="17758"/>
                  <a:pt x="14139" y="17735"/>
                </a:cubicBezTo>
                <a:cubicBezTo>
                  <a:pt x="14187" y="17713"/>
                  <a:pt x="14267" y="17670"/>
                  <a:pt x="14312" y="17661"/>
                </a:cubicBezTo>
                <a:cubicBezTo>
                  <a:pt x="14354" y="17661"/>
                  <a:pt x="14370" y="17669"/>
                  <a:pt x="14362" y="176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2"/>
          <p:cNvSpPr/>
          <p:nvPr/>
        </p:nvSpPr>
        <p:spPr>
          <a:xfrm>
            <a:off x="241200" y="552780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670" y="15354"/>
                </a:moveTo>
                <a:cubicBezTo>
                  <a:pt x="678" y="15354"/>
                  <a:pt x="687" y="15354"/>
                  <a:pt x="695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s 362-363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#21,23,27,29,37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5:07:14Z</dcterms:created>
  <dc:creator>jnewman</dc:creator>
  <dc:description/>
  <dc:language>en-US</dc:language>
  <cp:lastModifiedBy>abeason</cp:lastModifiedBy>
  <dcterms:modified xsi:type="dcterms:W3CDTF">2009-11-04T15:16:31Z</dcterms:modified>
  <cp:revision>9</cp:revision>
  <dc:subject/>
  <dc:title>Lesson 4.8 part two</dc:title>
</cp:coreProperties>
</file>